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2A00-2374-4F4D-8F6E-E0D611E1D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9EC5-53DB-448F-AA1C-4C2E3C6E6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DF99-A757-4EE7-A922-67DF47C9E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0233-F7C3-46DB-91C3-418AC0074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5D4C6-1A11-4015-9630-6D01F5D44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D3CBF-5AA2-4E4B-8109-BCD55C570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9B965-7875-440E-A925-6E7BDD8E8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581B8-C3D7-4E4B-9AB1-9659708A0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607F4-1152-461A-860F-FADDDECBF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8E612-8191-4327-B31B-704E47058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7D09C-7F88-40E5-B3DA-EE1F08CF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5DC2-8883-4788-B4DF-7EECA9E3B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18748-4562-4CE8-AC83-0AC95F6C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E88E1-7E1B-4118-B033-D6DA5401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B4E13-A3B8-438F-A333-B6D208018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D0170-F96A-4A2D-B142-A9B585DA4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17A54-F6BC-49C5-A22B-25511F881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537E-4460-4502-877F-CC12B926D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9467-C451-4E23-A11E-19ADC15B9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E128-60DA-431C-8FF2-5D1A1A63C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0FE2-139A-4165-BF75-5E2E6EA31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887D-7260-46C8-8684-9F8C51D5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AD87-886C-4C13-ABB0-E205B95B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3144-9802-462B-8E30-9518740F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8a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d79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56BE8-3836-487D-A164-E71C9B05E4E1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ad79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8a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dad79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64F8A-EBC6-4ACB-AB7E-70C9F0881CFE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dad79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9900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920" y="228240"/>
            <a:ext cx="85341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ccff"/>
                </a:solidFill>
                <a:latin typeface="Verdana"/>
              </a:rPr>
              <a:t>Warm-up:  Round the following whole numbers to the underlined place value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.)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4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.) 8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,903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3.) 1,9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8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4.)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46,897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99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5830920" y="2670120"/>
            <a:ext cx="206280" cy="9720"/>
          </a:xfrm>
          <a:custGeom>
            <a:avLst/>
            <a:gdLst/>
            <a:ahLst/>
            <a:rect l="l" t="t" r="r" b="b"/>
            <a:pathLst>
              <a:path w="572" h="25">
                <a:moveTo>
                  <a:pt x="16197" y="7417"/>
                </a:moveTo>
                <a:cubicBezTo>
                  <a:pt x="16387" y="7417"/>
                  <a:pt x="16578" y="7417"/>
                  <a:pt x="16768" y="7417"/>
                </a:cubicBezTo>
                <a:cubicBezTo>
                  <a:pt x="16627" y="7417"/>
                  <a:pt x="16487" y="7417"/>
                  <a:pt x="16346" y="7417"/>
                </a:cubicBezTo>
                <a:cubicBezTo>
                  <a:pt x="16422" y="7417"/>
                  <a:pt x="16493" y="7438"/>
                  <a:pt x="16570" y="7441"/>
                </a:cubicBezTo>
                <a:cubicBezTo>
                  <a:pt x="16603" y="7442"/>
                  <a:pt x="16636" y="7441"/>
                  <a:pt x="16669" y="744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902200" y="2160720"/>
            <a:ext cx="250920" cy="152280"/>
          </a:xfrm>
          <a:custGeom>
            <a:avLst/>
            <a:gdLst/>
            <a:ahLst/>
            <a:rect l="l" t="t" r="r" b="b"/>
            <a:pathLst>
              <a:path w="695" h="422">
                <a:moveTo>
                  <a:pt x="16421" y="6276"/>
                </a:moveTo>
                <a:cubicBezTo>
                  <a:pt x="16413" y="6284"/>
                  <a:pt x="16404" y="6292"/>
                  <a:pt x="16396" y="6300"/>
                </a:cubicBezTo>
                <a:cubicBezTo>
                  <a:pt x="16396" y="6236"/>
                  <a:pt x="16378" y="6150"/>
                  <a:pt x="16421" y="6102"/>
                </a:cubicBezTo>
                <a:cubicBezTo>
                  <a:pt x="16453" y="6065"/>
                  <a:pt x="16521" y="6022"/>
                  <a:pt x="16570" y="6003"/>
                </a:cubicBezTo>
                <a:cubicBezTo>
                  <a:pt x="16637" y="5977"/>
                  <a:pt x="16810" y="5991"/>
                  <a:pt x="16867" y="6028"/>
                </a:cubicBezTo>
                <a:cubicBezTo>
                  <a:pt x="16911" y="6057"/>
                  <a:pt x="16917" y="6048"/>
                  <a:pt x="16917" y="6102"/>
                </a:cubicBezTo>
                <a:cubicBezTo>
                  <a:pt x="16917" y="6153"/>
                  <a:pt x="16927" y="6142"/>
                  <a:pt x="16942" y="6176"/>
                </a:cubicBezTo>
                <a:cubicBezTo>
                  <a:pt x="16960" y="6215"/>
                  <a:pt x="16987" y="6262"/>
                  <a:pt x="16991" y="6300"/>
                </a:cubicBezTo>
                <a:cubicBezTo>
                  <a:pt x="16997" y="6352"/>
                  <a:pt x="17011" y="6337"/>
                  <a:pt x="17016" y="6375"/>
                </a:cubicBezTo>
                <a:cubicBezTo>
                  <a:pt x="17019" y="6401"/>
                  <a:pt x="17063" y="6431"/>
                  <a:pt x="17041" y="6400"/>
                </a:cubicBezTo>
                <a:cubicBezTo>
                  <a:pt x="17014" y="6362"/>
                  <a:pt x="16933" y="6322"/>
                  <a:pt x="16917" y="6300"/>
                </a:cubicBezTo>
                <a:cubicBezTo>
                  <a:pt x="16917" y="6292"/>
                  <a:pt x="16917" y="6284"/>
                  <a:pt x="16917" y="6276"/>
                </a:cubicBezTo>
                <a:cubicBezTo>
                  <a:pt x="16945" y="6313"/>
                  <a:pt x="16967" y="6355"/>
                  <a:pt x="17016" y="6375"/>
                </a:cubicBezTo>
                <a:cubicBezTo>
                  <a:pt x="17078" y="6400"/>
                  <a:pt x="17066" y="6402"/>
                  <a:pt x="17066" y="6325"/>
                </a:cubicBezTo>
                <a:cubicBezTo>
                  <a:pt x="17066" y="6309"/>
                  <a:pt x="17066" y="6292"/>
                  <a:pt x="17066" y="6276"/>
                </a:cubicBezTo>
                <a:cubicBezTo>
                  <a:pt x="17074" y="6276"/>
                  <a:pt x="17082" y="6276"/>
                  <a:pt x="17090" y="6276"/>
                </a:cubicBezTo>
                <a:cubicBezTo>
                  <a:pt x="17058" y="6314"/>
                  <a:pt x="17039" y="6370"/>
                  <a:pt x="16991" y="6375"/>
                </a:cubicBezTo>
                <a:cubicBezTo>
                  <a:pt x="16942" y="6380"/>
                  <a:pt x="16968" y="6358"/>
                  <a:pt x="16991" y="635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616720" y="2874960"/>
            <a:ext cx="1170000" cy="241200"/>
          </a:xfrm>
          <a:custGeom>
            <a:avLst/>
            <a:gdLst/>
            <a:ahLst/>
            <a:rect l="l" t="t" r="r" b="b"/>
            <a:pathLst>
              <a:path w="3251" h="671">
                <a:moveTo>
                  <a:pt x="16247" y="8037"/>
                </a:moveTo>
                <a:cubicBezTo>
                  <a:pt x="16239" y="8037"/>
                  <a:pt x="16230" y="8037"/>
                  <a:pt x="16222" y="8037"/>
                </a:cubicBezTo>
                <a:cubicBezTo>
                  <a:pt x="16278" y="8018"/>
                  <a:pt x="16260" y="8002"/>
                  <a:pt x="16371" y="7987"/>
                </a:cubicBezTo>
                <a:cubicBezTo>
                  <a:pt x="16444" y="7977"/>
                  <a:pt x="16526" y="7959"/>
                  <a:pt x="16545" y="8037"/>
                </a:cubicBezTo>
                <a:cubicBezTo>
                  <a:pt x="16530" y="8155"/>
                  <a:pt x="16487" y="8112"/>
                  <a:pt x="16421" y="8186"/>
                </a:cubicBezTo>
                <a:cubicBezTo>
                  <a:pt x="16421" y="8219"/>
                  <a:pt x="16412" y="8227"/>
                  <a:pt x="16371" y="8210"/>
                </a:cubicBezTo>
                <a:cubicBezTo>
                  <a:pt x="16299" y="8187"/>
                  <a:pt x="16413" y="8167"/>
                  <a:pt x="16446" y="8161"/>
                </a:cubicBezTo>
                <a:cubicBezTo>
                  <a:pt x="16534" y="8146"/>
                  <a:pt x="16625" y="8204"/>
                  <a:pt x="16644" y="8285"/>
                </a:cubicBezTo>
                <a:cubicBezTo>
                  <a:pt x="16671" y="8397"/>
                  <a:pt x="16557" y="8422"/>
                  <a:pt x="16470" y="8434"/>
                </a:cubicBezTo>
                <a:cubicBezTo>
                  <a:pt x="16421" y="8441"/>
                  <a:pt x="16334" y="8448"/>
                  <a:pt x="16321" y="8409"/>
                </a:cubicBezTo>
              </a:path>
              <a:path w="3251" h="671">
                <a:moveTo>
                  <a:pt x="15825" y="8086"/>
                </a:moveTo>
                <a:cubicBezTo>
                  <a:pt x="15833" y="8094"/>
                  <a:pt x="15842" y="8103"/>
                  <a:pt x="15850" y="8111"/>
                </a:cubicBezTo>
                <a:cubicBezTo>
                  <a:pt x="15919" y="8021"/>
                  <a:pt x="15803" y="8040"/>
                  <a:pt x="15726" y="8037"/>
                </a:cubicBezTo>
                <a:cubicBezTo>
                  <a:pt x="15635" y="8034"/>
                  <a:pt x="15660" y="8044"/>
                  <a:pt x="15602" y="8111"/>
                </a:cubicBezTo>
                <a:cubicBezTo>
                  <a:pt x="15623" y="8216"/>
                  <a:pt x="15698" y="8240"/>
                  <a:pt x="15776" y="8310"/>
                </a:cubicBezTo>
                <a:cubicBezTo>
                  <a:pt x="15842" y="8376"/>
                  <a:pt x="15859" y="8393"/>
                  <a:pt x="15900" y="8434"/>
                </a:cubicBezTo>
                <a:cubicBezTo>
                  <a:pt x="15862" y="8521"/>
                  <a:pt x="15782" y="8549"/>
                  <a:pt x="15677" y="8508"/>
                </a:cubicBezTo>
                <a:cubicBezTo>
                  <a:pt x="15638" y="8469"/>
                  <a:pt x="15621" y="8468"/>
                  <a:pt x="15627" y="8434"/>
                </a:cubicBezTo>
                <a:cubicBezTo>
                  <a:pt x="15670" y="8327"/>
                  <a:pt x="15741" y="8265"/>
                  <a:pt x="15850" y="8210"/>
                </a:cubicBezTo>
                <a:cubicBezTo>
                  <a:pt x="15875" y="8197"/>
                  <a:pt x="15954" y="8142"/>
                  <a:pt x="15900" y="8111"/>
                </a:cubicBezTo>
                <a:cubicBezTo>
                  <a:pt x="15867" y="8111"/>
                  <a:pt x="15850" y="8111"/>
                  <a:pt x="15825" y="8111"/>
                </a:cubicBezTo>
              </a:path>
              <a:path w="3251" h="671">
                <a:moveTo>
                  <a:pt x="16867" y="8483"/>
                </a:moveTo>
                <a:cubicBezTo>
                  <a:pt x="16867" y="8475"/>
                  <a:pt x="16867" y="8466"/>
                  <a:pt x="16867" y="8458"/>
                </a:cubicBezTo>
                <a:cubicBezTo>
                  <a:pt x="16922" y="8513"/>
                  <a:pt x="16876" y="8568"/>
                  <a:pt x="16818" y="8632"/>
                </a:cubicBezTo>
                <a:cubicBezTo>
                  <a:pt x="16788" y="8662"/>
                  <a:pt x="16786" y="8667"/>
                  <a:pt x="16842" y="8632"/>
                </a:cubicBezTo>
              </a:path>
              <a:path w="3251" h="671">
                <a:moveTo>
                  <a:pt x="17487" y="8111"/>
                </a:moveTo>
                <a:cubicBezTo>
                  <a:pt x="17480" y="8089"/>
                  <a:pt x="17402" y="8036"/>
                  <a:pt x="17363" y="8037"/>
                </a:cubicBezTo>
                <a:cubicBezTo>
                  <a:pt x="17247" y="8041"/>
                  <a:pt x="17076" y="8204"/>
                  <a:pt x="17140" y="8334"/>
                </a:cubicBezTo>
                <a:cubicBezTo>
                  <a:pt x="17205" y="8464"/>
                  <a:pt x="17428" y="8409"/>
                  <a:pt x="17487" y="8310"/>
                </a:cubicBezTo>
                <a:cubicBezTo>
                  <a:pt x="17561" y="8186"/>
                  <a:pt x="17481" y="8133"/>
                  <a:pt x="17388" y="8086"/>
                </a:cubicBezTo>
              </a:path>
              <a:path w="3251" h="671">
                <a:moveTo>
                  <a:pt x="18083" y="8037"/>
                </a:moveTo>
                <a:cubicBezTo>
                  <a:pt x="17962" y="8052"/>
                  <a:pt x="17767" y="8097"/>
                  <a:pt x="17711" y="8235"/>
                </a:cubicBezTo>
                <a:cubicBezTo>
                  <a:pt x="17711" y="8268"/>
                  <a:pt x="17711" y="8301"/>
                  <a:pt x="17711" y="8334"/>
                </a:cubicBezTo>
                <a:cubicBezTo>
                  <a:pt x="17812" y="8437"/>
                  <a:pt x="17967" y="8492"/>
                  <a:pt x="18083" y="8334"/>
                </a:cubicBezTo>
                <a:cubicBezTo>
                  <a:pt x="18183" y="8197"/>
                  <a:pt x="18064" y="8149"/>
                  <a:pt x="17983" y="8111"/>
                </a:cubicBezTo>
                <a:cubicBezTo>
                  <a:pt x="17975" y="8103"/>
                  <a:pt x="17967" y="8094"/>
                  <a:pt x="17959" y="8086"/>
                </a:cubicBezTo>
              </a:path>
              <a:path w="3251" h="671">
                <a:moveTo>
                  <a:pt x="18653" y="8037"/>
                </a:moveTo>
                <a:cubicBezTo>
                  <a:pt x="18532" y="8037"/>
                  <a:pt x="18448" y="8046"/>
                  <a:pt x="18355" y="8136"/>
                </a:cubicBezTo>
                <a:cubicBezTo>
                  <a:pt x="18199" y="8287"/>
                  <a:pt x="18320" y="8464"/>
                  <a:pt x="18529" y="8434"/>
                </a:cubicBezTo>
                <a:cubicBezTo>
                  <a:pt x="18686" y="8411"/>
                  <a:pt x="19005" y="8221"/>
                  <a:pt x="18802" y="8037"/>
                </a:cubicBezTo>
                <a:cubicBezTo>
                  <a:pt x="18745" y="7985"/>
                  <a:pt x="18663" y="7999"/>
                  <a:pt x="18604" y="801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58960" y="4759200"/>
            <a:ext cx="546120" cy="482760"/>
          </a:xfrm>
          <a:custGeom>
            <a:avLst/>
            <a:gdLst/>
            <a:ahLst/>
            <a:rect l="l" t="t" r="r" b="b"/>
            <a:pathLst>
              <a:path w="1514" h="1340">
                <a:moveTo>
                  <a:pt x="5978" y="13271"/>
                </a:moveTo>
                <a:cubicBezTo>
                  <a:pt x="6063" y="13271"/>
                  <a:pt x="6170" y="13276"/>
                  <a:pt x="6251" y="13295"/>
                </a:cubicBezTo>
                <a:cubicBezTo>
                  <a:pt x="6301" y="13307"/>
                  <a:pt x="6302" y="13320"/>
                  <a:pt x="6350" y="13320"/>
                </a:cubicBezTo>
                <a:cubicBezTo>
                  <a:pt x="6266" y="13308"/>
                  <a:pt x="6159" y="13312"/>
                  <a:pt x="6077" y="13295"/>
                </a:cubicBezTo>
                <a:cubicBezTo>
                  <a:pt x="6059" y="13291"/>
                  <a:pt x="5917" y="13271"/>
                  <a:pt x="5978" y="13271"/>
                </a:cubicBezTo>
                <a:cubicBezTo>
                  <a:pt x="6027" y="13271"/>
                  <a:pt x="6293" y="13246"/>
                  <a:pt x="6251" y="13246"/>
                </a:cubicBezTo>
                <a:cubicBezTo>
                  <a:pt x="6135" y="13246"/>
                  <a:pt x="6086" y="13246"/>
                  <a:pt x="6003" y="13246"/>
                </a:cubicBezTo>
                <a:cubicBezTo>
                  <a:pt x="5938" y="13246"/>
                  <a:pt x="5908" y="13265"/>
                  <a:pt x="5978" y="13271"/>
                </a:cubicBezTo>
                <a:cubicBezTo>
                  <a:pt x="6042" y="13277"/>
                  <a:pt x="6441" y="13246"/>
                  <a:pt x="6325" y="13246"/>
                </a:cubicBezTo>
                <a:cubicBezTo>
                  <a:pt x="6218" y="13246"/>
                  <a:pt x="6110" y="13246"/>
                  <a:pt x="6003" y="13246"/>
                </a:cubicBezTo>
                <a:cubicBezTo>
                  <a:pt x="5847" y="13246"/>
                  <a:pt x="6199" y="13246"/>
                  <a:pt x="6201" y="13246"/>
                </a:cubicBezTo>
                <a:cubicBezTo>
                  <a:pt x="6322" y="13225"/>
                  <a:pt x="6044" y="13218"/>
                  <a:pt x="5978" y="13246"/>
                </a:cubicBezTo>
                <a:cubicBezTo>
                  <a:pt x="6011" y="13246"/>
                  <a:pt x="6027" y="13246"/>
                  <a:pt x="6052" y="13246"/>
                </a:cubicBezTo>
              </a:path>
              <a:path w="1514" h="1340">
                <a:moveTo>
                  <a:pt x="5904" y="13320"/>
                </a:moveTo>
                <a:cubicBezTo>
                  <a:pt x="5891" y="13360"/>
                  <a:pt x="5885" y="13345"/>
                  <a:pt x="5829" y="13345"/>
                </a:cubicBezTo>
                <a:cubicBezTo>
                  <a:pt x="5740" y="13315"/>
                  <a:pt x="5894" y="13320"/>
                  <a:pt x="5928" y="13320"/>
                </a:cubicBezTo>
                <a:cubicBezTo>
                  <a:pt x="5936" y="13320"/>
                  <a:pt x="6020" y="13320"/>
                  <a:pt x="5953" y="13320"/>
                </a:cubicBezTo>
                <a:cubicBezTo>
                  <a:pt x="5910" y="13302"/>
                  <a:pt x="6020" y="13340"/>
                  <a:pt x="5978" y="13320"/>
                </a:cubicBezTo>
                <a:cubicBezTo>
                  <a:pt x="5853" y="13262"/>
                  <a:pt x="5960" y="13295"/>
                  <a:pt x="6052" y="13295"/>
                </a:cubicBezTo>
                <a:cubicBezTo>
                  <a:pt x="6044" y="13295"/>
                  <a:pt x="6036" y="13295"/>
                  <a:pt x="6028" y="13295"/>
                </a:cubicBezTo>
                <a:cubicBezTo>
                  <a:pt x="5948" y="13262"/>
                  <a:pt x="5939" y="13271"/>
                  <a:pt x="6028" y="13271"/>
                </a:cubicBezTo>
              </a:path>
              <a:path w="1514" h="1340">
                <a:moveTo>
                  <a:pt x="6127" y="13271"/>
                </a:moveTo>
                <a:cubicBezTo>
                  <a:pt x="6069" y="13271"/>
                  <a:pt x="6011" y="13271"/>
                  <a:pt x="5953" y="13271"/>
                </a:cubicBezTo>
              </a:path>
              <a:path w="1514" h="1340">
                <a:moveTo>
                  <a:pt x="6052" y="13667"/>
                </a:moveTo>
                <a:cubicBezTo>
                  <a:pt x="5995" y="13667"/>
                  <a:pt x="6119" y="13667"/>
                  <a:pt x="6176" y="13667"/>
                </a:cubicBezTo>
                <a:cubicBezTo>
                  <a:pt x="6248" y="13667"/>
                  <a:pt x="6305" y="13692"/>
                  <a:pt x="6375" y="13692"/>
                </a:cubicBezTo>
                <a:cubicBezTo>
                  <a:pt x="6383" y="13692"/>
                  <a:pt x="6392" y="13692"/>
                  <a:pt x="6400" y="13692"/>
                </a:cubicBezTo>
                <a:cubicBezTo>
                  <a:pt x="6358" y="13796"/>
                  <a:pt x="6328" y="13905"/>
                  <a:pt x="6300" y="14015"/>
                </a:cubicBezTo>
                <a:cubicBezTo>
                  <a:pt x="6281" y="14092"/>
                  <a:pt x="6242" y="14165"/>
                  <a:pt x="6226" y="14213"/>
                </a:cubicBezTo>
              </a:path>
              <a:path w="1514" h="1340">
                <a:moveTo>
                  <a:pt x="5730" y="13791"/>
                </a:moveTo>
                <a:cubicBezTo>
                  <a:pt x="5803" y="13768"/>
                  <a:pt x="5695" y="13710"/>
                  <a:pt x="5655" y="13692"/>
                </a:cubicBezTo>
                <a:cubicBezTo>
                  <a:pt x="5622" y="13677"/>
                  <a:pt x="5496" y="13641"/>
                  <a:pt x="5457" y="13667"/>
                </a:cubicBezTo>
                <a:cubicBezTo>
                  <a:pt x="5381" y="13718"/>
                  <a:pt x="5309" y="13860"/>
                  <a:pt x="5383" y="13940"/>
                </a:cubicBezTo>
                <a:cubicBezTo>
                  <a:pt x="5455" y="14019"/>
                  <a:pt x="5551" y="13976"/>
                  <a:pt x="5631" y="13940"/>
                </a:cubicBezTo>
                <a:cubicBezTo>
                  <a:pt x="5704" y="13907"/>
                  <a:pt x="5739" y="13857"/>
                  <a:pt x="5779" y="13791"/>
                </a:cubicBezTo>
                <a:cubicBezTo>
                  <a:pt x="5801" y="13845"/>
                  <a:pt x="5765" y="14042"/>
                  <a:pt x="5755" y="14114"/>
                </a:cubicBezTo>
                <a:cubicBezTo>
                  <a:pt x="5745" y="14184"/>
                  <a:pt x="5730" y="14221"/>
                  <a:pt x="5730" y="14288"/>
                </a:cubicBezTo>
              </a:path>
              <a:path w="1514" h="1340">
                <a:moveTo>
                  <a:pt x="5234" y="14288"/>
                </a:moveTo>
                <a:cubicBezTo>
                  <a:pt x="5234" y="14393"/>
                  <a:pt x="5247" y="14487"/>
                  <a:pt x="5159" y="14560"/>
                </a:cubicBezTo>
                <a:cubicBezTo>
                  <a:pt x="5151" y="14560"/>
                  <a:pt x="5143" y="14560"/>
                  <a:pt x="5135" y="14560"/>
                </a:cubicBezTo>
              </a:path>
              <a:path w="1514" h="1340">
                <a:moveTo>
                  <a:pt x="4936" y="13692"/>
                </a:moveTo>
                <a:cubicBezTo>
                  <a:pt x="4936" y="13684"/>
                  <a:pt x="4936" y="13675"/>
                  <a:pt x="4936" y="13667"/>
                </a:cubicBezTo>
                <a:cubicBezTo>
                  <a:pt x="4892" y="13682"/>
                  <a:pt x="4889" y="13944"/>
                  <a:pt x="4887" y="13990"/>
                </a:cubicBezTo>
                <a:cubicBezTo>
                  <a:pt x="4882" y="14104"/>
                  <a:pt x="4887" y="14222"/>
                  <a:pt x="4887" y="1433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87720" y="4224240"/>
            <a:ext cx="295200" cy="142920"/>
          </a:xfrm>
          <a:custGeom>
            <a:avLst/>
            <a:gdLst/>
            <a:ahLst/>
            <a:rect l="l" t="t" r="r" b="b"/>
            <a:pathLst>
              <a:path w="820" h="397">
                <a:moveTo>
                  <a:pt x="6077" y="12005"/>
                </a:moveTo>
                <a:cubicBezTo>
                  <a:pt x="6088" y="11938"/>
                  <a:pt x="6134" y="11868"/>
                  <a:pt x="6152" y="11832"/>
                </a:cubicBezTo>
                <a:cubicBezTo>
                  <a:pt x="6178" y="11780"/>
                  <a:pt x="6221" y="11779"/>
                  <a:pt x="6276" y="11757"/>
                </a:cubicBezTo>
                <a:cubicBezTo>
                  <a:pt x="6356" y="11726"/>
                  <a:pt x="6420" y="11722"/>
                  <a:pt x="6499" y="11757"/>
                </a:cubicBezTo>
                <a:cubicBezTo>
                  <a:pt x="6553" y="11781"/>
                  <a:pt x="6616" y="11816"/>
                  <a:pt x="6648" y="11857"/>
                </a:cubicBezTo>
                <a:cubicBezTo>
                  <a:pt x="6666" y="11880"/>
                  <a:pt x="6688" y="11956"/>
                  <a:pt x="6697" y="11981"/>
                </a:cubicBezTo>
                <a:cubicBezTo>
                  <a:pt x="6697" y="11989"/>
                  <a:pt x="6697" y="11997"/>
                  <a:pt x="6697" y="12005"/>
                </a:cubicBezTo>
                <a:cubicBezTo>
                  <a:pt x="6686" y="11961"/>
                  <a:pt x="6667" y="11942"/>
                  <a:pt x="6623" y="11931"/>
                </a:cubicBezTo>
                <a:cubicBezTo>
                  <a:pt x="6629" y="11949"/>
                  <a:pt x="6684" y="11998"/>
                  <a:pt x="6697" y="12005"/>
                </a:cubicBezTo>
                <a:cubicBezTo>
                  <a:pt x="6731" y="12024"/>
                  <a:pt x="6742" y="11929"/>
                  <a:pt x="6747" y="11906"/>
                </a:cubicBezTo>
                <a:cubicBezTo>
                  <a:pt x="6722" y="11957"/>
                  <a:pt x="6652" y="11947"/>
                  <a:pt x="6623" y="11981"/>
                </a:cubicBezTo>
                <a:cubicBezTo>
                  <a:pt x="6623" y="11989"/>
                  <a:pt x="6623" y="11997"/>
                  <a:pt x="6623" y="12005"/>
                </a:cubicBezTo>
                <a:cubicBezTo>
                  <a:pt x="6675" y="11995"/>
                  <a:pt x="6728" y="11985"/>
                  <a:pt x="6747" y="11956"/>
                </a:cubicBezTo>
              </a:path>
              <a:path w="820" h="397">
                <a:moveTo>
                  <a:pt x="6623" y="12105"/>
                </a:moveTo>
                <a:cubicBezTo>
                  <a:pt x="6623" y="12065"/>
                  <a:pt x="6602" y="12004"/>
                  <a:pt x="6672" y="12030"/>
                </a:cubicBezTo>
                <a:cubicBezTo>
                  <a:pt x="6700" y="12040"/>
                  <a:pt x="6739" y="12076"/>
                  <a:pt x="6747" y="12080"/>
                </a:cubicBezTo>
                <a:cubicBezTo>
                  <a:pt x="6777" y="12095"/>
                  <a:pt x="6789" y="12023"/>
                  <a:pt x="6796" y="12005"/>
                </a:cubicBezTo>
                <a:cubicBezTo>
                  <a:pt x="6804" y="11997"/>
                  <a:pt x="6813" y="11989"/>
                  <a:pt x="6821" y="11981"/>
                </a:cubicBezTo>
                <a:cubicBezTo>
                  <a:pt x="6858" y="11981"/>
                  <a:pt x="6796" y="12038"/>
                  <a:pt x="6772" y="12055"/>
                </a:cubicBezTo>
                <a:cubicBezTo>
                  <a:pt x="6759" y="12064"/>
                  <a:pt x="6728" y="12097"/>
                  <a:pt x="6697" y="12080"/>
                </a:cubicBezTo>
                <a:cubicBezTo>
                  <a:pt x="6661" y="12060"/>
                  <a:pt x="6633" y="12059"/>
                  <a:pt x="6623" y="12030"/>
                </a:cubicBezTo>
                <a:cubicBezTo>
                  <a:pt x="6652" y="12059"/>
                  <a:pt x="6686" y="12093"/>
                  <a:pt x="6722" y="12105"/>
                </a:cubicBezTo>
                <a:cubicBezTo>
                  <a:pt x="6722" y="12105"/>
                  <a:pt x="6818" y="12009"/>
                  <a:pt x="6821" y="12005"/>
                </a:cubicBezTo>
                <a:cubicBezTo>
                  <a:pt x="6821" y="11997"/>
                  <a:pt x="6821" y="11989"/>
                  <a:pt x="6821" y="11981"/>
                </a:cubicBezTo>
                <a:cubicBezTo>
                  <a:pt x="6815" y="11993"/>
                  <a:pt x="6758" y="12073"/>
                  <a:pt x="6747" y="12080"/>
                </a:cubicBezTo>
                <a:cubicBezTo>
                  <a:pt x="6683" y="12123"/>
                  <a:pt x="6719" y="12079"/>
                  <a:pt x="6672" y="12055"/>
                </a:cubicBezTo>
                <a:cubicBezTo>
                  <a:pt x="6610" y="12023"/>
                  <a:pt x="6666" y="12066"/>
                  <a:pt x="6697" y="12080"/>
                </a:cubicBezTo>
                <a:cubicBezTo>
                  <a:pt x="6734" y="12096"/>
                  <a:pt x="6783" y="12120"/>
                  <a:pt x="6821" y="12129"/>
                </a:cubicBezTo>
                <a:cubicBezTo>
                  <a:pt x="6752" y="12116"/>
                  <a:pt x="6693" y="12073"/>
                  <a:pt x="6623" y="12055"/>
                </a:cubicBezTo>
                <a:cubicBezTo>
                  <a:pt x="6573" y="12042"/>
                  <a:pt x="6573" y="12067"/>
                  <a:pt x="6573" y="12005"/>
                </a:cubicBezTo>
                <a:cubicBezTo>
                  <a:pt x="6474" y="11973"/>
                  <a:pt x="6667" y="12053"/>
                  <a:pt x="6672" y="12055"/>
                </a:cubicBezTo>
                <a:cubicBezTo>
                  <a:pt x="6703" y="12067"/>
                  <a:pt x="6703" y="12096"/>
                  <a:pt x="6722" y="12105"/>
                </a:cubicBezTo>
                <a:cubicBezTo>
                  <a:pt x="6742" y="12115"/>
                  <a:pt x="6856" y="11995"/>
                  <a:pt x="6871" y="11981"/>
                </a:cubicBezTo>
                <a:cubicBezTo>
                  <a:pt x="6894" y="11958"/>
                  <a:pt x="6902" y="11954"/>
                  <a:pt x="6896" y="11931"/>
                </a:cubicBezTo>
                <a:cubicBezTo>
                  <a:pt x="6875" y="11973"/>
                  <a:pt x="6846" y="11981"/>
                  <a:pt x="6796" y="1200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94000" y="4938840"/>
            <a:ext cx="160200" cy="160200"/>
          </a:xfrm>
          <a:custGeom>
            <a:avLst/>
            <a:gdLst/>
            <a:ahLst/>
            <a:rect l="l" t="t" r="r" b="b"/>
            <a:pathLst>
              <a:path w="447" h="447">
                <a:moveTo>
                  <a:pt x="6896" y="13742"/>
                </a:moveTo>
                <a:cubicBezTo>
                  <a:pt x="6887" y="13714"/>
                  <a:pt x="6839" y="13699"/>
                  <a:pt x="6796" y="13717"/>
                </a:cubicBezTo>
                <a:cubicBezTo>
                  <a:pt x="6779" y="13724"/>
                  <a:pt x="6677" y="13852"/>
                  <a:pt x="6672" y="13866"/>
                </a:cubicBezTo>
                <a:cubicBezTo>
                  <a:pt x="6654" y="13918"/>
                  <a:pt x="6648" y="14006"/>
                  <a:pt x="6648" y="14064"/>
                </a:cubicBezTo>
                <a:cubicBezTo>
                  <a:pt x="6648" y="14131"/>
                  <a:pt x="6680" y="14151"/>
                  <a:pt x="6747" y="14163"/>
                </a:cubicBezTo>
                <a:cubicBezTo>
                  <a:pt x="6808" y="14173"/>
                  <a:pt x="6917" y="14172"/>
                  <a:pt x="6970" y="14139"/>
                </a:cubicBezTo>
                <a:cubicBezTo>
                  <a:pt x="7025" y="14105"/>
                  <a:pt x="7090" y="14031"/>
                  <a:pt x="7094" y="13965"/>
                </a:cubicBezTo>
                <a:cubicBezTo>
                  <a:pt x="7096" y="13933"/>
                  <a:pt x="7067" y="13859"/>
                  <a:pt x="7045" y="13841"/>
                </a:cubicBezTo>
                <a:cubicBezTo>
                  <a:pt x="7009" y="13812"/>
                  <a:pt x="6934" y="13749"/>
                  <a:pt x="6896" y="13742"/>
                </a:cubicBezTo>
                <a:cubicBezTo>
                  <a:pt x="6871" y="13742"/>
                  <a:pt x="6863" y="13742"/>
                  <a:pt x="6871" y="1371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680080" y="4224240"/>
            <a:ext cx="258840" cy="115920"/>
          </a:xfrm>
          <a:custGeom>
            <a:avLst/>
            <a:gdLst/>
            <a:ahLst/>
            <a:rect l="l" t="t" r="r" b="b"/>
            <a:pathLst>
              <a:path w="720" h="323">
                <a:moveTo>
                  <a:pt x="15776" y="12055"/>
                </a:moveTo>
                <a:cubicBezTo>
                  <a:pt x="15787" y="12038"/>
                  <a:pt x="15777" y="11941"/>
                  <a:pt x="15801" y="11881"/>
                </a:cubicBezTo>
                <a:cubicBezTo>
                  <a:pt x="15826" y="11817"/>
                  <a:pt x="15910" y="11769"/>
                  <a:pt x="15974" y="11757"/>
                </a:cubicBezTo>
                <a:cubicBezTo>
                  <a:pt x="16061" y="11741"/>
                  <a:pt x="16080" y="11729"/>
                  <a:pt x="16173" y="11757"/>
                </a:cubicBezTo>
                <a:cubicBezTo>
                  <a:pt x="16224" y="11773"/>
                  <a:pt x="16289" y="11807"/>
                  <a:pt x="16321" y="11857"/>
                </a:cubicBezTo>
                <a:cubicBezTo>
                  <a:pt x="16338" y="11883"/>
                  <a:pt x="16366" y="11905"/>
                  <a:pt x="16371" y="11956"/>
                </a:cubicBezTo>
                <a:cubicBezTo>
                  <a:pt x="16378" y="12023"/>
                  <a:pt x="16277" y="11939"/>
                  <a:pt x="16247" y="11931"/>
                </a:cubicBezTo>
                <a:cubicBezTo>
                  <a:pt x="16296" y="11939"/>
                  <a:pt x="16358" y="11956"/>
                  <a:pt x="16396" y="11981"/>
                </a:cubicBezTo>
                <a:cubicBezTo>
                  <a:pt x="16419" y="12003"/>
                  <a:pt x="16424" y="12011"/>
                  <a:pt x="16446" y="12005"/>
                </a:cubicBezTo>
                <a:cubicBezTo>
                  <a:pt x="16455" y="11957"/>
                  <a:pt x="16484" y="11924"/>
                  <a:pt x="16495" y="1188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89720" y="4768920"/>
            <a:ext cx="196560" cy="17280"/>
          </a:xfrm>
          <a:custGeom>
            <a:avLst/>
            <a:gdLst/>
            <a:ahLst/>
            <a:rect l="l" t="t" r="r" b="b"/>
            <a:pathLst>
              <a:path w="546" h="50">
                <a:moveTo>
                  <a:pt x="15652" y="13271"/>
                </a:moveTo>
                <a:cubicBezTo>
                  <a:pt x="15587" y="13271"/>
                  <a:pt x="15816" y="13295"/>
                  <a:pt x="15825" y="13295"/>
                </a:cubicBezTo>
                <a:cubicBezTo>
                  <a:pt x="15881" y="13298"/>
                  <a:pt x="15877" y="13302"/>
                  <a:pt x="15825" y="13295"/>
                </a:cubicBezTo>
                <a:cubicBezTo>
                  <a:pt x="15700" y="13275"/>
                  <a:pt x="15673" y="13274"/>
                  <a:pt x="15602" y="13246"/>
                </a:cubicBezTo>
                <a:cubicBezTo>
                  <a:pt x="15504" y="13246"/>
                  <a:pt x="15535" y="13235"/>
                  <a:pt x="15602" y="13246"/>
                </a:cubicBezTo>
                <a:cubicBezTo>
                  <a:pt x="15730" y="13268"/>
                  <a:pt x="15843" y="13271"/>
                  <a:pt x="15974" y="13271"/>
                </a:cubicBezTo>
                <a:cubicBezTo>
                  <a:pt x="16098" y="13271"/>
                  <a:pt x="16015" y="13271"/>
                  <a:pt x="15925" y="13271"/>
                </a:cubicBezTo>
                <a:cubicBezTo>
                  <a:pt x="15825" y="13271"/>
                  <a:pt x="15676" y="13271"/>
                  <a:pt x="15776" y="13271"/>
                </a:cubicBezTo>
                <a:cubicBezTo>
                  <a:pt x="15925" y="13271"/>
                  <a:pt x="15974" y="13271"/>
                  <a:pt x="16073" y="13271"/>
                </a:cubicBezTo>
                <a:cubicBezTo>
                  <a:pt x="15941" y="13271"/>
                  <a:pt x="15594" y="13271"/>
                  <a:pt x="15726" y="13271"/>
                </a:cubicBezTo>
                <a:cubicBezTo>
                  <a:pt x="15818" y="13271"/>
                  <a:pt x="16091" y="13246"/>
                  <a:pt x="15999" y="13246"/>
                </a:cubicBezTo>
                <a:cubicBezTo>
                  <a:pt x="15974" y="13246"/>
                  <a:pt x="15966" y="13246"/>
                  <a:pt x="15949" y="1324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3080" y="4938840"/>
            <a:ext cx="615960" cy="196560"/>
          </a:xfrm>
          <a:custGeom>
            <a:avLst/>
            <a:gdLst/>
            <a:ahLst/>
            <a:rect l="l" t="t" r="r" b="b"/>
            <a:pathLst>
              <a:path w="1713" h="547">
                <a:moveTo>
                  <a:pt x="16049" y="13742"/>
                </a:moveTo>
                <a:cubicBezTo>
                  <a:pt x="16149" y="13707"/>
                  <a:pt x="15951" y="13767"/>
                  <a:pt x="15949" y="13767"/>
                </a:cubicBezTo>
                <a:cubicBezTo>
                  <a:pt x="15870" y="13774"/>
                  <a:pt x="15781" y="13767"/>
                  <a:pt x="15701" y="13767"/>
                </a:cubicBezTo>
                <a:cubicBezTo>
                  <a:pt x="15701" y="13833"/>
                  <a:pt x="15701" y="13899"/>
                  <a:pt x="15701" y="13965"/>
                </a:cubicBezTo>
                <a:cubicBezTo>
                  <a:pt x="15727" y="13978"/>
                  <a:pt x="15779" y="13979"/>
                  <a:pt x="15825" y="13965"/>
                </a:cubicBezTo>
                <a:cubicBezTo>
                  <a:pt x="15914" y="13939"/>
                  <a:pt x="15936" y="13945"/>
                  <a:pt x="16024" y="13965"/>
                </a:cubicBezTo>
                <a:cubicBezTo>
                  <a:pt x="16042" y="13969"/>
                  <a:pt x="16109" y="14007"/>
                  <a:pt x="16123" y="14039"/>
                </a:cubicBezTo>
                <a:cubicBezTo>
                  <a:pt x="16152" y="14106"/>
                  <a:pt x="16123" y="14160"/>
                  <a:pt x="16073" y="14188"/>
                </a:cubicBezTo>
                <a:cubicBezTo>
                  <a:pt x="15995" y="14232"/>
                  <a:pt x="15959" y="14235"/>
                  <a:pt x="15875" y="14213"/>
                </a:cubicBezTo>
                <a:cubicBezTo>
                  <a:pt x="15818" y="14194"/>
                  <a:pt x="15811" y="14185"/>
                  <a:pt x="15776" y="14188"/>
                </a:cubicBezTo>
              </a:path>
              <a:path w="1713" h="547">
                <a:moveTo>
                  <a:pt x="16743" y="13841"/>
                </a:moveTo>
                <a:cubicBezTo>
                  <a:pt x="16709" y="13795"/>
                  <a:pt x="16582" y="13746"/>
                  <a:pt x="16520" y="13816"/>
                </a:cubicBezTo>
                <a:cubicBezTo>
                  <a:pt x="16456" y="13890"/>
                  <a:pt x="16402" y="14120"/>
                  <a:pt x="16446" y="14213"/>
                </a:cubicBezTo>
                <a:cubicBezTo>
                  <a:pt x="16462" y="14221"/>
                  <a:pt x="16479" y="14230"/>
                  <a:pt x="16495" y="14238"/>
                </a:cubicBezTo>
                <a:cubicBezTo>
                  <a:pt x="16672" y="14213"/>
                  <a:pt x="16734" y="14156"/>
                  <a:pt x="16842" y="14015"/>
                </a:cubicBezTo>
                <a:cubicBezTo>
                  <a:pt x="16787" y="13942"/>
                  <a:pt x="16744" y="13851"/>
                  <a:pt x="16644" y="13841"/>
                </a:cubicBezTo>
                <a:cubicBezTo>
                  <a:pt x="16636" y="13841"/>
                  <a:pt x="16627" y="13841"/>
                  <a:pt x="16619" y="13841"/>
                </a:cubicBezTo>
              </a:path>
              <a:path w="1713" h="547">
                <a:moveTo>
                  <a:pt x="17239" y="13816"/>
                </a:moveTo>
                <a:cubicBezTo>
                  <a:pt x="17162" y="13816"/>
                  <a:pt x="17114" y="13847"/>
                  <a:pt x="17066" y="13915"/>
                </a:cubicBezTo>
                <a:cubicBezTo>
                  <a:pt x="17003" y="14005"/>
                  <a:pt x="16898" y="14174"/>
                  <a:pt x="17041" y="14238"/>
                </a:cubicBezTo>
                <a:cubicBezTo>
                  <a:pt x="17161" y="14291"/>
                  <a:pt x="17392" y="14209"/>
                  <a:pt x="17413" y="14064"/>
                </a:cubicBezTo>
                <a:cubicBezTo>
                  <a:pt x="17430" y="13947"/>
                  <a:pt x="17338" y="13828"/>
                  <a:pt x="17239" y="13791"/>
                </a:cubicBezTo>
                <a:cubicBezTo>
                  <a:pt x="17190" y="13791"/>
                  <a:pt x="17173" y="13791"/>
                  <a:pt x="17140" y="1379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313320" y="5072040"/>
            <a:ext cx="27000" cy="135000"/>
          </a:xfrm>
          <a:custGeom>
            <a:avLst/>
            <a:gdLst/>
            <a:ahLst/>
            <a:rect l="l" t="t" r="r" b="b"/>
            <a:pathLst>
              <a:path w="75" h="373">
                <a:moveTo>
                  <a:pt x="17537" y="14089"/>
                </a:moveTo>
                <a:cubicBezTo>
                  <a:pt x="17581" y="14199"/>
                  <a:pt x="17622" y="14296"/>
                  <a:pt x="17587" y="14412"/>
                </a:cubicBezTo>
                <a:cubicBezTo>
                  <a:pt x="17579" y="14428"/>
                  <a:pt x="17570" y="14445"/>
                  <a:pt x="17562" y="1446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375240" y="4929120"/>
            <a:ext cx="554040" cy="187560"/>
          </a:xfrm>
          <a:custGeom>
            <a:avLst/>
            <a:gdLst/>
            <a:ahLst/>
            <a:rect l="l" t="t" r="r" b="b"/>
            <a:pathLst>
              <a:path w="1538" h="522">
                <a:moveTo>
                  <a:pt x="17934" y="13841"/>
                </a:moveTo>
                <a:cubicBezTo>
                  <a:pt x="17806" y="13809"/>
                  <a:pt x="17773" y="13894"/>
                  <a:pt x="17735" y="14015"/>
                </a:cubicBezTo>
                <a:cubicBezTo>
                  <a:pt x="17694" y="14146"/>
                  <a:pt x="17780" y="14278"/>
                  <a:pt x="17934" y="14188"/>
                </a:cubicBezTo>
                <a:cubicBezTo>
                  <a:pt x="18112" y="14084"/>
                  <a:pt x="18074" y="13935"/>
                  <a:pt x="17934" y="13841"/>
                </a:cubicBezTo>
                <a:cubicBezTo>
                  <a:pt x="17893" y="13821"/>
                  <a:pt x="17887" y="13812"/>
                  <a:pt x="17859" y="13816"/>
                </a:cubicBezTo>
              </a:path>
              <a:path w="1538" h="522">
                <a:moveTo>
                  <a:pt x="18380" y="13767"/>
                </a:moveTo>
                <a:cubicBezTo>
                  <a:pt x="18362" y="13713"/>
                  <a:pt x="18307" y="13775"/>
                  <a:pt x="18281" y="13816"/>
                </a:cubicBezTo>
                <a:cubicBezTo>
                  <a:pt x="18218" y="13915"/>
                  <a:pt x="18231" y="13977"/>
                  <a:pt x="18231" y="14089"/>
                </a:cubicBezTo>
                <a:cubicBezTo>
                  <a:pt x="18360" y="14143"/>
                  <a:pt x="18540" y="14124"/>
                  <a:pt x="18653" y="13990"/>
                </a:cubicBezTo>
                <a:cubicBezTo>
                  <a:pt x="18747" y="13878"/>
                  <a:pt x="18574" y="13800"/>
                  <a:pt x="18504" y="13767"/>
                </a:cubicBezTo>
                <a:cubicBezTo>
                  <a:pt x="18464" y="13747"/>
                  <a:pt x="18458" y="13738"/>
                  <a:pt x="18430" y="13742"/>
                </a:cubicBezTo>
              </a:path>
              <a:path w="1538" h="522">
                <a:moveTo>
                  <a:pt x="19075" y="13717"/>
                </a:moveTo>
                <a:cubicBezTo>
                  <a:pt x="18958" y="13678"/>
                  <a:pt x="18876" y="13804"/>
                  <a:pt x="18827" y="13915"/>
                </a:cubicBezTo>
                <a:cubicBezTo>
                  <a:pt x="18763" y="14058"/>
                  <a:pt x="18863" y="14126"/>
                  <a:pt x="19000" y="14114"/>
                </a:cubicBezTo>
                <a:cubicBezTo>
                  <a:pt x="19124" y="14103"/>
                  <a:pt x="19254" y="14002"/>
                  <a:pt x="19248" y="13866"/>
                </a:cubicBezTo>
                <a:cubicBezTo>
                  <a:pt x="19245" y="13790"/>
                  <a:pt x="19185" y="13747"/>
                  <a:pt x="19124" y="13742"/>
                </a:cubicBezTo>
                <a:cubicBezTo>
                  <a:pt x="19100" y="13742"/>
                  <a:pt x="19091" y="13742"/>
                  <a:pt x="19075" y="1374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09840" y="2697120"/>
            <a:ext cx="196560" cy="9720"/>
          </a:xfrm>
          <a:custGeom>
            <a:avLst/>
            <a:gdLst/>
            <a:ahLst/>
            <a:rect l="l" t="t" r="r" b="b"/>
            <a:pathLst>
              <a:path w="547" h="26">
                <a:moveTo>
                  <a:pt x="4217" y="7516"/>
                </a:moveTo>
                <a:cubicBezTo>
                  <a:pt x="4200" y="7465"/>
                  <a:pt x="4253" y="7491"/>
                  <a:pt x="4316" y="7491"/>
                </a:cubicBezTo>
                <a:cubicBezTo>
                  <a:pt x="4457" y="7491"/>
                  <a:pt x="4597" y="7491"/>
                  <a:pt x="4738" y="7491"/>
                </a:cubicBezTo>
                <a:cubicBezTo>
                  <a:pt x="4664" y="7528"/>
                  <a:pt x="4578" y="7516"/>
                  <a:pt x="4490" y="7516"/>
                </a:cubicBezTo>
                <a:cubicBezTo>
                  <a:pt x="4424" y="7516"/>
                  <a:pt x="4357" y="7516"/>
                  <a:pt x="4291" y="7516"/>
                </a:cubicBezTo>
                <a:cubicBezTo>
                  <a:pt x="4233" y="7516"/>
                  <a:pt x="4357" y="7516"/>
                  <a:pt x="4415" y="7516"/>
                </a:cubicBezTo>
                <a:cubicBezTo>
                  <a:pt x="4506" y="7516"/>
                  <a:pt x="4597" y="7516"/>
                  <a:pt x="4688" y="751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608120" y="2152800"/>
            <a:ext cx="258840" cy="152280"/>
          </a:xfrm>
          <a:custGeom>
            <a:avLst/>
            <a:gdLst/>
            <a:ahLst/>
            <a:rect l="l" t="t" r="r" b="b"/>
            <a:pathLst>
              <a:path w="720" h="423">
                <a:moveTo>
                  <a:pt x="4465" y="6300"/>
                </a:moveTo>
                <a:cubicBezTo>
                  <a:pt x="4465" y="6245"/>
                  <a:pt x="4462" y="6206"/>
                  <a:pt x="4490" y="6152"/>
                </a:cubicBezTo>
                <a:cubicBezTo>
                  <a:pt x="4514" y="6105"/>
                  <a:pt x="4550" y="6047"/>
                  <a:pt x="4589" y="6028"/>
                </a:cubicBezTo>
                <a:cubicBezTo>
                  <a:pt x="4692" y="5976"/>
                  <a:pt x="4701" y="5987"/>
                  <a:pt x="4812" y="6003"/>
                </a:cubicBezTo>
                <a:cubicBezTo>
                  <a:pt x="4905" y="6016"/>
                  <a:pt x="4837" y="6028"/>
                  <a:pt x="4911" y="6077"/>
                </a:cubicBezTo>
                <a:cubicBezTo>
                  <a:pt x="4963" y="6111"/>
                  <a:pt x="4936" y="6159"/>
                  <a:pt x="4961" y="6226"/>
                </a:cubicBezTo>
                <a:cubicBezTo>
                  <a:pt x="4973" y="6258"/>
                  <a:pt x="4972" y="6321"/>
                  <a:pt x="4986" y="6350"/>
                </a:cubicBezTo>
                <a:cubicBezTo>
                  <a:pt x="5016" y="6409"/>
                  <a:pt x="4930" y="6344"/>
                  <a:pt x="4887" y="6325"/>
                </a:cubicBezTo>
                <a:cubicBezTo>
                  <a:pt x="4905" y="6347"/>
                  <a:pt x="4992" y="6449"/>
                  <a:pt x="5035" y="6400"/>
                </a:cubicBezTo>
                <a:cubicBezTo>
                  <a:pt x="5084" y="6345"/>
                  <a:pt x="5102" y="6299"/>
                  <a:pt x="5159" y="6251"/>
                </a:cubicBezTo>
                <a:cubicBezTo>
                  <a:pt x="5167" y="6243"/>
                  <a:pt x="5176" y="6234"/>
                  <a:pt x="5184" y="6226"/>
                </a:cubicBezTo>
                <a:cubicBezTo>
                  <a:pt x="5148" y="6276"/>
                  <a:pt x="5118" y="6300"/>
                  <a:pt x="5085" y="6325"/>
                </a:cubicBezTo>
                <a:cubicBezTo>
                  <a:pt x="5058" y="6345"/>
                  <a:pt x="5029" y="6399"/>
                  <a:pt x="4986" y="6375"/>
                </a:cubicBezTo>
                <a:cubicBezTo>
                  <a:pt x="4920" y="6338"/>
                  <a:pt x="5071" y="6309"/>
                  <a:pt x="5110" y="630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62040" y="2820960"/>
            <a:ext cx="152640" cy="216000"/>
          </a:xfrm>
          <a:custGeom>
            <a:avLst/>
            <a:gdLst/>
            <a:ahLst/>
            <a:rect l="l" t="t" r="r" b="b"/>
            <a:pathLst>
              <a:path w="422" h="597">
                <a:moveTo>
                  <a:pt x="4390" y="7938"/>
                </a:moveTo>
                <a:cubicBezTo>
                  <a:pt x="4390" y="7877"/>
                  <a:pt x="4426" y="7852"/>
                  <a:pt x="4490" y="7838"/>
                </a:cubicBezTo>
                <a:cubicBezTo>
                  <a:pt x="4539" y="7827"/>
                  <a:pt x="4677" y="7824"/>
                  <a:pt x="4713" y="7863"/>
                </a:cubicBezTo>
                <a:cubicBezTo>
                  <a:pt x="4762" y="7916"/>
                  <a:pt x="4771" y="7987"/>
                  <a:pt x="4713" y="8037"/>
                </a:cubicBezTo>
                <a:cubicBezTo>
                  <a:pt x="4663" y="8080"/>
                  <a:pt x="4601" y="8086"/>
                  <a:pt x="4539" y="8086"/>
                </a:cubicBezTo>
                <a:cubicBezTo>
                  <a:pt x="4514" y="8086"/>
                  <a:pt x="4506" y="8086"/>
                  <a:pt x="4490" y="8086"/>
                </a:cubicBezTo>
                <a:cubicBezTo>
                  <a:pt x="4549" y="8086"/>
                  <a:pt x="4613" y="8072"/>
                  <a:pt x="4663" y="8111"/>
                </a:cubicBezTo>
                <a:cubicBezTo>
                  <a:pt x="4731" y="8163"/>
                  <a:pt x="4738" y="8208"/>
                  <a:pt x="4738" y="8285"/>
                </a:cubicBezTo>
                <a:cubicBezTo>
                  <a:pt x="4738" y="8324"/>
                  <a:pt x="4674" y="8402"/>
                  <a:pt x="4638" y="8409"/>
                </a:cubicBezTo>
                <a:cubicBezTo>
                  <a:pt x="4592" y="8418"/>
                  <a:pt x="4488" y="8450"/>
                  <a:pt x="4440" y="8434"/>
                </a:cubicBezTo>
                <a:cubicBezTo>
                  <a:pt x="4396" y="8419"/>
                  <a:pt x="4374" y="8409"/>
                  <a:pt x="4341" y="838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68320" y="2840040"/>
            <a:ext cx="160560" cy="187200"/>
          </a:xfrm>
          <a:custGeom>
            <a:avLst/>
            <a:gdLst/>
            <a:ahLst/>
            <a:rect l="l" t="t" r="r" b="b"/>
            <a:pathLst>
              <a:path w="448" h="522">
                <a:moveTo>
                  <a:pt x="5259" y="7962"/>
                </a:moveTo>
                <a:cubicBezTo>
                  <a:pt x="5238" y="7921"/>
                  <a:pt x="5146" y="7861"/>
                  <a:pt x="5085" y="7888"/>
                </a:cubicBezTo>
                <a:cubicBezTo>
                  <a:pt x="4991" y="7930"/>
                  <a:pt x="4926" y="8101"/>
                  <a:pt x="4911" y="8210"/>
                </a:cubicBezTo>
                <a:cubicBezTo>
                  <a:pt x="4893" y="8340"/>
                  <a:pt x="4944" y="8412"/>
                  <a:pt x="5085" y="8409"/>
                </a:cubicBezTo>
                <a:cubicBezTo>
                  <a:pt x="5195" y="8406"/>
                  <a:pt x="5336" y="8324"/>
                  <a:pt x="5358" y="8210"/>
                </a:cubicBezTo>
                <a:cubicBezTo>
                  <a:pt x="5375" y="8121"/>
                  <a:pt x="5347" y="8042"/>
                  <a:pt x="5259" y="8012"/>
                </a:cubicBezTo>
                <a:cubicBezTo>
                  <a:pt x="5231" y="8012"/>
                  <a:pt x="5220" y="8010"/>
                  <a:pt x="5209" y="798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990800" y="2840040"/>
            <a:ext cx="206280" cy="160200"/>
          </a:xfrm>
          <a:custGeom>
            <a:avLst/>
            <a:gdLst/>
            <a:ahLst/>
            <a:rect l="l" t="t" r="r" b="b"/>
            <a:pathLst>
              <a:path w="572" h="447">
                <a:moveTo>
                  <a:pt x="5705" y="7888"/>
                </a:moveTo>
                <a:cubicBezTo>
                  <a:pt x="5622" y="7888"/>
                  <a:pt x="5605" y="7871"/>
                  <a:pt x="5556" y="7962"/>
                </a:cubicBezTo>
                <a:cubicBezTo>
                  <a:pt x="5502" y="8062"/>
                  <a:pt x="5538" y="8165"/>
                  <a:pt x="5581" y="8260"/>
                </a:cubicBezTo>
                <a:cubicBezTo>
                  <a:pt x="5616" y="8338"/>
                  <a:pt x="5794" y="8345"/>
                  <a:pt x="5879" y="8334"/>
                </a:cubicBezTo>
                <a:cubicBezTo>
                  <a:pt x="5966" y="8323"/>
                  <a:pt x="6044" y="8238"/>
                  <a:pt x="6077" y="8161"/>
                </a:cubicBezTo>
                <a:cubicBezTo>
                  <a:pt x="6115" y="8074"/>
                  <a:pt x="6079" y="8015"/>
                  <a:pt x="6003" y="7962"/>
                </a:cubicBezTo>
                <a:cubicBezTo>
                  <a:pt x="5958" y="7930"/>
                  <a:pt x="5832" y="7897"/>
                  <a:pt x="5779" y="7888"/>
                </a:cubicBezTo>
                <a:cubicBezTo>
                  <a:pt x="5721" y="7888"/>
                  <a:pt x="5713" y="7888"/>
                  <a:pt x="5680" y="788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1920" y="1600200"/>
            <a:ext cx="8991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33ccff"/>
                </a:solidFill>
                <a:latin typeface="Arial"/>
              </a:rPr>
              <a:t>Course 1 November 9, 2011</a:t>
            </a:r>
            <a:br>
              <a:rPr sz="5100"/>
            </a:br>
            <a:r>
              <a:rPr b="0" lang="en-US" sz="5100" spc="-1" strike="noStrike">
                <a:solidFill>
                  <a:srgbClr val="33ccff"/>
                </a:solidFill>
                <a:latin typeface="Arial"/>
              </a:rPr>
              <a:t>Unit 4 – Decimal Operations &amp; Percents</a:t>
            </a:r>
            <a:r>
              <a:rPr b="0" lang="en-US" sz="4300" spc="-1" strike="noStrike">
                <a:solidFill>
                  <a:srgbClr val="f6fcac"/>
                </a:solidFill>
                <a:latin typeface="Arial"/>
              </a:rPr>
              <a:t>	</a:t>
            </a:r>
            <a:endParaRPr b="0" lang="en-US" sz="43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Verdana"/>
              </a:rPr>
              <a:t>Objective – Students will accurately round Decimal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ive :  Students will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ccurately round decimals</a:t>
            </a:r>
            <a:endParaRPr b="0" lang="en-US" sz="32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Verdana"/>
              </a:rPr>
              <a:t>Vocabulary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0" lang="en-US" sz="3600" spc="-1" strike="noStrike" u="sng">
                <a:solidFill>
                  <a:srgbClr val="ff6600"/>
                </a:solidFill>
                <a:uFillTx/>
                <a:latin typeface="Verdana"/>
              </a:rPr>
              <a:t>Round</a:t>
            </a:r>
            <a:r>
              <a:rPr b="0" lang="en-US" sz="3600" spc="-1" strike="noStrike">
                <a:solidFill>
                  <a:srgbClr val="ff6600"/>
                </a:solidFill>
                <a:latin typeface="Verdana"/>
              </a:rPr>
              <a:t> –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0" lang="en-US" sz="3600" spc="-1" strike="noStrike" u="sng">
                <a:solidFill>
                  <a:srgbClr val="ff6600"/>
                </a:solidFill>
                <a:uFillTx/>
                <a:latin typeface="Verdana"/>
              </a:rPr>
              <a:t>Leading Digit</a:t>
            </a:r>
            <a:r>
              <a:rPr b="0" lang="en-US" sz="3600" spc="-1" strike="noStrike">
                <a:solidFill>
                  <a:srgbClr val="ff6600"/>
                </a:solidFill>
                <a:latin typeface="Verdana"/>
              </a:rPr>
              <a:t> 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0" lang="en-US" sz="3600" spc="-1" strike="noStrike" u="sng">
                <a:solidFill>
                  <a:srgbClr val="ff6600"/>
                </a:solidFill>
                <a:uFillTx/>
                <a:latin typeface="Verdana"/>
              </a:rPr>
              <a:t>Estimate</a:t>
            </a:r>
            <a:r>
              <a:rPr b="0" lang="en-US" sz="3600" spc="-1" strike="noStrike">
                <a:solidFill>
                  <a:srgbClr val="ff6600"/>
                </a:solidFill>
                <a:latin typeface="Verdana"/>
              </a:rPr>
              <a:t> 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ff"/>
                </a:solidFill>
                <a:latin typeface="Verdana"/>
              </a:rPr>
              <a:t>Situations where it may be helpful to round:</a:t>
            </a:r>
            <a:r>
              <a:rPr b="0" lang="en-US" sz="3600" spc="-1" strike="noStrike">
                <a:solidFill>
                  <a:srgbClr val="0099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/>
          <p:nvPr/>
        </p:nvSpPr>
        <p:spPr>
          <a:xfrm>
            <a:off x="2884320" y="2232000"/>
            <a:ext cx="3419640" cy="233280"/>
          </a:xfrm>
          <a:custGeom>
            <a:avLst/>
            <a:gdLst/>
            <a:ahLst/>
            <a:rect l="l" t="t" r="r" b="b"/>
            <a:pathLst>
              <a:path w="9501" h="646">
                <a:moveTo>
                  <a:pt x="8012" y="6846"/>
                </a:moveTo>
                <a:cubicBezTo>
                  <a:pt x="8020" y="6846"/>
                  <a:pt x="8029" y="6846"/>
                  <a:pt x="8037" y="6846"/>
                </a:cubicBezTo>
              </a:path>
              <a:path w="9501" h="646">
                <a:moveTo>
                  <a:pt x="9475" y="6524"/>
                </a:moveTo>
                <a:cubicBezTo>
                  <a:pt x="9483" y="6524"/>
                  <a:pt x="9492" y="6524"/>
                  <a:pt x="9500" y="6524"/>
                </a:cubicBezTo>
              </a:path>
              <a:path w="9501" h="646">
                <a:moveTo>
                  <a:pt x="9500" y="6524"/>
                </a:moveTo>
                <a:lnTo>
                  <a:pt x="9500" y="6524"/>
                </a:lnTo>
              </a:path>
              <a:path w="9501" h="646">
                <a:moveTo>
                  <a:pt x="13047" y="6300"/>
                </a:moveTo>
                <a:cubicBezTo>
                  <a:pt x="13085" y="6473"/>
                  <a:pt x="13122" y="6646"/>
                  <a:pt x="13146" y="6821"/>
                </a:cubicBezTo>
              </a:path>
              <a:path w="9501" h="646">
                <a:moveTo>
                  <a:pt x="17512" y="6201"/>
                </a:moveTo>
                <a:cubicBezTo>
                  <a:pt x="17512" y="6209"/>
                  <a:pt x="17512" y="6218"/>
                  <a:pt x="17512" y="622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84320" y="2276640"/>
            <a:ext cx="1473480" cy="250560"/>
          </a:xfrm>
          <a:custGeom>
            <a:avLst/>
            <a:gdLst/>
            <a:ahLst/>
            <a:rect l="l" t="t" r="r" b="b"/>
            <a:pathLst>
              <a:path w="4094" h="696">
                <a:moveTo>
                  <a:pt x="8037" y="6821"/>
                </a:moveTo>
                <a:cubicBezTo>
                  <a:pt x="8153" y="6821"/>
                  <a:pt x="8268" y="6821"/>
                  <a:pt x="8384" y="6821"/>
                </a:cubicBezTo>
                <a:cubicBezTo>
                  <a:pt x="8398" y="6708"/>
                  <a:pt x="8433" y="6568"/>
                  <a:pt x="8260" y="6573"/>
                </a:cubicBezTo>
                <a:cubicBezTo>
                  <a:pt x="8060" y="6579"/>
                  <a:pt x="8037" y="6806"/>
                  <a:pt x="8037" y="6945"/>
                </a:cubicBezTo>
                <a:cubicBezTo>
                  <a:pt x="8171" y="6990"/>
                  <a:pt x="8269" y="7008"/>
                  <a:pt x="8409" y="7020"/>
                </a:cubicBezTo>
              </a:path>
              <a:path w="4094" h="696">
                <a:moveTo>
                  <a:pt x="8830" y="6648"/>
                </a:moveTo>
                <a:cubicBezTo>
                  <a:pt x="8746" y="6648"/>
                  <a:pt x="8726" y="6641"/>
                  <a:pt x="8682" y="6672"/>
                </a:cubicBezTo>
                <a:cubicBezTo>
                  <a:pt x="8573" y="6708"/>
                  <a:pt x="8882" y="6779"/>
                  <a:pt x="8905" y="6796"/>
                </a:cubicBezTo>
                <a:cubicBezTo>
                  <a:pt x="9060" y="6908"/>
                  <a:pt x="8799" y="6950"/>
                  <a:pt x="8756" y="6970"/>
                </a:cubicBezTo>
                <a:cubicBezTo>
                  <a:pt x="8728" y="6998"/>
                  <a:pt x="8719" y="7002"/>
                  <a:pt x="8731" y="6945"/>
                </a:cubicBezTo>
              </a:path>
              <a:path w="4094" h="696">
                <a:moveTo>
                  <a:pt x="9178" y="6325"/>
                </a:moveTo>
                <a:cubicBezTo>
                  <a:pt x="9189" y="6511"/>
                  <a:pt x="9238" y="6666"/>
                  <a:pt x="9277" y="6846"/>
                </a:cubicBezTo>
                <a:cubicBezTo>
                  <a:pt x="9277" y="6871"/>
                  <a:pt x="9277" y="6879"/>
                  <a:pt x="9277" y="6896"/>
                </a:cubicBezTo>
              </a:path>
              <a:path w="4094" h="696">
                <a:moveTo>
                  <a:pt x="8905" y="6623"/>
                </a:moveTo>
                <a:cubicBezTo>
                  <a:pt x="9095" y="6601"/>
                  <a:pt x="9312" y="6574"/>
                  <a:pt x="9500" y="6623"/>
                </a:cubicBezTo>
                <a:cubicBezTo>
                  <a:pt x="9608" y="6651"/>
                  <a:pt x="9595" y="6818"/>
                  <a:pt x="9599" y="6896"/>
                </a:cubicBezTo>
                <a:cubicBezTo>
                  <a:pt x="9599" y="6921"/>
                  <a:pt x="9599" y="6929"/>
                  <a:pt x="9575" y="6921"/>
                </a:cubicBezTo>
              </a:path>
              <a:path w="4094" h="696">
                <a:moveTo>
                  <a:pt x="9798" y="6722"/>
                </a:moveTo>
                <a:cubicBezTo>
                  <a:pt x="9813" y="6793"/>
                  <a:pt x="9823" y="6828"/>
                  <a:pt x="9823" y="6896"/>
                </a:cubicBezTo>
                <a:cubicBezTo>
                  <a:pt x="9808" y="6807"/>
                  <a:pt x="9776" y="6704"/>
                  <a:pt x="9847" y="6623"/>
                </a:cubicBezTo>
                <a:cubicBezTo>
                  <a:pt x="9972" y="6480"/>
                  <a:pt x="10123" y="6718"/>
                  <a:pt x="10170" y="6796"/>
                </a:cubicBezTo>
                <a:cubicBezTo>
                  <a:pt x="10187" y="6829"/>
                  <a:pt x="10203" y="6863"/>
                  <a:pt x="10220" y="6896"/>
                </a:cubicBezTo>
                <a:cubicBezTo>
                  <a:pt x="10147" y="6780"/>
                  <a:pt x="10093" y="6654"/>
                  <a:pt x="10244" y="6573"/>
                </a:cubicBezTo>
                <a:cubicBezTo>
                  <a:pt x="10440" y="6468"/>
                  <a:pt x="10499" y="6705"/>
                  <a:pt x="10517" y="6846"/>
                </a:cubicBezTo>
                <a:cubicBezTo>
                  <a:pt x="10535" y="6987"/>
                  <a:pt x="10464" y="6971"/>
                  <a:pt x="10616" y="6945"/>
                </a:cubicBezTo>
              </a:path>
              <a:path w="4094" h="696">
                <a:moveTo>
                  <a:pt x="11063" y="6772"/>
                </a:moveTo>
                <a:cubicBezTo>
                  <a:pt x="11071" y="6764"/>
                  <a:pt x="11080" y="6755"/>
                  <a:pt x="11088" y="6747"/>
                </a:cubicBezTo>
                <a:cubicBezTo>
                  <a:pt x="11076" y="6629"/>
                  <a:pt x="10977" y="6542"/>
                  <a:pt x="10840" y="6623"/>
                </a:cubicBezTo>
                <a:cubicBezTo>
                  <a:pt x="10637" y="6743"/>
                  <a:pt x="10614" y="7028"/>
                  <a:pt x="10914" y="6921"/>
                </a:cubicBezTo>
                <a:cubicBezTo>
                  <a:pt x="11047" y="6873"/>
                  <a:pt x="11013" y="6801"/>
                  <a:pt x="11013" y="6697"/>
                </a:cubicBezTo>
                <a:cubicBezTo>
                  <a:pt x="11048" y="6812"/>
                  <a:pt x="11100" y="6883"/>
                  <a:pt x="11212" y="6921"/>
                </a:cubicBezTo>
              </a:path>
              <a:path w="4094" h="696">
                <a:moveTo>
                  <a:pt x="11311" y="6449"/>
                </a:moveTo>
                <a:cubicBezTo>
                  <a:pt x="11330" y="6597"/>
                  <a:pt x="11361" y="6747"/>
                  <a:pt x="11361" y="6896"/>
                </a:cubicBezTo>
              </a:path>
              <a:path w="4094" h="696">
                <a:moveTo>
                  <a:pt x="11063" y="6573"/>
                </a:moveTo>
                <a:cubicBezTo>
                  <a:pt x="11288" y="6573"/>
                  <a:pt x="11470" y="6580"/>
                  <a:pt x="11683" y="6648"/>
                </a:cubicBezTo>
              </a:path>
              <a:path w="4094" h="696">
                <a:moveTo>
                  <a:pt x="11757" y="6697"/>
                </a:moveTo>
                <a:cubicBezTo>
                  <a:pt x="11797" y="6697"/>
                  <a:pt x="11904" y="6721"/>
                  <a:pt x="11906" y="6672"/>
                </a:cubicBezTo>
                <a:cubicBezTo>
                  <a:pt x="11906" y="6594"/>
                  <a:pt x="11921" y="6576"/>
                  <a:pt x="11881" y="6548"/>
                </a:cubicBezTo>
                <a:cubicBezTo>
                  <a:pt x="11780" y="6607"/>
                  <a:pt x="11590" y="6784"/>
                  <a:pt x="11782" y="6896"/>
                </a:cubicBezTo>
                <a:cubicBezTo>
                  <a:pt x="11939" y="6922"/>
                  <a:pt x="11996" y="6931"/>
                  <a:pt x="12105" y="692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16280" y="2340000"/>
            <a:ext cx="366840" cy="115920"/>
          </a:xfrm>
          <a:custGeom>
            <a:avLst/>
            <a:gdLst/>
            <a:ahLst/>
            <a:rect l="l" t="t" r="r" b="b"/>
            <a:pathLst>
              <a:path w="1018" h="323">
                <a:moveTo>
                  <a:pt x="12824" y="6499"/>
                </a:moveTo>
                <a:cubicBezTo>
                  <a:pt x="13034" y="6516"/>
                  <a:pt x="13319" y="6470"/>
                  <a:pt x="13519" y="6524"/>
                </a:cubicBezTo>
                <a:cubicBezTo>
                  <a:pt x="13527" y="6532"/>
                  <a:pt x="13535" y="6540"/>
                  <a:pt x="13543" y="6548"/>
                </a:cubicBezTo>
                <a:cubicBezTo>
                  <a:pt x="13502" y="6685"/>
                  <a:pt x="13434" y="6816"/>
                  <a:pt x="13643" y="6821"/>
                </a:cubicBezTo>
                <a:cubicBezTo>
                  <a:pt x="13879" y="6827"/>
                  <a:pt x="13895" y="6608"/>
                  <a:pt x="13692" y="6524"/>
                </a:cubicBezTo>
                <a:cubicBezTo>
                  <a:pt x="13575" y="6504"/>
                  <a:pt x="13553" y="6481"/>
                  <a:pt x="13494" y="652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70320" y="2197080"/>
            <a:ext cx="1965600" cy="330120"/>
          </a:xfrm>
          <a:custGeom>
            <a:avLst/>
            <a:gdLst/>
            <a:ahLst/>
            <a:rect l="l" t="t" r="r" b="b"/>
            <a:pathLst>
              <a:path w="5458" h="919">
                <a:moveTo>
                  <a:pt x="14734" y="6573"/>
                </a:moveTo>
                <a:cubicBezTo>
                  <a:pt x="14658" y="6458"/>
                  <a:pt x="14519" y="6444"/>
                  <a:pt x="14412" y="6573"/>
                </a:cubicBezTo>
                <a:cubicBezTo>
                  <a:pt x="14395" y="6614"/>
                  <a:pt x="14379" y="6656"/>
                  <a:pt x="14362" y="6697"/>
                </a:cubicBezTo>
                <a:cubicBezTo>
                  <a:pt x="14497" y="6799"/>
                  <a:pt x="14621" y="6810"/>
                  <a:pt x="14709" y="6623"/>
                </a:cubicBezTo>
                <a:cubicBezTo>
                  <a:pt x="14709" y="6588"/>
                  <a:pt x="14704" y="6589"/>
                  <a:pt x="14684" y="6648"/>
                </a:cubicBezTo>
                <a:cubicBezTo>
                  <a:pt x="14796" y="6771"/>
                  <a:pt x="14790" y="6756"/>
                  <a:pt x="14957" y="6747"/>
                </a:cubicBezTo>
              </a:path>
              <a:path w="5458" h="919">
                <a:moveTo>
                  <a:pt x="15329" y="6573"/>
                </a:moveTo>
                <a:cubicBezTo>
                  <a:pt x="15301" y="6732"/>
                  <a:pt x="15374" y="7150"/>
                  <a:pt x="15329" y="6995"/>
                </a:cubicBezTo>
                <a:cubicBezTo>
                  <a:pt x="15267" y="6780"/>
                  <a:pt x="15268" y="6519"/>
                  <a:pt x="15528" y="6449"/>
                </a:cubicBezTo>
                <a:cubicBezTo>
                  <a:pt x="15663" y="6476"/>
                  <a:pt x="15711" y="6493"/>
                  <a:pt x="15751" y="6598"/>
                </a:cubicBezTo>
                <a:cubicBezTo>
                  <a:pt x="15675" y="6760"/>
                  <a:pt x="15576" y="6833"/>
                  <a:pt x="15379" y="6747"/>
                </a:cubicBezTo>
                <a:cubicBezTo>
                  <a:pt x="15333" y="6701"/>
                  <a:pt x="15314" y="6689"/>
                  <a:pt x="15354" y="6648"/>
                </a:cubicBezTo>
              </a:path>
              <a:path w="5458" h="919">
                <a:moveTo>
                  <a:pt x="16148" y="6524"/>
                </a:moveTo>
                <a:cubicBezTo>
                  <a:pt x="16069" y="6445"/>
                  <a:pt x="15931" y="6552"/>
                  <a:pt x="15875" y="6648"/>
                </a:cubicBezTo>
                <a:cubicBezTo>
                  <a:pt x="15875" y="6664"/>
                  <a:pt x="15875" y="6681"/>
                  <a:pt x="15875" y="6697"/>
                </a:cubicBezTo>
                <a:cubicBezTo>
                  <a:pt x="16019" y="6718"/>
                  <a:pt x="16162" y="6548"/>
                  <a:pt x="16173" y="6548"/>
                </a:cubicBezTo>
                <a:cubicBezTo>
                  <a:pt x="16174" y="6548"/>
                  <a:pt x="16310" y="6679"/>
                  <a:pt x="16421" y="6672"/>
                </a:cubicBezTo>
              </a:path>
              <a:path w="5458" h="919">
                <a:moveTo>
                  <a:pt x="16470" y="6573"/>
                </a:moveTo>
                <a:cubicBezTo>
                  <a:pt x="16470" y="6615"/>
                  <a:pt x="16470" y="6623"/>
                  <a:pt x="16470" y="6648"/>
                </a:cubicBezTo>
                <a:cubicBezTo>
                  <a:pt x="16509" y="6464"/>
                  <a:pt x="16490" y="6426"/>
                  <a:pt x="16669" y="6375"/>
                </a:cubicBezTo>
              </a:path>
              <a:path w="5458" h="919">
                <a:moveTo>
                  <a:pt x="16991" y="6152"/>
                </a:moveTo>
                <a:cubicBezTo>
                  <a:pt x="16998" y="6335"/>
                  <a:pt x="17003" y="6520"/>
                  <a:pt x="17041" y="6697"/>
                </a:cubicBezTo>
              </a:path>
              <a:path w="5458" h="919">
                <a:moveTo>
                  <a:pt x="16842" y="6424"/>
                </a:moveTo>
                <a:cubicBezTo>
                  <a:pt x="17008" y="6401"/>
                  <a:pt x="17199" y="6381"/>
                  <a:pt x="17363" y="6424"/>
                </a:cubicBezTo>
                <a:cubicBezTo>
                  <a:pt x="17444" y="6445"/>
                  <a:pt x="17494" y="6514"/>
                  <a:pt x="17512" y="6598"/>
                </a:cubicBezTo>
                <a:cubicBezTo>
                  <a:pt x="17512" y="6639"/>
                  <a:pt x="17512" y="6647"/>
                  <a:pt x="17512" y="6672"/>
                </a:cubicBezTo>
              </a:path>
              <a:path w="5458" h="919">
                <a:moveTo>
                  <a:pt x="17785" y="6424"/>
                </a:moveTo>
                <a:cubicBezTo>
                  <a:pt x="17785" y="6305"/>
                  <a:pt x="17690" y="6457"/>
                  <a:pt x="17686" y="6499"/>
                </a:cubicBezTo>
                <a:cubicBezTo>
                  <a:pt x="17678" y="6591"/>
                  <a:pt x="17796" y="6776"/>
                  <a:pt x="17909" y="6747"/>
                </a:cubicBezTo>
                <a:cubicBezTo>
                  <a:pt x="17950" y="6722"/>
                  <a:pt x="17992" y="6697"/>
                  <a:pt x="18033" y="6672"/>
                </a:cubicBezTo>
              </a:path>
              <a:path w="5458" h="919">
                <a:moveTo>
                  <a:pt x="18107" y="6375"/>
                </a:moveTo>
                <a:cubicBezTo>
                  <a:pt x="18094" y="6469"/>
                  <a:pt x="18051" y="6580"/>
                  <a:pt x="18107" y="6672"/>
                </a:cubicBezTo>
                <a:cubicBezTo>
                  <a:pt x="18177" y="6786"/>
                  <a:pt x="18357" y="6580"/>
                  <a:pt x="18380" y="6524"/>
                </a:cubicBezTo>
                <a:cubicBezTo>
                  <a:pt x="18380" y="6482"/>
                  <a:pt x="18380" y="6457"/>
                  <a:pt x="18380" y="6499"/>
                </a:cubicBezTo>
                <a:cubicBezTo>
                  <a:pt x="18415" y="6670"/>
                  <a:pt x="18447" y="6697"/>
                  <a:pt x="18604" y="6697"/>
                </a:cubicBezTo>
              </a:path>
              <a:path w="5458" h="919">
                <a:moveTo>
                  <a:pt x="18703" y="6102"/>
                </a:moveTo>
                <a:cubicBezTo>
                  <a:pt x="18703" y="6295"/>
                  <a:pt x="18720" y="6481"/>
                  <a:pt x="18728" y="6672"/>
                </a:cubicBezTo>
                <a:cubicBezTo>
                  <a:pt x="18728" y="6680"/>
                  <a:pt x="18728" y="6689"/>
                  <a:pt x="18728" y="6697"/>
                </a:cubicBezTo>
              </a:path>
              <a:path w="5458" h="919">
                <a:moveTo>
                  <a:pt x="19248" y="6449"/>
                </a:moveTo>
                <a:cubicBezTo>
                  <a:pt x="19234" y="6393"/>
                  <a:pt x="19218" y="6327"/>
                  <a:pt x="19124" y="6375"/>
                </a:cubicBezTo>
                <a:cubicBezTo>
                  <a:pt x="19024" y="6427"/>
                  <a:pt x="18934" y="6610"/>
                  <a:pt x="19100" y="6648"/>
                </a:cubicBezTo>
                <a:cubicBezTo>
                  <a:pt x="19242" y="6681"/>
                  <a:pt x="19273" y="6615"/>
                  <a:pt x="19348" y="6524"/>
                </a:cubicBezTo>
                <a:cubicBezTo>
                  <a:pt x="19318" y="6463"/>
                  <a:pt x="19323" y="6596"/>
                  <a:pt x="19348" y="6623"/>
                </a:cubicBezTo>
                <a:cubicBezTo>
                  <a:pt x="19428" y="6676"/>
                  <a:pt x="19459" y="6689"/>
                  <a:pt x="19521" y="6623"/>
                </a:cubicBezTo>
              </a:path>
              <a:path w="5458" h="919">
                <a:moveTo>
                  <a:pt x="19521" y="6474"/>
                </a:moveTo>
                <a:cubicBezTo>
                  <a:pt x="19499" y="6517"/>
                  <a:pt x="19496" y="6544"/>
                  <a:pt x="19496" y="6598"/>
                </a:cubicBezTo>
                <a:cubicBezTo>
                  <a:pt x="19584" y="6529"/>
                  <a:pt x="19591" y="6428"/>
                  <a:pt x="19720" y="6375"/>
                </a:cubicBezTo>
                <a:cubicBezTo>
                  <a:pt x="19753" y="6367"/>
                  <a:pt x="19786" y="6358"/>
                  <a:pt x="19819" y="635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81960" y="2152800"/>
            <a:ext cx="874800" cy="357120"/>
          </a:xfrm>
          <a:custGeom>
            <a:avLst/>
            <a:gdLst/>
            <a:ahLst/>
            <a:rect l="l" t="t" r="r" b="b"/>
            <a:pathLst>
              <a:path w="2432" h="993">
                <a:moveTo>
                  <a:pt x="21158" y="6524"/>
                </a:moveTo>
                <a:cubicBezTo>
                  <a:pt x="21151" y="6676"/>
                  <a:pt x="21128" y="6820"/>
                  <a:pt x="21109" y="6970"/>
                </a:cubicBezTo>
                <a:cubicBezTo>
                  <a:pt x="21053" y="6776"/>
                  <a:pt x="20986" y="6478"/>
                  <a:pt x="21134" y="6300"/>
                </a:cubicBezTo>
                <a:cubicBezTo>
                  <a:pt x="21175" y="6284"/>
                  <a:pt x="21217" y="6267"/>
                  <a:pt x="21258" y="6251"/>
                </a:cubicBezTo>
                <a:cubicBezTo>
                  <a:pt x="21352" y="6322"/>
                  <a:pt x="21598" y="6502"/>
                  <a:pt x="21382" y="6598"/>
                </a:cubicBezTo>
                <a:cubicBezTo>
                  <a:pt x="21238" y="6662"/>
                  <a:pt x="21047" y="6652"/>
                  <a:pt x="21109" y="6499"/>
                </a:cubicBezTo>
              </a:path>
              <a:path w="2432" h="993">
                <a:moveTo>
                  <a:pt x="21754" y="5978"/>
                </a:moveTo>
                <a:cubicBezTo>
                  <a:pt x="21769" y="6154"/>
                  <a:pt x="21779" y="6322"/>
                  <a:pt x="21779" y="6499"/>
                </a:cubicBezTo>
              </a:path>
              <a:path w="2432" h="993">
                <a:moveTo>
                  <a:pt x="22473" y="6300"/>
                </a:moveTo>
                <a:cubicBezTo>
                  <a:pt x="22432" y="6230"/>
                  <a:pt x="22366" y="6176"/>
                  <a:pt x="22275" y="6251"/>
                </a:cubicBezTo>
                <a:cubicBezTo>
                  <a:pt x="22245" y="6276"/>
                  <a:pt x="22039" y="6576"/>
                  <a:pt x="22250" y="6499"/>
                </a:cubicBezTo>
                <a:cubicBezTo>
                  <a:pt x="22339" y="6439"/>
                  <a:pt x="22374" y="6406"/>
                  <a:pt x="22399" y="6325"/>
                </a:cubicBezTo>
                <a:cubicBezTo>
                  <a:pt x="22399" y="6317"/>
                  <a:pt x="22399" y="6308"/>
                  <a:pt x="22399" y="6300"/>
                </a:cubicBezTo>
                <a:cubicBezTo>
                  <a:pt x="22423" y="6424"/>
                  <a:pt x="22456" y="6485"/>
                  <a:pt x="22572" y="6524"/>
                </a:cubicBezTo>
              </a:path>
              <a:path w="2432" h="993">
                <a:moveTo>
                  <a:pt x="22845" y="6226"/>
                </a:moveTo>
                <a:cubicBezTo>
                  <a:pt x="22871" y="6278"/>
                  <a:pt x="22865" y="6208"/>
                  <a:pt x="22870" y="6176"/>
                </a:cubicBezTo>
                <a:cubicBezTo>
                  <a:pt x="22752" y="6223"/>
                  <a:pt x="22759" y="6336"/>
                  <a:pt x="22746" y="6449"/>
                </a:cubicBezTo>
                <a:cubicBezTo>
                  <a:pt x="22866" y="6482"/>
                  <a:pt x="22940" y="6466"/>
                  <a:pt x="23068" y="6449"/>
                </a:cubicBezTo>
              </a:path>
              <a:path w="2432" h="993">
                <a:moveTo>
                  <a:pt x="23267" y="6276"/>
                </a:moveTo>
                <a:cubicBezTo>
                  <a:pt x="23339" y="6259"/>
                  <a:pt x="23373" y="6251"/>
                  <a:pt x="23440" y="6251"/>
                </a:cubicBezTo>
                <a:cubicBezTo>
                  <a:pt x="23426" y="6195"/>
                  <a:pt x="23373" y="6074"/>
                  <a:pt x="23292" y="6152"/>
                </a:cubicBezTo>
                <a:cubicBezTo>
                  <a:pt x="23150" y="6288"/>
                  <a:pt x="23071" y="6439"/>
                  <a:pt x="23316" y="6474"/>
                </a:cubicBezTo>
                <a:cubicBezTo>
                  <a:pt x="23417" y="6474"/>
                  <a:pt x="23438" y="6484"/>
                  <a:pt x="23490" y="644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616960" y="2054160"/>
            <a:ext cx="590400" cy="258840"/>
          </a:xfrm>
          <a:custGeom>
            <a:avLst/>
            <a:gdLst/>
            <a:ahLst/>
            <a:rect l="l" t="t" r="r" b="b"/>
            <a:pathLst>
              <a:path w="1638" h="720">
                <a:moveTo>
                  <a:pt x="23937" y="6127"/>
                </a:moveTo>
                <a:cubicBezTo>
                  <a:pt x="23954" y="6230"/>
                  <a:pt x="23995" y="6328"/>
                  <a:pt x="24036" y="6424"/>
                </a:cubicBezTo>
                <a:cubicBezTo>
                  <a:pt x="24057" y="6303"/>
                  <a:pt x="24121" y="6183"/>
                  <a:pt x="24185" y="6077"/>
                </a:cubicBezTo>
                <a:cubicBezTo>
                  <a:pt x="24207" y="6054"/>
                  <a:pt x="24212" y="6046"/>
                  <a:pt x="24234" y="6052"/>
                </a:cubicBezTo>
              </a:path>
              <a:path w="1638" h="720">
                <a:moveTo>
                  <a:pt x="24532" y="6077"/>
                </a:moveTo>
                <a:cubicBezTo>
                  <a:pt x="24446" y="6020"/>
                  <a:pt x="24333" y="6181"/>
                  <a:pt x="24284" y="6276"/>
                </a:cubicBezTo>
                <a:cubicBezTo>
                  <a:pt x="24284" y="6284"/>
                  <a:pt x="24284" y="6292"/>
                  <a:pt x="24284" y="6300"/>
                </a:cubicBezTo>
                <a:cubicBezTo>
                  <a:pt x="24479" y="6316"/>
                  <a:pt x="24430" y="6254"/>
                  <a:pt x="24507" y="6102"/>
                </a:cubicBezTo>
                <a:cubicBezTo>
                  <a:pt x="24538" y="6040"/>
                  <a:pt x="24463" y="6289"/>
                  <a:pt x="24532" y="6300"/>
                </a:cubicBezTo>
                <a:cubicBezTo>
                  <a:pt x="24548" y="6292"/>
                  <a:pt x="24565" y="6284"/>
                  <a:pt x="24581" y="6276"/>
                </a:cubicBezTo>
              </a:path>
              <a:path w="1638" h="720">
                <a:moveTo>
                  <a:pt x="24755" y="5705"/>
                </a:moveTo>
                <a:cubicBezTo>
                  <a:pt x="24772" y="5908"/>
                  <a:pt x="24743" y="6096"/>
                  <a:pt x="24730" y="6300"/>
                </a:cubicBezTo>
              </a:path>
              <a:path w="1638" h="720">
                <a:moveTo>
                  <a:pt x="24929" y="6028"/>
                </a:moveTo>
                <a:cubicBezTo>
                  <a:pt x="24901" y="6123"/>
                  <a:pt x="24879" y="6173"/>
                  <a:pt x="24879" y="6276"/>
                </a:cubicBezTo>
                <a:cubicBezTo>
                  <a:pt x="25009" y="6257"/>
                  <a:pt x="25076" y="6225"/>
                  <a:pt x="25127" y="6102"/>
                </a:cubicBezTo>
                <a:cubicBezTo>
                  <a:pt x="25144" y="6062"/>
                  <a:pt x="25121" y="6068"/>
                  <a:pt x="25152" y="6028"/>
                </a:cubicBezTo>
              </a:path>
              <a:path w="1638" h="720">
                <a:moveTo>
                  <a:pt x="25276" y="6176"/>
                </a:moveTo>
                <a:cubicBezTo>
                  <a:pt x="25337" y="6176"/>
                  <a:pt x="25395" y="6186"/>
                  <a:pt x="25450" y="6152"/>
                </a:cubicBezTo>
                <a:cubicBezTo>
                  <a:pt x="25475" y="6137"/>
                  <a:pt x="25482" y="6100"/>
                  <a:pt x="25499" y="6077"/>
                </a:cubicBezTo>
                <a:cubicBezTo>
                  <a:pt x="25425" y="6052"/>
                  <a:pt x="25393" y="6066"/>
                  <a:pt x="25326" y="6176"/>
                </a:cubicBezTo>
                <a:cubicBezTo>
                  <a:pt x="25287" y="6240"/>
                  <a:pt x="25274" y="6346"/>
                  <a:pt x="25350" y="6375"/>
                </a:cubicBezTo>
                <a:cubicBezTo>
                  <a:pt x="25386" y="6389"/>
                  <a:pt x="25598" y="6424"/>
                  <a:pt x="25549" y="637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53000" y="2705040"/>
            <a:ext cx="4133880" cy="295200"/>
          </a:xfrm>
          <a:custGeom>
            <a:avLst/>
            <a:gdLst/>
            <a:ahLst/>
            <a:rect l="l" t="t" r="r" b="b"/>
            <a:pathLst>
              <a:path w="11486" h="819">
                <a:moveTo>
                  <a:pt x="12923" y="7516"/>
                </a:moveTo>
                <a:cubicBezTo>
                  <a:pt x="12973" y="7641"/>
                  <a:pt x="13022" y="7764"/>
                  <a:pt x="13072" y="7888"/>
                </a:cubicBezTo>
              </a:path>
              <a:path w="11486" h="819">
                <a:moveTo>
                  <a:pt x="23912" y="8310"/>
                </a:moveTo>
                <a:cubicBezTo>
                  <a:pt x="24103" y="8341"/>
                  <a:pt x="24229" y="8330"/>
                  <a:pt x="24408" y="826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84800" y="2732040"/>
            <a:ext cx="357120" cy="322200"/>
          </a:xfrm>
          <a:custGeom>
            <a:avLst/>
            <a:gdLst/>
            <a:ahLst/>
            <a:rect l="l" t="t" r="r" b="b"/>
            <a:pathLst>
              <a:path w="993" h="894">
                <a:moveTo>
                  <a:pt x="12204" y="7789"/>
                </a:moveTo>
                <a:cubicBezTo>
                  <a:pt x="12171" y="7953"/>
                  <a:pt x="12218" y="8177"/>
                  <a:pt x="12229" y="8359"/>
                </a:cubicBezTo>
                <a:cubicBezTo>
                  <a:pt x="12232" y="8409"/>
                  <a:pt x="12229" y="8508"/>
                  <a:pt x="12229" y="8458"/>
                </a:cubicBezTo>
              </a:path>
              <a:path w="993" h="894">
                <a:moveTo>
                  <a:pt x="12551" y="7590"/>
                </a:moveTo>
                <a:cubicBezTo>
                  <a:pt x="12492" y="7632"/>
                  <a:pt x="12467" y="7631"/>
                  <a:pt x="12452" y="7689"/>
                </a:cubicBezTo>
                <a:cubicBezTo>
                  <a:pt x="12574" y="7720"/>
                  <a:pt x="12649" y="7741"/>
                  <a:pt x="12750" y="7813"/>
                </a:cubicBezTo>
                <a:cubicBezTo>
                  <a:pt x="12684" y="7926"/>
                  <a:pt x="12570" y="8060"/>
                  <a:pt x="12551" y="7888"/>
                </a:cubicBezTo>
              </a:path>
              <a:path w="993" h="894">
                <a:moveTo>
                  <a:pt x="12774" y="7714"/>
                </a:moveTo>
                <a:cubicBezTo>
                  <a:pt x="12910" y="7697"/>
                  <a:pt x="13032" y="7665"/>
                  <a:pt x="13171" y="766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11840" y="2759040"/>
            <a:ext cx="1527120" cy="258840"/>
          </a:xfrm>
          <a:custGeom>
            <a:avLst/>
            <a:gdLst/>
            <a:ahLst/>
            <a:rect l="l" t="t" r="r" b="b"/>
            <a:pathLst>
              <a:path w="4242" h="720">
                <a:moveTo>
                  <a:pt x="13643" y="8186"/>
                </a:moveTo>
                <a:cubicBezTo>
                  <a:pt x="13661" y="8277"/>
                  <a:pt x="13669" y="8284"/>
                  <a:pt x="13667" y="8334"/>
                </a:cubicBezTo>
                <a:cubicBezTo>
                  <a:pt x="13646" y="8229"/>
                  <a:pt x="13635" y="8147"/>
                  <a:pt x="13667" y="8037"/>
                </a:cubicBezTo>
                <a:cubicBezTo>
                  <a:pt x="13713" y="7880"/>
                  <a:pt x="13912" y="7933"/>
                  <a:pt x="14015" y="7987"/>
                </a:cubicBezTo>
                <a:cubicBezTo>
                  <a:pt x="14180" y="8074"/>
                  <a:pt x="14147" y="8233"/>
                  <a:pt x="14114" y="8384"/>
                </a:cubicBezTo>
              </a:path>
              <a:path w="4242" h="720">
                <a:moveTo>
                  <a:pt x="14436" y="7962"/>
                </a:moveTo>
                <a:cubicBezTo>
                  <a:pt x="14346" y="7980"/>
                  <a:pt x="14225" y="8103"/>
                  <a:pt x="14263" y="8210"/>
                </a:cubicBezTo>
                <a:cubicBezTo>
                  <a:pt x="14318" y="8364"/>
                  <a:pt x="14561" y="8366"/>
                  <a:pt x="14610" y="8210"/>
                </a:cubicBezTo>
                <a:cubicBezTo>
                  <a:pt x="14674" y="8009"/>
                  <a:pt x="14530" y="8000"/>
                  <a:pt x="14387" y="7987"/>
                </a:cubicBezTo>
              </a:path>
              <a:path w="4242" h="720">
                <a:moveTo>
                  <a:pt x="14784" y="8086"/>
                </a:moveTo>
                <a:cubicBezTo>
                  <a:pt x="14830" y="8164"/>
                  <a:pt x="14833" y="8144"/>
                  <a:pt x="14833" y="8210"/>
                </a:cubicBezTo>
                <a:cubicBezTo>
                  <a:pt x="14803" y="8121"/>
                  <a:pt x="14758" y="8034"/>
                  <a:pt x="14833" y="7938"/>
                </a:cubicBezTo>
                <a:cubicBezTo>
                  <a:pt x="14904" y="7847"/>
                  <a:pt x="15060" y="7897"/>
                  <a:pt x="15106" y="7987"/>
                </a:cubicBezTo>
                <a:cubicBezTo>
                  <a:pt x="15143" y="8059"/>
                  <a:pt x="15131" y="8158"/>
                  <a:pt x="15131" y="8235"/>
                </a:cubicBezTo>
              </a:path>
              <a:path w="4242" h="720">
                <a:moveTo>
                  <a:pt x="15404" y="7962"/>
                </a:moveTo>
                <a:cubicBezTo>
                  <a:pt x="15511" y="7962"/>
                  <a:pt x="15580" y="7930"/>
                  <a:pt x="15677" y="7888"/>
                </a:cubicBezTo>
              </a:path>
              <a:path w="4242" h="720">
                <a:moveTo>
                  <a:pt x="15875" y="7689"/>
                </a:moveTo>
                <a:cubicBezTo>
                  <a:pt x="15992" y="7674"/>
                  <a:pt x="16236" y="7603"/>
                  <a:pt x="16321" y="7714"/>
                </a:cubicBezTo>
                <a:cubicBezTo>
                  <a:pt x="16454" y="7889"/>
                  <a:pt x="16151" y="8007"/>
                  <a:pt x="16049" y="8062"/>
                </a:cubicBezTo>
                <a:cubicBezTo>
                  <a:pt x="16032" y="8070"/>
                  <a:pt x="16016" y="8078"/>
                  <a:pt x="15999" y="8086"/>
                </a:cubicBezTo>
                <a:cubicBezTo>
                  <a:pt x="16070" y="8139"/>
                  <a:pt x="16182" y="8111"/>
                  <a:pt x="16272" y="8111"/>
                </a:cubicBezTo>
                <a:cubicBezTo>
                  <a:pt x="16288" y="8111"/>
                  <a:pt x="16305" y="8111"/>
                  <a:pt x="16321" y="8111"/>
                </a:cubicBezTo>
              </a:path>
              <a:path w="4242" h="720">
                <a:moveTo>
                  <a:pt x="16545" y="7938"/>
                </a:moveTo>
                <a:cubicBezTo>
                  <a:pt x="16607" y="7938"/>
                  <a:pt x="16823" y="7974"/>
                  <a:pt x="16842" y="7913"/>
                </a:cubicBezTo>
                <a:cubicBezTo>
                  <a:pt x="16835" y="7845"/>
                  <a:pt x="16831" y="7780"/>
                  <a:pt x="16743" y="7764"/>
                </a:cubicBezTo>
                <a:cubicBezTo>
                  <a:pt x="16613" y="7740"/>
                  <a:pt x="16518" y="7846"/>
                  <a:pt x="16495" y="7962"/>
                </a:cubicBezTo>
                <a:cubicBezTo>
                  <a:pt x="16463" y="8123"/>
                  <a:pt x="16580" y="8195"/>
                  <a:pt x="16718" y="8186"/>
                </a:cubicBezTo>
                <a:cubicBezTo>
                  <a:pt x="16905" y="8174"/>
                  <a:pt x="16902" y="8159"/>
                  <a:pt x="16942" y="8012"/>
                </a:cubicBezTo>
              </a:path>
              <a:path w="4242" h="720">
                <a:moveTo>
                  <a:pt x="16892" y="7913"/>
                </a:moveTo>
                <a:cubicBezTo>
                  <a:pt x="16951" y="7986"/>
                  <a:pt x="16982" y="8048"/>
                  <a:pt x="17016" y="8136"/>
                </a:cubicBezTo>
                <a:cubicBezTo>
                  <a:pt x="17016" y="7947"/>
                  <a:pt x="17057" y="7935"/>
                  <a:pt x="17190" y="7813"/>
                </a:cubicBezTo>
                <a:cubicBezTo>
                  <a:pt x="17254" y="7755"/>
                  <a:pt x="17235" y="7764"/>
                  <a:pt x="17314" y="7764"/>
                </a:cubicBezTo>
              </a:path>
              <a:path w="4242" h="720">
                <a:moveTo>
                  <a:pt x="17711" y="7838"/>
                </a:moveTo>
                <a:cubicBezTo>
                  <a:pt x="17680" y="7746"/>
                  <a:pt x="17533" y="7911"/>
                  <a:pt x="17512" y="7938"/>
                </a:cubicBezTo>
                <a:cubicBezTo>
                  <a:pt x="17468" y="8026"/>
                  <a:pt x="17451" y="8047"/>
                  <a:pt x="17462" y="8111"/>
                </a:cubicBezTo>
                <a:cubicBezTo>
                  <a:pt x="17597" y="8138"/>
                  <a:pt x="17818" y="8184"/>
                  <a:pt x="17884" y="8012"/>
                </a:cubicBezTo>
                <a:cubicBezTo>
                  <a:pt x="17939" y="7870"/>
                  <a:pt x="17776" y="7843"/>
                  <a:pt x="17686" y="781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661080" y="2633760"/>
            <a:ext cx="1233720" cy="304560"/>
          </a:xfrm>
          <a:custGeom>
            <a:avLst/>
            <a:gdLst/>
            <a:ahLst/>
            <a:rect l="l" t="t" r="r" b="b"/>
            <a:pathLst>
              <a:path w="3424" h="845">
                <a:moveTo>
                  <a:pt x="18504" y="7863"/>
                </a:moveTo>
                <a:cubicBezTo>
                  <a:pt x="18530" y="7965"/>
                  <a:pt x="18554" y="8029"/>
                  <a:pt x="18554" y="8136"/>
                </a:cubicBezTo>
                <a:cubicBezTo>
                  <a:pt x="18554" y="8144"/>
                  <a:pt x="18554" y="8153"/>
                  <a:pt x="18554" y="8161"/>
                </a:cubicBezTo>
                <a:cubicBezTo>
                  <a:pt x="18469" y="8055"/>
                  <a:pt x="18501" y="7958"/>
                  <a:pt x="18554" y="7838"/>
                </a:cubicBezTo>
                <a:cubicBezTo>
                  <a:pt x="18607" y="7719"/>
                  <a:pt x="18825" y="7755"/>
                  <a:pt x="18901" y="7813"/>
                </a:cubicBezTo>
                <a:cubicBezTo>
                  <a:pt x="19011" y="7897"/>
                  <a:pt x="18976" y="8018"/>
                  <a:pt x="18976" y="8136"/>
                </a:cubicBezTo>
              </a:path>
              <a:path w="3424" h="845">
                <a:moveTo>
                  <a:pt x="19149" y="7789"/>
                </a:moveTo>
                <a:cubicBezTo>
                  <a:pt x="19188" y="7850"/>
                  <a:pt x="19220" y="8071"/>
                  <a:pt x="19273" y="8111"/>
                </a:cubicBezTo>
                <a:cubicBezTo>
                  <a:pt x="19438" y="8235"/>
                  <a:pt x="19546" y="8021"/>
                  <a:pt x="19546" y="7888"/>
                </a:cubicBezTo>
                <a:cubicBezTo>
                  <a:pt x="19538" y="7863"/>
                  <a:pt x="19529" y="7838"/>
                  <a:pt x="19521" y="7813"/>
                </a:cubicBezTo>
                <a:cubicBezTo>
                  <a:pt x="19511" y="7872"/>
                  <a:pt x="19472" y="8044"/>
                  <a:pt x="19546" y="8086"/>
                </a:cubicBezTo>
                <a:cubicBezTo>
                  <a:pt x="19563" y="8078"/>
                  <a:pt x="19579" y="8070"/>
                  <a:pt x="19596" y="8062"/>
                </a:cubicBezTo>
              </a:path>
              <a:path w="3424" h="845">
                <a:moveTo>
                  <a:pt x="19695" y="7789"/>
                </a:moveTo>
                <a:cubicBezTo>
                  <a:pt x="19718" y="7880"/>
                  <a:pt x="19761" y="7965"/>
                  <a:pt x="19769" y="8062"/>
                </a:cubicBezTo>
                <a:cubicBezTo>
                  <a:pt x="19774" y="8119"/>
                  <a:pt x="19752" y="7993"/>
                  <a:pt x="19769" y="7938"/>
                </a:cubicBezTo>
                <a:cubicBezTo>
                  <a:pt x="19792" y="7861"/>
                  <a:pt x="19902" y="7739"/>
                  <a:pt x="19993" y="7838"/>
                </a:cubicBezTo>
                <a:cubicBezTo>
                  <a:pt x="20034" y="7882"/>
                  <a:pt x="20097" y="8002"/>
                  <a:pt x="20117" y="8062"/>
                </a:cubicBezTo>
                <a:cubicBezTo>
                  <a:pt x="20103" y="7966"/>
                  <a:pt x="20066" y="7850"/>
                  <a:pt x="20141" y="7764"/>
                </a:cubicBezTo>
                <a:cubicBezTo>
                  <a:pt x="20158" y="7756"/>
                  <a:pt x="20174" y="7747"/>
                  <a:pt x="20191" y="7739"/>
                </a:cubicBezTo>
                <a:cubicBezTo>
                  <a:pt x="20313" y="7780"/>
                  <a:pt x="20396" y="7881"/>
                  <a:pt x="20389" y="8037"/>
                </a:cubicBezTo>
                <a:cubicBezTo>
                  <a:pt x="20381" y="8045"/>
                  <a:pt x="20373" y="8054"/>
                  <a:pt x="20365" y="8062"/>
                </a:cubicBezTo>
              </a:path>
              <a:path w="3424" h="845">
                <a:moveTo>
                  <a:pt x="20464" y="7317"/>
                </a:moveTo>
                <a:cubicBezTo>
                  <a:pt x="20506" y="7508"/>
                  <a:pt x="20604" y="7678"/>
                  <a:pt x="20662" y="7863"/>
                </a:cubicBezTo>
                <a:cubicBezTo>
                  <a:pt x="20680" y="7954"/>
                  <a:pt x="20689" y="7961"/>
                  <a:pt x="20687" y="8012"/>
                </a:cubicBezTo>
                <a:cubicBezTo>
                  <a:pt x="20718" y="7904"/>
                  <a:pt x="20719" y="7791"/>
                  <a:pt x="20786" y="7665"/>
                </a:cubicBezTo>
                <a:cubicBezTo>
                  <a:pt x="20898" y="7730"/>
                  <a:pt x="21030" y="7854"/>
                  <a:pt x="20886" y="7987"/>
                </a:cubicBezTo>
                <a:cubicBezTo>
                  <a:pt x="20796" y="8070"/>
                  <a:pt x="20687" y="8092"/>
                  <a:pt x="20687" y="7987"/>
                </a:cubicBezTo>
              </a:path>
              <a:path w="3424" h="845">
                <a:moveTo>
                  <a:pt x="21059" y="7888"/>
                </a:moveTo>
                <a:cubicBezTo>
                  <a:pt x="21179" y="7879"/>
                  <a:pt x="21327" y="7877"/>
                  <a:pt x="21431" y="7838"/>
                </a:cubicBezTo>
                <a:cubicBezTo>
                  <a:pt x="21377" y="7795"/>
                  <a:pt x="21275" y="7705"/>
                  <a:pt x="21208" y="7764"/>
                </a:cubicBezTo>
                <a:cubicBezTo>
                  <a:pt x="21076" y="7881"/>
                  <a:pt x="21066" y="8076"/>
                  <a:pt x="21258" y="8111"/>
                </a:cubicBezTo>
                <a:cubicBezTo>
                  <a:pt x="21421" y="8140"/>
                  <a:pt x="21466" y="8080"/>
                  <a:pt x="21580" y="7987"/>
                </a:cubicBezTo>
              </a:path>
              <a:path w="3424" h="845">
                <a:moveTo>
                  <a:pt x="21654" y="7888"/>
                </a:moveTo>
                <a:cubicBezTo>
                  <a:pt x="21659" y="7956"/>
                  <a:pt x="21679" y="8105"/>
                  <a:pt x="21679" y="8037"/>
                </a:cubicBezTo>
                <a:cubicBezTo>
                  <a:pt x="21679" y="7921"/>
                  <a:pt x="21704" y="7814"/>
                  <a:pt x="21803" y="7739"/>
                </a:cubicBezTo>
                <a:cubicBezTo>
                  <a:pt x="21858" y="7711"/>
                  <a:pt x="21881" y="7703"/>
                  <a:pt x="21927" y="771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116920" y="2643120"/>
            <a:ext cx="839880" cy="455760"/>
          </a:xfrm>
          <a:custGeom>
            <a:avLst/>
            <a:gdLst/>
            <a:ahLst/>
            <a:rect l="l" t="t" r="r" b="b"/>
            <a:pathLst>
              <a:path w="2333" h="1266">
                <a:moveTo>
                  <a:pt x="23019" y="7417"/>
                </a:moveTo>
                <a:cubicBezTo>
                  <a:pt x="22910" y="7357"/>
                  <a:pt x="22789" y="7304"/>
                  <a:pt x="22671" y="7392"/>
                </a:cubicBezTo>
                <a:cubicBezTo>
                  <a:pt x="22544" y="7486"/>
                  <a:pt x="22790" y="7789"/>
                  <a:pt x="22820" y="7913"/>
                </a:cubicBezTo>
                <a:cubicBezTo>
                  <a:pt x="22820" y="7938"/>
                  <a:pt x="22820" y="7962"/>
                  <a:pt x="22820" y="7987"/>
                </a:cubicBezTo>
              </a:path>
              <a:path w="2333" h="1266">
                <a:moveTo>
                  <a:pt x="22547" y="7714"/>
                </a:moveTo>
                <a:cubicBezTo>
                  <a:pt x="22740" y="7714"/>
                  <a:pt x="22927" y="7699"/>
                  <a:pt x="23118" y="7689"/>
                </a:cubicBezTo>
                <a:cubicBezTo>
                  <a:pt x="23147" y="7688"/>
                  <a:pt x="23196" y="7824"/>
                  <a:pt x="23217" y="7863"/>
                </a:cubicBezTo>
                <a:cubicBezTo>
                  <a:pt x="23211" y="7802"/>
                  <a:pt x="23220" y="7645"/>
                  <a:pt x="23292" y="7615"/>
                </a:cubicBezTo>
                <a:cubicBezTo>
                  <a:pt x="23308" y="7615"/>
                  <a:pt x="23325" y="7615"/>
                  <a:pt x="23341" y="7615"/>
                </a:cubicBezTo>
              </a:path>
              <a:path w="2333" h="1266">
                <a:moveTo>
                  <a:pt x="23639" y="7615"/>
                </a:moveTo>
                <a:cubicBezTo>
                  <a:pt x="23578" y="7686"/>
                  <a:pt x="23394" y="7825"/>
                  <a:pt x="23515" y="7913"/>
                </a:cubicBezTo>
                <a:cubicBezTo>
                  <a:pt x="23647" y="8009"/>
                  <a:pt x="23749" y="7789"/>
                  <a:pt x="23688" y="7689"/>
                </a:cubicBezTo>
                <a:cubicBezTo>
                  <a:pt x="23647" y="7648"/>
                  <a:pt x="23639" y="7640"/>
                  <a:pt x="23614" y="7615"/>
                </a:cubicBezTo>
              </a:path>
              <a:path w="2333" h="1266">
                <a:moveTo>
                  <a:pt x="23862" y="7789"/>
                </a:moveTo>
                <a:cubicBezTo>
                  <a:pt x="23870" y="7805"/>
                  <a:pt x="23879" y="7822"/>
                  <a:pt x="23887" y="7838"/>
                </a:cubicBezTo>
                <a:cubicBezTo>
                  <a:pt x="23887" y="7748"/>
                  <a:pt x="23920" y="7656"/>
                  <a:pt x="23986" y="7590"/>
                </a:cubicBezTo>
                <a:cubicBezTo>
                  <a:pt x="24097" y="7478"/>
                  <a:pt x="24153" y="7803"/>
                  <a:pt x="24160" y="7813"/>
                </a:cubicBezTo>
                <a:cubicBezTo>
                  <a:pt x="24160" y="7797"/>
                  <a:pt x="24160" y="7780"/>
                  <a:pt x="24160" y="7764"/>
                </a:cubicBezTo>
                <a:cubicBezTo>
                  <a:pt x="24197" y="7689"/>
                  <a:pt x="24233" y="7629"/>
                  <a:pt x="24284" y="7565"/>
                </a:cubicBezTo>
                <a:cubicBezTo>
                  <a:pt x="24364" y="7646"/>
                  <a:pt x="24445" y="7727"/>
                  <a:pt x="24408" y="7838"/>
                </a:cubicBezTo>
              </a:path>
              <a:path w="2333" h="1266">
                <a:moveTo>
                  <a:pt x="23168" y="8260"/>
                </a:moveTo>
                <a:cubicBezTo>
                  <a:pt x="23168" y="8376"/>
                  <a:pt x="23168" y="8491"/>
                  <a:pt x="23168" y="8607"/>
                </a:cubicBezTo>
              </a:path>
              <a:path w="2333" h="1266">
                <a:moveTo>
                  <a:pt x="23440" y="8483"/>
                </a:moveTo>
                <a:cubicBezTo>
                  <a:pt x="23523" y="8483"/>
                  <a:pt x="23586" y="8454"/>
                  <a:pt x="23664" y="8434"/>
                </a:cubicBezTo>
                <a:cubicBezTo>
                  <a:pt x="23672" y="8434"/>
                  <a:pt x="23680" y="8434"/>
                  <a:pt x="23688" y="8434"/>
                </a:cubicBezTo>
                <a:cubicBezTo>
                  <a:pt x="23660" y="8413"/>
                  <a:pt x="23514" y="8295"/>
                  <a:pt x="23465" y="8334"/>
                </a:cubicBezTo>
                <a:cubicBezTo>
                  <a:pt x="23386" y="8397"/>
                  <a:pt x="23401" y="8481"/>
                  <a:pt x="23416" y="8558"/>
                </a:cubicBezTo>
                <a:cubicBezTo>
                  <a:pt x="23570" y="8572"/>
                  <a:pt x="23682" y="8559"/>
                  <a:pt x="23837" y="8533"/>
                </a:cubicBezTo>
              </a:path>
              <a:path w="2333" h="1266">
                <a:moveTo>
                  <a:pt x="24309" y="8161"/>
                </a:moveTo>
                <a:cubicBezTo>
                  <a:pt x="24258" y="8127"/>
                  <a:pt x="24186" y="8075"/>
                  <a:pt x="24135" y="8136"/>
                </a:cubicBezTo>
                <a:cubicBezTo>
                  <a:pt x="24038" y="8252"/>
                  <a:pt x="24131" y="8380"/>
                  <a:pt x="24160" y="8508"/>
                </a:cubicBezTo>
                <a:cubicBezTo>
                  <a:pt x="24160" y="8516"/>
                  <a:pt x="24160" y="8525"/>
                  <a:pt x="24160" y="8533"/>
                </a:cubicBezTo>
              </a:path>
              <a:path w="2333" h="1266">
                <a:moveTo>
                  <a:pt x="24581" y="8062"/>
                </a:moveTo>
                <a:cubicBezTo>
                  <a:pt x="24636" y="8132"/>
                  <a:pt x="24589" y="8223"/>
                  <a:pt x="24606" y="8310"/>
                </a:cubicBezTo>
                <a:cubicBezTo>
                  <a:pt x="24626" y="8414"/>
                  <a:pt x="24773" y="8425"/>
                  <a:pt x="24854" y="8409"/>
                </a:cubicBezTo>
                <a:cubicBezTo>
                  <a:pt x="24862" y="8401"/>
                  <a:pt x="24871" y="8392"/>
                  <a:pt x="24879" y="8384"/>
                </a:cubicBezTo>
              </a:path>
              <a:path w="2333" h="1266">
                <a:moveTo>
                  <a:pt x="24457" y="8210"/>
                </a:moveTo>
                <a:cubicBezTo>
                  <a:pt x="24603" y="8210"/>
                  <a:pt x="24738" y="8209"/>
                  <a:pt x="24879" y="818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43200" y="3089160"/>
            <a:ext cx="3643560" cy="322200"/>
          </a:xfrm>
          <a:custGeom>
            <a:avLst/>
            <a:gdLst/>
            <a:ahLst/>
            <a:rect l="l" t="t" r="r" b="b"/>
            <a:pathLst>
              <a:path w="10122" h="894">
                <a:moveTo>
                  <a:pt x="10616" y="8855"/>
                </a:moveTo>
                <a:cubicBezTo>
                  <a:pt x="10464" y="8872"/>
                  <a:pt x="10268" y="9072"/>
                  <a:pt x="10170" y="9227"/>
                </a:cubicBezTo>
                <a:cubicBezTo>
                  <a:pt x="10094" y="9347"/>
                  <a:pt x="10132" y="9505"/>
                  <a:pt x="10294" y="9475"/>
                </a:cubicBezTo>
                <a:cubicBezTo>
                  <a:pt x="10311" y="9467"/>
                  <a:pt x="10327" y="9459"/>
                  <a:pt x="10344" y="9451"/>
                </a:cubicBezTo>
              </a:path>
              <a:path w="10122" h="894">
                <a:moveTo>
                  <a:pt x="11584" y="9103"/>
                </a:moveTo>
                <a:cubicBezTo>
                  <a:pt x="11576" y="9103"/>
                  <a:pt x="11567" y="9103"/>
                  <a:pt x="11559" y="9103"/>
                </a:cubicBezTo>
              </a:path>
              <a:path w="10122" h="894">
                <a:moveTo>
                  <a:pt x="11509" y="9252"/>
                </a:moveTo>
                <a:cubicBezTo>
                  <a:pt x="11517" y="9252"/>
                  <a:pt x="11526" y="9252"/>
                  <a:pt x="11534" y="9252"/>
                </a:cubicBezTo>
              </a:path>
              <a:path w="10122" h="894">
                <a:moveTo>
                  <a:pt x="13444" y="9227"/>
                </a:moveTo>
                <a:cubicBezTo>
                  <a:pt x="13444" y="9244"/>
                  <a:pt x="13444" y="9260"/>
                  <a:pt x="13444" y="9277"/>
                </a:cubicBezTo>
              </a:path>
              <a:path w="10122" h="894">
                <a:moveTo>
                  <a:pt x="15528" y="9103"/>
                </a:moveTo>
                <a:cubicBezTo>
                  <a:pt x="15563" y="9255"/>
                  <a:pt x="15575" y="9333"/>
                  <a:pt x="15404" y="9376"/>
                </a:cubicBezTo>
                <a:cubicBezTo>
                  <a:pt x="15387" y="9376"/>
                  <a:pt x="15371" y="9376"/>
                  <a:pt x="15354" y="9376"/>
                </a:cubicBezTo>
              </a:path>
              <a:path w="10122" h="894">
                <a:moveTo>
                  <a:pt x="20117" y="8632"/>
                </a:moveTo>
                <a:cubicBezTo>
                  <a:pt x="20063" y="8605"/>
                  <a:pt x="20199" y="8596"/>
                  <a:pt x="20241" y="858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751200" y="3286080"/>
            <a:ext cx="276120" cy="88920"/>
          </a:xfrm>
          <a:custGeom>
            <a:avLst/>
            <a:gdLst/>
            <a:ahLst/>
            <a:rect l="l" t="t" r="r" b="b"/>
            <a:pathLst>
              <a:path w="770" h="249">
                <a:moveTo>
                  <a:pt x="10517" y="9227"/>
                </a:moveTo>
                <a:cubicBezTo>
                  <a:pt x="10601" y="9207"/>
                  <a:pt x="10620" y="9205"/>
                  <a:pt x="10666" y="9178"/>
                </a:cubicBezTo>
                <a:cubicBezTo>
                  <a:pt x="10631" y="9158"/>
                  <a:pt x="10565" y="9099"/>
                  <a:pt x="10517" y="9128"/>
                </a:cubicBezTo>
                <a:cubicBezTo>
                  <a:pt x="10432" y="9179"/>
                  <a:pt x="10431" y="9269"/>
                  <a:pt x="10418" y="9351"/>
                </a:cubicBezTo>
                <a:cubicBezTo>
                  <a:pt x="10586" y="9370"/>
                  <a:pt x="10638" y="9383"/>
                  <a:pt x="10790" y="9327"/>
                </a:cubicBezTo>
              </a:path>
              <a:path w="770" h="249">
                <a:moveTo>
                  <a:pt x="10889" y="9153"/>
                </a:moveTo>
                <a:cubicBezTo>
                  <a:pt x="10898" y="9219"/>
                  <a:pt x="10964" y="9306"/>
                  <a:pt x="11013" y="9327"/>
                </a:cubicBezTo>
                <a:cubicBezTo>
                  <a:pt x="11055" y="9327"/>
                  <a:pt x="11063" y="9327"/>
                  <a:pt x="11088" y="9327"/>
                </a:cubicBezTo>
              </a:path>
              <a:path w="770" h="249">
                <a:moveTo>
                  <a:pt x="11187" y="9128"/>
                </a:moveTo>
                <a:cubicBezTo>
                  <a:pt x="11101" y="9165"/>
                  <a:pt x="11009" y="9236"/>
                  <a:pt x="10964" y="9327"/>
                </a:cubicBezTo>
                <a:cubicBezTo>
                  <a:pt x="10964" y="9335"/>
                  <a:pt x="10964" y="9343"/>
                  <a:pt x="10964" y="935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394160" y="3170160"/>
            <a:ext cx="365040" cy="241200"/>
          </a:xfrm>
          <a:custGeom>
            <a:avLst/>
            <a:gdLst/>
            <a:ahLst/>
            <a:rect l="l" t="t" r="r" b="b"/>
            <a:pathLst>
              <a:path w="1018" h="670">
                <a:moveTo>
                  <a:pt x="12452" y="8880"/>
                </a:moveTo>
                <a:cubicBezTo>
                  <a:pt x="12504" y="8854"/>
                  <a:pt x="12613" y="8766"/>
                  <a:pt x="12675" y="8806"/>
                </a:cubicBezTo>
                <a:cubicBezTo>
                  <a:pt x="12692" y="8822"/>
                  <a:pt x="12708" y="8839"/>
                  <a:pt x="12725" y="8855"/>
                </a:cubicBezTo>
                <a:cubicBezTo>
                  <a:pt x="12725" y="9007"/>
                  <a:pt x="12646" y="9125"/>
                  <a:pt x="12477" y="9178"/>
                </a:cubicBezTo>
                <a:cubicBezTo>
                  <a:pt x="12341" y="9221"/>
                  <a:pt x="12265" y="9214"/>
                  <a:pt x="12204" y="9128"/>
                </a:cubicBezTo>
                <a:cubicBezTo>
                  <a:pt x="12359" y="9068"/>
                  <a:pt x="12445" y="9029"/>
                  <a:pt x="12601" y="9128"/>
                </a:cubicBezTo>
                <a:cubicBezTo>
                  <a:pt x="12679" y="9178"/>
                  <a:pt x="12622" y="9185"/>
                  <a:pt x="12675" y="9203"/>
                </a:cubicBezTo>
              </a:path>
              <a:path w="1018" h="670">
                <a:moveTo>
                  <a:pt x="12898" y="8855"/>
                </a:moveTo>
                <a:cubicBezTo>
                  <a:pt x="12970" y="8841"/>
                  <a:pt x="13097" y="8795"/>
                  <a:pt x="13171" y="8830"/>
                </a:cubicBezTo>
                <a:cubicBezTo>
                  <a:pt x="13179" y="8847"/>
                  <a:pt x="13188" y="8863"/>
                  <a:pt x="13196" y="8880"/>
                </a:cubicBezTo>
                <a:cubicBezTo>
                  <a:pt x="13108" y="8967"/>
                  <a:pt x="13075" y="8972"/>
                  <a:pt x="12948" y="9004"/>
                </a:cubicBezTo>
                <a:cubicBezTo>
                  <a:pt x="13025" y="9004"/>
                  <a:pt x="13099" y="8951"/>
                  <a:pt x="13171" y="9004"/>
                </a:cubicBezTo>
                <a:cubicBezTo>
                  <a:pt x="13292" y="9094"/>
                  <a:pt x="13185" y="9249"/>
                  <a:pt x="13072" y="9277"/>
                </a:cubicBezTo>
                <a:cubicBezTo>
                  <a:pt x="12948" y="9277"/>
                  <a:pt x="12907" y="9277"/>
                  <a:pt x="12824" y="9277"/>
                </a:cubicBezTo>
              </a:path>
              <a:path w="1018" h="670">
                <a:moveTo>
                  <a:pt x="12204" y="9451"/>
                </a:moveTo>
                <a:cubicBezTo>
                  <a:pt x="12214" y="9480"/>
                  <a:pt x="12238" y="9485"/>
                  <a:pt x="12278" y="9475"/>
                </a:cubicBezTo>
                <a:cubicBezTo>
                  <a:pt x="12387" y="9447"/>
                  <a:pt x="12488" y="9451"/>
                  <a:pt x="12601" y="9451"/>
                </a:cubicBezTo>
                <a:cubicBezTo>
                  <a:pt x="12655" y="9451"/>
                  <a:pt x="12655" y="9451"/>
                  <a:pt x="12601" y="9451"/>
                </a:cubicBezTo>
                <a:cubicBezTo>
                  <a:pt x="12474" y="9451"/>
                  <a:pt x="12356" y="9475"/>
                  <a:pt x="12229" y="9475"/>
                </a:cubicBezTo>
                <a:cubicBezTo>
                  <a:pt x="12221" y="9475"/>
                  <a:pt x="12212" y="9475"/>
                  <a:pt x="12204" y="9475"/>
                </a:cubicBezTo>
                <a:cubicBezTo>
                  <a:pt x="12338" y="9475"/>
                  <a:pt x="12467" y="9457"/>
                  <a:pt x="12601" y="9451"/>
                </a:cubicBezTo>
                <a:cubicBezTo>
                  <a:pt x="12644" y="9449"/>
                  <a:pt x="12567" y="9463"/>
                  <a:pt x="12526" y="9475"/>
                </a:cubicBezTo>
                <a:cubicBezTo>
                  <a:pt x="12427" y="9475"/>
                  <a:pt x="12182" y="9496"/>
                  <a:pt x="12278" y="9475"/>
                </a:cubicBezTo>
                <a:cubicBezTo>
                  <a:pt x="12409" y="9446"/>
                  <a:pt x="12757" y="9398"/>
                  <a:pt x="12626" y="9426"/>
                </a:cubicBezTo>
                <a:cubicBezTo>
                  <a:pt x="12543" y="9447"/>
                  <a:pt x="12528" y="9455"/>
                  <a:pt x="12477" y="945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11840" y="3143160"/>
            <a:ext cx="669960" cy="152640"/>
          </a:xfrm>
          <a:custGeom>
            <a:avLst/>
            <a:gdLst/>
            <a:ahLst/>
            <a:rect l="l" t="t" r="r" b="b"/>
            <a:pathLst>
              <a:path w="1861" h="423">
                <a:moveTo>
                  <a:pt x="13643" y="8830"/>
                </a:moveTo>
                <a:cubicBezTo>
                  <a:pt x="13775" y="8830"/>
                  <a:pt x="13907" y="8830"/>
                  <a:pt x="14039" y="8830"/>
                </a:cubicBezTo>
                <a:cubicBezTo>
                  <a:pt x="13994" y="8936"/>
                  <a:pt x="13914" y="9040"/>
                  <a:pt x="13866" y="9153"/>
                </a:cubicBezTo>
              </a:path>
              <a:path w="1861" h="423">
                <a:moveTo>
                  <a:pt x="14337" y="8855"/>
                </a:moveTo>
                <a:cubicBezTo>
                  <a:pt x="14374" y="8942"/>
                  <a:pt x="14268" y="9127"/>
                  <a:pt x="14362" y="9128"/>
                </a:cubicBezTo>
                <a:cubicBezTo>
                  <a:pt x="14379" y="9112"/>
                  <a:pt x="14395" y="9095"/>
                  <a:pt x="14412" y="9079"/>
                </a:cubicBezTo>
              </a:path>
              <a:path w="1861" h="423">
                <a:moveTo>
                  <a:pt x="14858" y="8781"/>
                </a:moveTo>
                <a:cubicBezTo>
                  <a:pt x="14780" y="8794"/>
                  <a:pt x="14745" y="8791"/>
                  <a:pt x="14709" y="8855"/>
                </a:cubicBezTo>
                <a:cubicBezTo>
                  <a:pt x="14686" y="8896"/>
                  <a:pt x="14648" y="8937"/>
                  <a:pt x="14684" y="8954"/>
                </a:cubicBezTo>
                <a:cubicBezTo>
                  <a:pt x="14803" y="9012"/>
                  <a:pt x="14832" y="8887"/>
                  <a:pt x="14932" y="9029"/>
                </a:cubicBezTo>
                <a:cubicBezTo>
                  <a:pt x="14932" y="9037"/>
                  <a:pt x="14932" y="9046"/>
                  <a:pt x="14932" y="9054"/>
                </a:cubicBezTo>
                <a:cubicBezTo>
                  <a:pt x="14848" y="9139"/>
                  <a:pt x="14830" y="9147"/>
                  <a:pt x="14709" y="9153"/>
                </a:cubicBezTo>
                <a:cubicBezTo>
                  <a:pt x="14681" y="9153"/>
                  <a:pt x="14670" y="9151"/>
                  <a:pt x="14660" y="9128"/>
                </a:cubicBezTo>
              </a:path>
              <a:path w="1861" h="423">
                <a:moveTo>
                  <a:pt x="14883" y="8830"/>
                </a:moveTo>
                <a:cubicBezTo>
                  <a:pt x="14947" y="8830"/>
                  <a:pt x="14994" y="8811"/>
                  <a:pt x="15056" y="8806"/>
                </a:cubicBezTo>
                <a:cubicBezTo>
                  <a:pt x="15064" y="8806"/>
                  <a:pt x="15073" y="8806"/>
                  <a:pt x="15081" y="8806"/>
                </a:cubicBezTo>
              </a:path>
              <a:path w="1861" h="423">
                <a:moveTo>
                  <a:pt x="15429" y="8756"/>
                </a:moveTo>
                <a:cubicBezTo>
                  <a:pt x="15429" y="8801"/>
                  <a:pt x="15447" y="8845"/>
                  <a:pt x="15503" y="8781"/>
                </a:cubicBezTo>
                <a:cubicBezTo>
                  <a:pt x="15511" y="8772"/>
                  <a:pt x="15394" y="8695"/>
                  <a:pt x="15453" y="875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796000" y="3125880"/>
            <a:ext cx="320760" cy="152280"/>
          </a:xfrm>
          <a:custGeom>
            <a:avLst/>
            <a:gdLst/>
            <a:ahLst/>
            <a:rect l="l" t="t" r="r" b="b"/>
            <a:pathLst>
              <a:path w="894" h="422">
                <a:moveTo>
                  <a:pt x="16396" y="8682"/>
                </a:moveTo>
                <a:cubicBezTo>
                  <a:pt x="16274" y="8716"/>
                  <a:pt x="16188" y="8791"/>
                  <a:pt x="16123" y="8905"/>
                </a:cubicBezTo>
                <a:cubicBezTo>
                  <a:pt x="16046" y="9041"/>
                  <a:pt x="16175" y="9106"/>
                  <a:pt x="16297" y="9103"/>
                </a:cubicBezTo>
                <a:cubicBezTo>
                  <a:pt x="16415" y="9100"/>
                  <a:pt x="16564" y="9057"/>
                  <a:pt x="16594" y="8930"/>
                </a:cubicBezTo>
                <a:cubicBezTo>
                  <a:pt x="16612" y="8852"/>
                  <a:pt x="16543" y="8785"/>
                  <a:pt x="16495" y="8731"/>
                </a:cubicBezTo>
                <a:cubicBezTo>
                  <a:pt x="16468" y="8701"/>
                  <a:pt x="16457" y="8691"/>
                  <a:pt x="16421" y="8682"/>
                </a:cubicBezTo>
              </a:path>
              <a:path w="894" h="422">
                <a:moveTo>
                  <a:pt x="16892" y="8979"/>
                </a:moveTo>
                <a:cubicBezTo>
                  <a:pt x="16930" y="9017"/>
                  <a:pt x="16938" y="9029"/>
                  <a:pt x="16991" y="9029"/>
                </a:cubicBezTo>
                <a:cubicBezTo>
                  <a:pt x="16991" y="9004"/>
                  <a:pt x="16991" y="8996"/>
                  <a:pt x="16966" y="900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276960" y="3036960"/>
            <a:ext cx="1216080" cy="249120"/>
          </a:xfrm>
          <a:custGeom>
            <a:avLst/>
            <a:gdLst/>
            <a:ahLst/>
            <a:rect l="l" t="t" r="r" b="b"/>
            <a:pathLst>
              <a:path w="3374" h="695">
                <a:moveTo>
                  <a:pt x="17636" y="8756"/>
                </a:moveTo>
                <a:cubicBezTo>
                  <a:pt x="17513" y="8756"/>
                  <a:pt x="17479" y="8801"/>
                  <a:pt x="17438" y="8930"/>
                </a:cubicBezTo>
                <a:cubicBezTo>
                  <a:pt x="17438" y="8946"/>
                  <a:pt x="17438" y="8963"/>
                  <a:pt x="17438" y="8979"/>
                </a:cubicBezTo>
                <a:cubicBezTo>
                  <a:pt x="17537" y="9049"/>
                  <a:pt x="17623" y="9097"/>
                  <a:pt x="17711" y="8979"/>
                </a:cubicBezTo>
                <a:cubicBezTo>
                  <a:pt x="17767" y="8904"/>
                  <a:pt x="17747" y="8836"/>
                  <a:pt x="17661" y="8806"/>
                </a:cubicBezTo>
                <a:cubicBezTo>
                  <a:pt x="17636" y="8806"/>
                  <a:pt x="17628" y="8806"/>
                  <a:pt x="17636" y="8781"/>
                </a:cubicBezTo>
              </a:path>
              <a:path w="3374" h="695">
                <a:moveTo>
                  <a:pt x="18157" y="8756"/>
                </a:moveTo>
                <a:cubicBezTo>
                  <a:pt x="18119" y="8700"/>
                  <a:pt x="18028" y="8754"/>
                  <a:pt x="18008" y="8830"/>
                </a:cubicBezTo>
                <a:cubicBezTo>
                  <a:pt x="17973" y="8963"/>
                  <a:pt x="18058" y="9051"/>
                  <a:pt x="18182" y="9004"/>
                </a:cubicBezTo>
                <a:cubicBezTo>
                  <a:pt x="18322" y="8950"/>
                  <a:pt x="18238" y="8868"/>
                  <a:pt x="18207" y="8781"/>
                </a:cubicBezTo>
                <a:cubicBezTo>
                  <a:pt x="18207" y="8756"/>
                  <a:pt x="18207" y="8748"/>
                  <a:pt x="18182" y="8756"/>
                </a:cubicBezTo>
              </a:path>
              <a:path w="3374" h="695">
                <a:moveTo>
                  <a:pt x="18554" y="8657"/>
                </a:moveTo>
                <a:cubicBezTo>
                  <a:pt x="18657" y="8640"/>
                  <a:pt x="18745" y="8612"/>
                  <a:pt x="18852" y="8607"/>
                </a:cubicBezTo>
                <a:cubicBezTo>
                  <a:pt x="18942" y="8603"/>
                  <a:pt x="18813" y="8726"/>
                  <a:pt x="18728" y="8756"/>
                </a:cubicBezTo>
                <a:cubicBezTo>
                  <a:pt x="18812" y="8756"/>
                  <a:pt x="18916" y="8760"/>
                  <a:pt x="18976" y="8830"/>
                </a:cubicBezTo>
                <a:cubicBezTo>
                  <a:pt x="19082" y="8954"/>
                  <a:pt x="18813" y="8949"/>
                  <a:pt x="18752" y="8954"/>
                </a:cubicBezTo>
              </a:path>
              <a:path w="3374" h="695">
                <a:moveTo>
                  <a:pt x="19273" y="8632"/>
                </a:moveTo>
                <a:cubicBezTo>
                  <a:pt x="19298" y="8595"/>
                  <a:pt x="19429" y="8573"/>
                  <a:pt x="19496" y="8558"/>
                </a:cubicBezTo>
                <a:cubicBezTo>
                  <a:pt x="19524" y="8558"/>
                  <a:pt x="19535" y="8560"/>
                  <a:pt x="19546" y="8582"/>
                </a:cubicBezTo>
                <a:cubicBezTo>
                  <a:pt x="19522" y="8690"/>
                  <a:pt x="19472" y="8796"/>
                  <a:pt x="19447" y="8905"/>
                </a:cubicBezTo>
                <a:cubicBezTo>
                  <a:pt x="19447" y="8930"/>
                  <a:pt x="19447" y="8938"/>
                  <a:pt x="19447" y="8954"/>
                </a:cubicBezTo>
              </a:path>
              <a:path w="3374" h="695">
                <a:moveTo>
                  <a:pt x="20092" y="8632"/>
                </a:moveTo>
                <a:cubicBezTo>
                  <a:pt x="20092" y="8607"/>
                  <a:pt x="20092" y="8599"/>
                  <a:pt x="20117" y="8607"/>
                </a:cubicBezTo>
                <a:cubicBezTo>
                  <a:pt x="20009" y="8607"/>
                  <a:pt x="20015" y="8627"/>
                  <a:pt x="19943" y="8706"/>
                </a:cubicBezTo>
                <a:cubicBezTo>
                  <a:pt x="19894" y="8760"/>
                  <a:pt x="19883" y="8739"/>
                  <a:pt x="19869" y="8781"/>
                </a:cubicBezTo>
                <a:cubicBezTo>
                  <a:pt x="19937" y="8781"/>
                  <a:pt x="20029" y="8791"/>
                  <a:pt x="20092" y="8806"/>
                </a:cubicBezTo>
                <a:cubicBezTo>
                  <a:pt x="20145" y="8819"/>
                  <a:pt x="20158" y="8886"/>
                  <a:pt x="20191" y="8930"/>
                </a:cubicBezTo>
                <a:cubicBezTo>
                  <a:pt x="20114" y="9032"/>
                  <a:pt x="20027" y="9055"/>
                  <a:pt x="19893" y="9029"/>
                </a:cubicBezTo>
                <a:cubicBezTo>
                  <a:pt x="19877" y="9021"/>
                  <a:pt x="19860" y="9012"/>
                  <a:pt x="19844" y="9004"/>
                </a:cubicBezTo>
              </a:path>
              <a:path w="3374" h="695">
                <a:moveTo>
                  <a:pt x="20414" y="8434"/>
                </a:moveTo>
                <a:cubicBezTo>
                  <a:pt x="20596" y="8524"/>
                  <a:pt x="20820" y="8637"/>
                  <a:pt x="20811" y="8880"/>
                </a:cubicBezTo>
                <a:cubicBezTo>
                  <a:pt x="20807" y="8975"/>
                  <a:pt x="20701" y="9082"/>
                  <a:pt x="20638" y="9103"/>
                </a:cubicBezTo>
              </a:path>
              <a:path w="3374" h="695">
                <a:moveTo>
                  <a:pt x="18728" y="9128"/>
                </a:moveTo>
                <a:cubicBezTo>
                  <a:pt x="18765" y="9115"/>
                  <a:pt x="18749" y="9103"/>
                  <a:pt x="18802" y="9103"/>
                </a:cubicBezTo>
                <a:cubicBezTo>
                  <a:pt x="18836" y="9103"/>
                  <a:pt x="19048" y="9103"/>
                  <a:pt x="18926" y="9103"/>
                </a:cubicBezTo>
                <a:cubicBezTo>
                  <a:pt x="18852" y="9103"/>
                  <a:pt x="18801" y="9128"/>
                  <a:pt x="18728" y="9128"/>
                </a:cubicBezTo>
                <a:cubicBezTo>
                  <a:pt x="18736" y="9128"/>
                  <a:pt x="18744" y="9128"/>
                  <a:pt x="18752" y="9128"/>
                </a:cubicBezTo>
                <a:cubicBezTo>
                  <a:pt x="18832" y="9104"/>
                  <a:pt x="18916" y="9085"/>
                  <a:pt x="19000" y="9079"/>
                </a:cubicBezTo>
                <a:cubicBezTo>
                  <a:pt x="19025" y="9077"/>
                  <a:pt x="19050" y="9079"/>
                  <a:pt x="19075" y="907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52360" y="3537000"/>
            <a:ext cx="5769000" cy="347760"/>
          </a:xfrm>
          <a:custGeom>
            <a:avLst/>
            <a:gdLst/>
            <a:ahLst/>
            <a:rect l="l" t="t" r="r" b="b"/>
            <a:pathLst>
              <a:path w="16025" h="968">
                <a:moveTo>
                  <a:pt x="3200" y="10790"/>
                </a:moveTo>
                <a:cubicBezTo>
                  <a:pt x="3410" y="10781"/>
                  <a:pt x="3614" y="10756"/>
                  <a:pt x="3820" y="10716"/>
                </a:cubicBezTo>
              </a:path>
              <a:path w="16025" h="968">
                <a:moveTo>
                  <a:pt x="5482" y="10616"/>
                </a:moveTo>
                <a:lnTo>
                  <a:pt x="5482" y="10616"/>
                </a:lnTo>
                <a:lnTo>
                  <a:pt x="5482" y="10616"/>
                </a:lnTo>
              </a:path>
              <a:path w="16025" h="968">
                <a:moveTo>
                  <a:pt x="5482" y="10616"/>
                </a:moveTo>
                <a:lnTo>
                  <a:pt x="5482" y="10616"/>
                </a:lnTo>
              </a:path>
              <a:path w="16025" h="968">
                <a:moveTo>
                  <a:pt x="11906" y="10244"/>
                </a:moveTo>
                <a:lnTo>
                  <a:pt x="11906" y="10244"/>
                </a:lnTo>
                <a:lnTo>
                  <a:pt x="11906" y="10244"/>
                </a:lnTo>
              </a:path>
              <a:path w="16025" h="968">
                <a:moveTo>
                  <a:pt x="11906" y="10244"/>
                </a:moveTo>
                <a:lnTo>
                  <a:pt x="11906" y="10244"/>
                </a:lnTo>
              </a:path>
              <a:path w="16025" h="968">
                <a:moveTo>
                  <a:pt x="19124" y="9947"/>
                </a:moveTo>
                <a:cubicBezTo>
                  <a:pt x="19141" y="9982"/>
                  <a:pt x="19215" y="10158"/>
                  <a:pt x="19224" y="10170"/>
                </a:cubicBezTo>
              </a:path>
              <a:path w="16025" h="968">
                <a:moveTo>
                  <a:pt x="19199" y="9823"/>
                </a:moveTo>
                <a:lnTo>
                  <a:pt x="19199" y="9823"/>
                </a:lnTo>
                <a:lnTo>
                  <a:pt x="19199" y="9823"/>
                </a:lnTo>
              </a:path>
              <a:path w="16025" h="968">
                <a:moveTo>
                  <a:pt x="19199" y="9823"/>
                </a:moveTo>
                <a:lnTo>
                  <a:pt x="19199" y="9823"/>
                </a:ln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258920" y="3776760"/>
            <a:ext cx="285840" cy="188640"/>
          </a:xfrm>
          <a:custGeom>
            <a:avLst/>
            <a:gdLst/>
            <a:ahLst/>
            <a:rect l="l" t="t" r="r" b="b"/>
            <a:pathLst>
              <a:path w="795" h="522">
                <a:moveTo>
                  <a:pt x="3497" y="10492"/>
                </a:moveTo>
                <a:cubicBezTo>
                  <a:pt x="3497" y="10629"/>
                  <a:pt x="3512" y="10755"/>
                  <a:pt x="3522" y="10889"/>
                </a:cubicBezTo>
                <a:cubicBezTo>
                  <a:pt x="3522" y="10963"/>
                  <a:pt x="3522" y="10972"/>
                  <a:pt x="3522" y="11013"/>
                </a:cubicBezTo>
              </a:path>
              <a:path w="795" h="522">
                <a:moveTo>
                  <a:pt x="4118" y="10691"/>
                </a:moveTo>
                <a:cubicBezTo>
                  <a:pt x="3983" y="10749"/>
                  <a:pt x="3946" y="10810"/>
                  <a:pt x="3894" y="10939"/>
                </a:cubicBezTo>
                <a:cubicBezTo>
                  <a:pt x="3982" y="10983"/>
                  <a:pt x="4188" y="11027"/>
                  <a:pt x="4266" y="10914"/>
                </a:cubicBezTo>
                <a:cubicBezTo>
                  <a:pt x="4371" y="10762"/>
                  <a:pt x="4220" y="10730"/>
                  <a:pt x="4118" y="1071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76240" y="3759120"/>
            <a:ext cx="706680" cy="196920"/>
          </a:xfrm>
          <a:custGeom>
            <a:avLst/>
            <a:gdLst/>
            <a:ahLst/>
            <a:rect l="l" t="t" r="r" b="b"/>
            <a:pathLst>
              <a:path w="1961" h="546">
                <a:moveTo>
                  <a:pt x="5333" y="10567"/>
                </a:moveTo>
                <a:cubicBezTo>
                  <a:pt x="5333" y="10501"/>
                  <a:pt x="5331" y="10474"/>
                  <a:pt x="5259" y="10468"/>
                </a:cubicBezTo>
                <a:cubicBezTo>
                  <a:pt x="5168" y="10460"/>
                  <a:pt x="5107" y="10445"/>
                  <a:pt x="5110" y="10567"/>
                </a:cubicBezTo>
                <a:cubicBezTo>
                  <a:pt x="5114" y="10730"/>
                  <a:pt x="5201" y="10828"/>
                  <a:pt x="5259" y="10964"/>
                </a:cubicBezTo>
                <a:cubicBezTo>
                  <a:pt x="5259" y="10972"/>
                  <a:pt x="5259" y="10980"/>
                  <a:pt x="5259" y="10988"/>
                </a:cubicBezTo>
              </a:path>
              <a:path w="1961" h="546">
                <a:moveTo>
                  <a:pt x="4936" y="10815"/>
                </a:moveTo>
                <a:cubicBezTo>
                  <a:pt x="5103" y="10801"/>
                  <a:pt x="5263" y="10790"/>
                  <a:pt x="5432" y="10790"/>
                </a:cubicBezTo>
                <a:cubicBezTo>
                  <a:pt x="5495" y="10790"/>
                  <a:pt x="5550" y="10867"/>
                  <a:pt x="5581" y="10914"/>
                </a:cubicBezTo>
                <a:cubicBezTo>
                  <a:pt x="5635" y="10997"/>
                  <a:pt x="5632" y="10986"/>
                  <a:pt x="5581" y="10864"/>
                </a:cubicBezTo>
              </a:path>
              <a:path w="1961" h="546">
                <a:moveTo>
                  <a:pt x="5755" y="10815"/>
                </a:moveTo>
                <a:cubicBezTo>
                  <a:pt x="5821" y="10881"/>
                  <a:pt x="5838" y="10898"/>
                  <a:pt x="5879" y="10939"/>
                </a:cubicBezTo>
                <a:cubicBezTo>
                  <a:pt x="5920" y="10918"/>
                  <a:pt x="5797" y="10852"/>
                  <a:pt x="5829" y="10765"/>
                </a:cubicBezTo>
                <a:cubicBezTo>
                  <a:pt x="5887" y="10608"/>
                  <a:pt x="6177" y="10710"/>
                  <a:pt x="6251" y="10790"/>
                </a:cubicBezTo>
                <a:cubicBezTo>
                  <a:pt x="6373" y="10921"/>
                  <a:pt x="6168" y="10887"/>
                  <a:pt x="6375" y="10939"/>
                </a:cubicBezTo>
              </a:path>
              <a:path w="1961" h="546">
                <a:moveTo>
                  <a:pt x="6871" y="10815"/>
                </a:moveTo>
                <a:cubicBezTo>
                  <a:pt x="6871" y="10697"/>
                  <a:pt x="6853" y="10664"/>
                  <a:pt x="6722" y="10641"/>
                </a:cubicBezTo>
                <a:cubicBezTo>
                  <a:pt x="6598" y="10619"/>
                  <a:pt x="6499" y="10747"/>
                  <a:pt x="6499" y="10864"/>
                </a:cubicBezTo>
                <a:cubicBezTo>
                  <a:pt x="6507" y="10889"/>
                  <a:pt x="6516" y="10914"/>
                  <a:pt x="6524" y="10939"/>
                </a:cubicBezTo>
                <a:cubicBezTo>
                  <a:pt x="6744" y="10918"/>
                  <a:pt x="6846" y="10919"/>
                  <a:pt x="6846" y="10691"/>
                </a:cubicBezTo>
              </a:path>
              <a:path w="1961" h="546">
                <a:moveTo>
                  <a:pt x="6697" y="10443"/>
                </a:moveTo>
                <a:cubicBezTo>
                  <a:pt x="6739" y="10569"/>
                  <a:pt x="6793" y="10710"/>
                  <a:pt x="6846" y="10840"/>
                </a:cubicBezTo>
                <a:cubicBezTo>
                  <a:pt x="6866" y="10880"/>
                  <a:pt x="6865" y="10896"/>
                  <a:pt x="6896" y="1088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1760" y="3759120"/>
            <a:ext cx="339480" cy="125640"/>
          </a:xfrm>
          <a:custGeom>
            <a:avLst/>
            <a:gdLst/>
            <a:ahLst/>
            <a:rect l="l" t="t" r="r" b="b"/>
            <a:pathLst>
              <a:path w="944" h="348">
                <a:moveTo>
                  <a:pt x="7987" y="10567"/>
                </a:moveTo>
                <a:cubicBezTo>
                  <a:pt x="7987" y="10592"/>
                  <a:pt x="7913" y="10488"/>
                  <a:pt x="7838" y="10468"/>
                </a:cubicBezTo>
                <a:cubicBezTo>
                  <a:pt x="7708" y="10432"/>
                  <a:pt x="7555" y="10547"/>
                  <a:pt x="7615" y="10691"/>
                </a:cubicBezTo>
                <a:cubicBezTo>
                  <a:pt x="7675" y="10836"/>
                  <a:pt x="7864" y="10791"/>
                  <a:pt x="7938" y="10691"/>
                </a:cubicBezTo>
                <a:cubicBezTo>
                  <a:pt x="7956" y="10633"/>
                  <a:pt x="7964" y="10627"/>
                  <a:pt x="7962" y="10592"/>
                </a:cubicBezTo>
                <a:cubicBezTo>
                  <a:pt x="7974" y="10650"/>
                  <a:pt x="7996" y="10707"/>
                  <a:pt x="8062" y="10716"/>
                </a:cubicBezTo>
                <a:cubicBezTo>
                  <a:pt x="8121" y="10716"/>
                  <a:pt x="8141" y="10706"/>
                  <a:pt x="8136" y="10641"/>
                </a:cubicBezTo>
              </a:path>
              <a:path w="944" h="348">
                <a:moveTo>
                  <a:pt x="8136" y="10542"/>
                </a:moveTo>
                <a:cubicBezTo>
                  <a:pt x="8162" y="10600"/>
                  <a:pt x="8185" y="10658"/>
                  <a:pt x="8210" y="10716"/>
                </a:cubicBezTo>
                <a:cubicBezTo>
                  <a:pt x="8155" y="10648"/>
                  <a:pt x="8074" y="10541"/>
                  <a:pt x="8186" y="10468"/>
                </a:cubicBezTo>
                <a:cubicBezTo>
                  <a:pt x="8323" y="10379"/>
                  <a:pt x="8517" y="10512"/>
                  <a:pt x="8558" y="10641"/>
                </a:cubicBezTo>
                <a:cubicBezTo>
                  <a:pt x="8558" y="10658"/>
                  <a:pt x="8558" y="10674"/>
                  <a:pt x="8558" y="1069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86080" y="3606840"/>
            <a:ext cx="1839960" cy="349200"/>
          </a:xfrm>
          <a:custGeom>
            <a:avLst/>
            <a:gdLst/>
            <a:ahLst/>
            <a:rect l="l" t="t" r="r" b="b"/>
            <a:pathLst>
              <a:path w="5111" h="968">
                <a:moveTo>
                  <a:pt x="9376" y="10542"/>
                </a:moveTo>
                <a:cubicBezTo>
                  <a:pt x="9409" y="10575"/>
                  <a:pt x="9395" y="10513"/>
                  <a:pt x="9401" y="10468"/>
                </a:cubicBezTo>
                <a:cubicBezTo>
                  <a:pt x="9318" y="10385"/>
                  <a:pt x="9206" y="10469"/>
                  <a:pt x="9153" y="10567"/>
                </a:cubicBezTo>
                <a:cubicBezTo>
                  <a:pt x="9041" y="10775"/>
                  <a:pt x="9355" y="10795"/>
                  <a:pt x="9426" y="10666"/>
                </a:cubicBezTo>
                <a:cubicBezTo>
                  <a:pt x="9455" y="10614"/>
                  <a:pt x="9460" y="10542"/>
                  <a:pt x="9401" y="10542"/>
                </a:cubicBezTo>
                <a:cubicBezTo>
                  <a:pt x="9480" y="10647"/>
                  <a:pt x="9476" y="10722"/>
                  <a:pt x="9599" y="10691"/>
                </a:cubicBezTo>
              </a:path>
              <a:path w="5111" h="968">
                <a:moveTo>
                  <a:pt x="9674" y="10492"/>
                </a:moveTo>
                <a:cubicBezTo>
                  <a:pt x="9709" y="10653"/>
                  <a:pt x="9776" y="10806"/>
                  <a:pt x="9823" y="10964"/>
                </a:cubicBezTo>
                <a:cubicBezTo>
                  <a:pt x="9823" y="10972"/>
                  <a:pt x="9823" y="10980"/>
                  <a:pt x="9823" y="10988"/>
                </a:cubicBezTo>
                <a:cubicBezTo>
                  <a:pt x="9727" y="10941"/>
                  <a:pt x="9699" y="10719"/>
                  <a:pt x="9699" y="10616"/>
                </a:cubicBezTo>
                <a:cubicBezTo>
                  <a:pt x="9699" y="10474"/>
                  <a:pt x="9730" y="10274"/>
                  <a:pt x="9922" y="10393"/>
                </a:cubicBezTo>
                <a:cubicBezTo>
                  <a:pt x="10012" y="10483"/>
                  <a:pt x="10045" y="10502"/>
                  <a:pt x="10021" y="10592"/>
                </a:cubicBezTo>
                <a:cubicBezTo>
                  <a:pt x="9865" y="10646"/>
                  <a:pt x="9595" y="10771"/>
                  <a:pt x="9699" y="10567"/>
                </a:cubicBezTo>
              </a:path>
              <a:path w="5111" h="968">
                <a:moveTo>
                  <a:pt x="10145" y="10443"/>
                </a:moveTo>
                <a:cubicBezTo>
                  <a:pt x="10203" y="10558"/>
                  <a:pt x="10269" y="10667"/>
                  <a:pt x="10294" y="10790"/>
                </a:cubicBezTo>
                <a:cubicBezTo>
                  <a:pt x="10268" y="10672"/>
                  <a:pt x="10185" y="10555"/>
                  <a:pt x="10220" y="10418"/>
                </a:cubicBezTo>
                <a:cubicBezTo>
                  <a:pt x="10259" y="10264"/>
                  <a:pt x="10456" y="10362"/>
                  <a:pt x="10517" y="10443"/>
                </a:cubicBezTo>
                <a:cubicBezTo>
                  <a:pt x="10525" y="10468"/>
                  <a:pt x="10534" y="10492"/>
                  <a:pt x="10542" y="10517"/>
                </a:cubicBezTo>
                <a:cubicBezTo>
                  <a:pt x="10429" y="10598"/>
                  <a:pt x="10321" y="10677"/>
                  <a:pt x="10244" y="10542"/>
                </a:cubicBezTo>
              </a:path>
              <a:path w="5111" h="968">
                <a:moveTo>
                  <a:pt x="10666" y="10368"/>
                </a:moveTo>
                <a:cubicBezTo>
                  <a:pt x="10674" y="10444"/>
                  <a:pt x="10685" y="10516"/>
                  <a:pt x="10691" y="10592"/>
                </a:cubicBezTo>
                <a:cubicBezTo>
                  <a:pt x="10670" y="10449"/>
                  <a:pt x="10633" y="10426"/>
                  <a:pt x="10790" y="10418"/>
                </a:cubicBezTo>
                <a:cubicBezTo>
                  <a:pt x="10890" y="10413"/>
                  <a:pt x="10971" y="10415"/>
                  <a:pt x="11063" y="10443"/>
                </a:cubicBezTo>
                <a:cubicBezTo>
                  <a:pt x="11039" y="10482"/>
                  <a:pt x="10870" y="10688"/>
                  <a:pt x="11013" y="10691"/>
                </a:cubicBezTo>
                <a:cubicBezTo>
                  <a:pt x="11241" y="10696"/>
                  <a:pt x="11425" y="10533"/>
                  <a:pt x="11162" y="10393"/>
                </a:cubicBezTo>
                <a:cubicBezTo>
                  <a:pt x="11129" y="10385"/>
                  <a:pt x="11096" y="10376"/>
                  <a:pt x="11063" y="10368"/>
                </a:cubicBezTo>
              </a:path>
              <a:path w="5111" h="968">
                <a:moveTo>
                  <a:pt x="11435" y="10368"/>
                </a:moveTo>
                <a:cubicBezTo>
                  <a:pt x="11496" y="10475"/>
                  <a:pt x="11615" y="10560"/>
                  <a:pt x="11733" y="10616"/>
                </a:cubicBezTo>
                <a:cubicBezTo>
                  <a:pt x="11757" y="10616"/>
                  <a:pt x="11766" y="10616"/>
                  <a:pt x="11782" y="10616"/>
                </a:cubicBezTo>
              </a:path>
              <a:path w="5111" h="968">
                <a:moveTo>
                  <a:pt x="11757" y="10319"/>
                </a:moveTo>
                <a:cubicBezTo>
                  <a:pt x="11671" y="10420"/>
                  <a:pt x="11575" y="10526"/>
                  <a:pt x="11509" y="10641"/>
                </a:cubicBezTo>
                <a:cubicBezTo>
                  <a:pt x="11486" y="10689"/>
                  <a:pt x="11476" y="10706"/>
                  <a:pt x="11534" y="10691"/>
                </a:cubicBezTo>
              </a:path>
              <a:path w="5111" h="968">
                <a:moveTo>
                  <a:pt x="11931" y="10368"/>
                </a:moveTo>
                <a:cubicBezTo>
                  <a:pt x="11983" y="10447"/>
                  <a:pt x="11988" y="10524"/>
                  <a:pt x="12005" y="10616"/>
                </a:cubicBezTo>
                <a:cubicBezTo>
                  <a:pt x="12005" y="10559"/>
                  <a:pt x="12005" y="10517"/>
                  <a:pt x="12005" y="10468"/>
                </a:cubicBezTo>
              </a:path>
              <a:path w="5111" h="968">
                <a:moveTo>
                  <a:pt x="12154" y="10418"/>
                </a:moveTo>
                <a:cubicBezTo>
                  <a:pt x="12154" y="10470"/>
                  <a:pt x="12155" y="10488"/>
                  <a:pt x="12179" y="10517"/>
                </a:cubicBezTo>
                <a:cubicBezTo>
                  <a:pt x="12252" y="10565"/>
                  <a:pt x="12178" y="10395"/>
                  <a:pt x="12204" y="10344"/>
                </a:cubicBezTo>
                <a:cubicBezTo>
                  <a:pt x="12267" y="10219"/>
                  <a:pt x="12456" y="10259"/>
                  <a:pt x="12526" y="10344"/>
                </a:cubicBezTo>
                <a:cubicBezTo>
                  <a:pt x="12563" y="10417"/>
                  <a:pt x="12580" y="10422"/>
                  <a:pt x="12576" y="10468"/>
                </a:cubicBezTo>
                <a:cubicBezTo>
                  <a:pt x="12576" y="10400"/>
                  <a:pt x="12544" y="10315"/>
                  <a:pt x="12626" y="10294"/>
                </a:cubicBezTo>
                <a:cubicBezTo>
                  <a:pt x="12723" y="10269"/>
                  <a:pt x="12849" y="10404"/>
                  <a:pt x="12849" y="10492"/>
                </a:cubicBezTo>
                <a:cubicBezTo>
                  <a:pt x="12841" y="10500"/>
                  <a:pt x="12832" y="10509"/>
                  <a:pt x="12824" y="10517"/>
                </a:cubicBezTo>
              </a:path>
              <a:path w="5111" h="968">
                <a:moveTo>
                  <a:pt x="13395" y="10368"/>
                </a:moveTo>
                <a:cubicBezTo>
                  <a:pt x="13328" y="10320"/>
                  <a:pt x="13212" y="10257"/>
                  <a:pt x="13122" y="10294"/>
                </a:cubicBezTo>
                <a:cubicBezTo>
                  <a:pt x="12922" y="10375"/>
                  <a:pt x="12938" y="10591"/>
                  <a:pt x="13171" y="10492"/>
                </a:cubicBezTo>
                <a:cubicBezTo>
                  <a:pt x="13228" y="10436"/>
                  <a:pt x="13245" y="10410"/>
                  <a:pt x="13221" y="10344"/>
                </a:cubicBezTo>
                <a:cubicBezTo>
                  <a:pt x="13263" y="10489"/>
                  <a:pt x="13288" y="10503"/>
                  <a:pt x="13419" y="10492"/>
                </a:cubicBezTo>
              </a:path>
              <a:path w="5111" h="968">
                <a:moveTo>
                  <a:pt x="13568" y="10021"/>
                </a:moveTo>
                <a:cubicBezTo>
                  <a:pt x="13593" y="10102"/>
                  <a:pt x="13647" y="10464"/>
                  <a:pt x="13667" y="10443"/>
                </a:cubicBezTo>
              </a:path>
              <a:path w="5111" h="968">
                <a:moveTo>
                  <a:pt x="13469" y="10220"/>
                </a:moveTo>
                <a:cubicBezTo>
                  <a:pt x="13609" y="10220"/>
                  <a:pt x="13818" y="10197"/>
                  <a:pt x="13915" y="10244"/>
                </a:cubicBezTo>
              </a:path>
              <a:path w="5111" h="968">
                <a:moveTo>
                  <a:pt x="14089" y="10294"/>
                </a:moveTo>
                <a:cubicBezTo>
                  <a:pt x="14160" y="10278"/>
                  <a:pt x="14178" y="10269"/>
                  <a:pt x="14238" y="10269"/>
                </a:cubicBezTo>
                <a:cubicBezTo>
                  <a:pt x="14186" y="10180"/>
                  <a:pt x="14152" y="10149"/>
                  <a:pt x="14039" y="10195"/>
                </a:cubicBezTo>
                <a:cubicBezTo>
                  <a:pt x="13910" y="10248"/>
                  <a:pt x="13893" y="10410"/>
                  <a:pt x="14039" y="10418"/>
                </a:cubicBezTo>
                <a:cubicBezTo>
                  <a:pt x="14140" y="10418"/>
                  <a:pt x="14161" y="10428"/>
                  <a:pt x="14213" y="1039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81800" y="3544920"/>
            <a:ext cx="642960" cy="206280"/>
          </a:xfrm>
          <a:custGeom>
            <a:avLst/>
            <a:gdLst/>
            <a:ahLst/>
            <a:rect l="l" t="t" r="r" b="b"/>
            <a:pathLst>
              <a:path w="1787" h="572">
                <a:moveTo>
                  <a:pt x="15726" y="10244"/>
                </a:moveTo>
                <a:cubicBezTo>
                  <a:pt x="15592" y="10263"/>
                  <a:pt x="15550" y="10299"/>
                  <a:pt x="15503" y="10418"/>
                </a:cubicBezTo>
                <a:cubicBezTo>
                  <a:pt x="15634" y="10398"/>
                  <a:pt x="15667" y="10370"/>
                  <a:pt x="15751" y="10269"/>
                </a:cubicBezTo>
                <a:cubicBezTo>
                  <a:pt x="15816" y="10442"/>
                  <a:pt x="15781" y="10407"/>
                  <a:pt x="15974" y="10418"/>
                </a:cubicBezTo>
              </a:path>
              <a:path w="1787" h="572">
                <a:moveTo>
                  <a:pt x="16049" y="9847"/>
                </a:moveTo>
                <a:cubicBezTo>
                  <a:pt x="16076" y="10023"/>
                  <a:pt x="16140" y="10192"/>
                  <a:pt x="16173" y="10368"/>
                </a:cubicBezTo>
                <a:cubicBezTo>
                  <a:pt x="16173" y="10396"/>
                  <a:pt x="16175" y="10402"/>
                  <a:pt x="16197" y="10368"/>
                </a:cubicBezTo>
              </a:path>
              <a:path w="1787" h="572">
                <a:moveTo>
                  <a:pt x="16470" y="10071"/>
                </a:moveTo>
                <a:cubicBezTo>
                  <a:pt x="16443" y="10136"/>
                  <a:pt x="16415" y="10305"/>
                  <a:pt x="16520" y="10344"/>
                </a:cubicBezTo>
                <a:cubicBezTo>
                  <a:pt x="16677" y="10402"/>
                  <a:pt x="16725" y="10303"/>
                  <a:pt x="16743" y="10170"/>
                </a:cubicBezTo>
                <a:cubicBezTo>
                  <a:pt x="16743" y="10113"/>
                  <a:pt x="16743" y="10071"/>
                  <a:pt x="16743" y="10120"/>
                </a:cubicBezTo>
                <a:cubicBezTo>
                  <a:pt x="16755" y="10219"/>
                  <a:pt x="16770" y="10310"/>
                  <a:pt x="16818" y="10393"/>
                </a:cubicBezTo>
              </a:path>
              <a:path w="1787" h="572">
                <a:moveTo>
                  <a:pt x="17016" y="10220"/>
                </a:moveTo>
                <a:cubicBezTo>
                  <a:pt x="17103" y="10191"/>
                  <a:pt x="17177" y="10200"/>
                  <a:pt x="17190" y="10120"/>
                </a:cubicBezTo>
                <a:cubicBezTo>
                  <a:pt x="17089" y="10062"/>
                  <a:pt x="16989" y="10086"/>
                  <a:pt x="16917" y="10195"/>
                </a:cubicBezTo>
                <a:cubicBezTo>
                  <a:pt x="16744" y="10458"/>
                  <a:pt x="17213" y="10383"/>
                  <a:pt x="17289" y="1036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00880" y="3562200"/>
            <a:ext cx="330120" cy="144720"/>
          </a:xfrm>
          <a:custGeom>
            <a:avLst/>
            <a:gdLst/>
            <a:ahLst/>
            <a:rect l="l" t="t" r="r" b="b"/>
            <a:pathLst>
              <a:path w="919" h="398">
                <a:moveTo>
                  <a:pt x="18058" y="9971"/>
                </a:moveTo>
                <a:cubicBezTo>
                  <a:pt x="18163" y="9920"/>
                  <a:pt x="18096" y="10154"/>
                  <a:pt x="18107" y="10220"/>
                </a:cubicBezTo>
                <a:cubicBezTo>
                  <a:pt x="18115" y="10236"/>
                  <a:pt x="18124" y="10253"/>
                  <a:pt x="18132" y="10269"/>
                </a:cubicBezTo>
                <a:cubicBezTo>
                  <a:pt x="18324" y="10284"/>
                  <a:pt x="18346" y="10186"/>
                  <a:pt x="18380" y="9996"/>
                </a:cubicBezTo>
                <a:cubicBezTo>
                  <a:pt x="18380" y="9980"/>
                  <a:pt x="18380" y="9963"/>
                  <a:pt x="18380" y="9947"/>
                </a:cubicBezTo>
                <a:cubicBezTo>
                  <a:pt x="18384" y="9967"/>
                  <a:pt x="18438" y="10233"/>
                  <a:pt x="18479" y="10220"/>
                </a:cubicBezTo>
                <a:cubicBezTo>
                  <a:pt x="18504" y="10203"/>
                  <a:pt x="18529" y="10187"/>
                  <a:pt x="18554" y="10170"/>
                </a:cubicBezTo>
              </a:path>
              <a:path w="919" h="398">
                <a:moveTo>
                  <a:pt x="18827" y="9897"/>
                </a:moveTo>
                <a:cubicBezTo>
                  <a:pt x="18747" y="9897"/>
                  <a:pt x="18718" y="9900"/>
                  <a:pt x="18678" y="9947"/>
                </a:cubicBezTo>
                <a:cubicBezTo>
                  <a:pt x="18759" y="10019"/>
                  <a:pt x="18904" y="10050"/>
                  <a:pt x="18976" y="10120"/>
                </a:cubicBezTo>
                <a:cubicBezTo>
                  <a:pt x="18899" y="10209"/>
                  <a:pt x="18823" y="10253"/>
                  <a:pt x="18728" y="1019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035840" y="3562200"/>
            <a:ext cx="233280" cy="216000"/>
          </a:xfrm>
          <a:custGeom>
            <a:avLst/>
            <a:gdLst/>
            <a:ahLst/>
            <a:rect l="l" t="t" r="r" b="b"/>
            <a:pathLst>
              <a:path w="646" h="596">
                <a:moveTo>
                  <a:pt x="19546" y="10170"/>
                </a:moveTo>
                <a:cubicBezTo>
                  <a:pt x="19546" y="10187"/>
                  <a:pt x="19546" y="10203"/>
                  <a:pt x="19546" y="10220"/>
                </a:cubicBezTo>
                <a:cubicBezTo>
                  <a:pt x="19546" y="10123"/>
                  <a:pt x="19591" y="10060"/>
                  <a:pt x="19621" y="9971"/>
                </a:cubicBezTo>
                <a:cubicBezTo>
                  <a:pt x="19667" y="9835"/>
                  <a:pt x="19756" y="10009"/>
                  <a:pt x="19769" y="10071"/>
                </a:cubicBezTo>
                <a:cubicBezTo>
                  <a:pt x="19769" y="10129"/>
                  <a:pt x="19753" y="10153"/>
                  <a:pt x="19794" y="10145"/>
                </a:cubicBezTo>
              </a:path>
              <a:path w="646" h="596">
                <a:moveTo>
                  <a:pt x="20141" y="9897"/>
                </a:moveTo>
                <a:cubicBezTo>
                  <a:pt x="20017" y="9959"/>
                  <a:pt x="19984" y="9990"/>
                  <a:pt x="19918" y="10120"/>
                </a:cubicBezTo>
                <a:cubicBezTo>
                  <a:pt x="20010" y="10157"/>
                  <a:pt x="19991" y="10072"/>
                  <a:pt x="20067" y="10021"/>
                </a:cubicBezTo>
                <a:cubicBezTo>
                  <a:pt x="20141" y="9972"/>
                  <a:pt x="20220" y="10348"/>
                  <a:pt x="20166" y="10418"/>
                </a:cubicBezTo>
                <a:cubicBezTo>
                  <a:pt x="20026" y="10598"/>
                  <a:pt x="19847" y="10462"/>
                  <a:pt x="19720" y="1039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518240" y="3510000"/>
            <a:ext cx="812880" cy="249120"/>
          </a:xfrm>
          <a:custGeom>
            <a:avLst/>
            <a:gdLst/>
            <a:ahLst/>
            <a:rect l="l" t="t" r="r" b="b"/>
            <a:pathLst>
              <a:path w="2258" h="696">
                <a:moveTo>
                  <a:pt x="20960" y="9947"/>
                </a:moveTo>
                <a:cubicBezTo>
                  <a:pt x="21080" y="9970"/>
                  <a:pt x="21203" y="9951"/>
                  <a:pt x="21332" y="9947"/>
                </a:cubicBezTo>
                <a:cubicBezTo>
                  <a:pt x="21340" y="9947"/>
                  <a:pt x="21349" y="9947"/>
                  <a:pt x="21357" y="9947"/>
                </a:cubicBezTo>
                <a:cubicBezTo>
                  <a:pt x="21277" y="9898"/>
                  <a:pt x="21134" y="9769"/>
                  <a:pt x="21034" y="9798"/>
                </a:cubicBezTo>
                <a:cubicBezTo>
                  <a:pt x="20945" y="9857"/>
                  <a:pt x="20910" y="9890"/>
                  <a:pt x="20886" y="9971"/>
                </a:cubicBezTo>
                <a:cubicBezTo>
                  <a:pt x="21040" y="10179"/>
                  <a:pt x="21169" y="10127"/>
                  <a:pt x="21431" y="10071"/>
                </a:cubicBezTo>
              </a:path>
              <a:path w="2258" h="696">
                <a:moveTo>
                  <a:pt x="21779" y="9847"/>
                </a:moveTo>
                <a:cubicBezTo>
                  <a:pt x="21700" y="9862"/>
                  <a:pt x="21408" y="10029"/>
                  <a:pt x="21654" y="10071"/>
                </a:cubicBezTo>
                <a:cubicBezTo>
                  <a:pt x="21774" y="10092"/>
                  <a:pt x="21810" y="9972"/>
                  <a:pt x="21853" y="9897"/>
                </a:cubicBezTo>
                <a:cubicBezTo>
                  <a:pt x="21903" y="9947"/>
                  <a:pt x="22009" y="10076"/>
                  <a:pt x="22101" y="10021"/>
                </a:cubicBezTo>
                <a:cubicBezTo>
                  <a:pt x="22134" y="9988"/>
                  <a:pt x="22167" y="9955"/>
                  <a:pt x="22200" y="9922"/>
                </a:cubicBezTo>
              </a:path>
              <a:path w="2258" h="696">
                <a:moveTo>
                  <a:pt x="22349" y="9748"/>
                </a:moveTo>
                <a:cubicBezTo>
                  <a:pt x="22290" y="9748"/>
                  <a:pt x="22264" y="9751"/>
                  <a:pt x="22225" y="9773"/>
                </a:cubicBezTo>
                <a:cubicBezTo>
                  <a:pt x="22265" y="9854"/>
                  <a:pt x="22467" y="9858"/>
                  <a:pt x="22498" y="9922"/>
                </a:cubicBezTo>
                <a:cubicBezTo>
                  <a:pt x="22579" y="10092"/>
                  <a:pt x="22113" y="10001"/>
                  <a:pt x="22126" y="9971"/>
                </a:cubicBezTo>
                <a:cubicBezTo>
                  <a:pt x="22159" y="9946"/>
                  <a:pt x="22192" y="9922"/>
                  <a:pt x="22225" y="9897"/>
                </a:cubicBezTo>
              </a:path>
              <a:path w="2258" h="696">
                <a:moveTo>
                  <a:pt x="22647" y="9773"/>
                </a:moveTo>
                <a:cubicBezTo>
                  <a:pt x="22687" y="9935"/>
                  <a:pt x="22722" y="9984"/>
                  <a:pt x="22895" y="9971"/>
                </a:cubicBezTo>
                <a:cubicBezTo>
                  <a:pt x="23021" y="9961"/>
                  <a:pt x="23008" y="9923"/>
                  <a:pt x="23019" y="9823"/>
                </a:cubicBezTo>
                <a:cubicBezTo>
                  <a:pt x="23060" y="9969"/>
                  <a:pt x="23197" y="10130"/>
                  <a:pt x="23143" y="10294"/>
                </a:cubicBezTo>
                <a:cubicBezTo>
                  <a:pt x="23062" y="10539"/>
                  <a:pt x="22847" y="10415"/>
                  <a:pt x="22696" y="1036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51160" y="3751200"/>
            <a:ext cx="4303800" cy="231840"/>
          </a:xfrm>
          <a:custGeom>
            <a:avLst/>
            <a:gdLst/>
            <a:ahLst/>
            <a:rect l="l" t="t" r="r" b="b"/>
            <a:pathLst>
              <a:path w="11957" h="646">
                <a:moveTo>
                  <a:pt x="9029" y="10988"/>
                </a:moveTo>
                <a:lnTo>
                  <a:pt x="9029" y="10988"/>
                </a:lnTo>
                <a:lnTo>
                  <a:pt x="9029" y="10988"/>
                </a:lnTo>
              </a:path>
              <a:path w="11957" h="646">
                <a:moveTo>
                  <a:pt x="9029" y="10988"/>
                </a:moveTo>
                <a:lnTo>
                  <a:pt x="9029" y="10988"/>
                </a:lnTo>
              </a:path>
              <a:path w="11957" h="646">
                <a:moveTo>
                  <a:pt x="14486" y="11063"/>
                </a:moveTo>
                <a:cubicBezTo>
                  <a:pt x="14494" y="11063"/>
                  <a:pt x="14503" y="11063"/>
                  <a:pt x="14511" y="11063"/>
                </a:cubicBezTo>
              </a:path>
              <a:path w="11957" h="646">
                <a:moveTo>
                  <a:pt x="18479" y="10988"/>
                </a:moveTo>
                <a:cubicBezTo>
                  <a:pt x="18487" y="10988"/>
                  <a:pt x="18496" y="10988"/>
                  <a:pt x="18504" y="10988"/>
                </a:cubicBezTo>
              </a:path>
              <a:path w="11957" h="646">
                <a:moveTo>
                  <a:pt x="17438" y="10666"/>
                </a:moveTo>
                <a:cubicBezTo>
                  <a:pt x="17450" y="10751"/>
                  <a:pt x="17466" y="10820"/>
                  <a:pt x="17512" y="10889"/>
                </a:cubicBezTo>
              </a:path>
              <a:path w="11957" h="646">
                <a:moveTo>
                  <a:pt x="20960" y="10790"/>
                </a:moveTo>
                <a:cubicBezTo>
                  <a:pt x="20960" y="10815"/>
                  <a:pt x="20960" y="10823"/>
                  <a:pt x="20985" y="10815"/>
                </a:cubicBezTo>
              </a:path>
              <a:path w="11957" h="646">
                <a:moveTo>
                  <a:pt x="20315" y="10418"/>
                </a:moveTo>
                <a:cubicBezTo>
                  <a:pt x="20329" y="10494"/>
                  <a:pt x="20338" y="10578"/>
                  <a:pt x="20365" y="1064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00120" y="4017960"/>
            <a:ext cx="312840" cy="142920"/>
          </a:xfrm>
          <a:custGeom>
            <a:avLst/>
            <a:gdLst/>
            <a:ahLst/>
            <a:rect l="l" t="t" r="r" b="b"/>
            <a:pathLst>
              <a:path w="869" h="398">
                <a:moveTo>
                  <a:pt x="4465" y="11162"/>
                </a:moveTo>
                <a:cubicBezTo>
                  <a:pt x="4475" y="11185"/>
                  <a:pt x="4512" y="11264"/>
                  <a:pt x="4514" y="11286"/>
                </a:cubicBezTo>
                <a:cubicBezTo>
                  <a:pt x="4519" y="11340"/>
                  <a:pt x="4542" y="11516"/>
                  <a:pt x="4490" y="11534"/>
                </a:cubicBezTo>
              </a:path>
              <a:path w="869" h="398">
                <a:moveTo>
                  <a:pt x="4167" y="11361"/>
                </a:moveTo>
                <a:cubicBezTo>
                  <a:pt x="4399" y="11336"/>
                  <a:pt x="4634" y="11313"/>
                  <a:pt x="4862" y="11336"/>
                </a:cubicBezTo>
                <a:cubicBezTo>
                  <a:pt x="4845" y="11387"/>
                  <a:pt x="4749" y="11506"/>
                  <a:pt x="4837" y="11534"/>
                </a:cubicBezTo>
                <a:cubicBezTo>
                  <a:pt x="4945" y="11556"/>
                  <a:pt x="4971" y="11569"/>
                  <a:pt x="5035" y="11534"/>
                </a:cubicBezTo>
                <a:cubicBezTo>
                  <a:pt x="5019" y="11454"/>
                  <a:pt x="4847" y="11412"/>
                  <a:pt x="4911" y="11361"/>
                </a:cubicBezTo>
                <a:cubicBezTo>
                  <a:pt x="4936" y="11353"/>
                  <a:pt x="4961" y="11344"/>
                  <a:pt x="4986" y="1133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054160" y="3990960"/>
            <a:ext cx="652680" cy="169920"/>
          </a:xfrm>
          <a:custGeom>
            <a:avLst/>
            <a:gdLst/>
            <a:ahLst/>
            <a:rect l="l" t="t" r="r" b="b"/>
            <a:pathLst>
              <a:path w="1812" h="472">
                <a:moveTo>
                  <a:pt x="5755" y="11336"/>
                </a:moveTo>
                <a:cubicBezTo>
                  <a:pt x="5746" y="11391"/>
                  <a:pt x="5681" y="11457"/>
                  <a:pt x="5705" y="11534"/>
                </a:cubicBezTo>
                <a:cubicBezTo>
                  <a:pt x="5713" y="11542"/>
                  <a:pt x="5722" y="11551"/>
                  <a:pt x="5730" y="11559"/>
                </a:cubicBezTo>
                <a:cubicBezTo>
                  <a:pt x="5860" y="11509"/>
                  <a:pt x="5874" y="11496"/>
                  <a:pt x="5953" y="11385"/>
                </a:cubicBezTo>
                <a:cubicBezTo>
                  <a:pt x="5934" y="11502"/>
                  <a:pt x="5945" y="11558"/>
                  <a:pt x="6127" y="11534"/>
                </a:cubicBezTo>
                <a:cubicBezTo>
                  <a:pt x="6251" y="11518"/>
                  <a:pt x="6354" y="11392"/>
                  <a:pt x="6226" y="11311"/>
                </a:cubicBezTo>
                <a:cubicBezTo>
                  <a:pt x="6218" y="11311"/>
                  <a:pt x="6209" y="11311"/>
                  <a:pt x="6201" y="11311"/>
                </a:cubicBezTo>
              </a:path>
              <a:path w="1812" h="472">
                <a:moveTo>
                  <a:pt x="6623" y="11261"/>
                </a:moveTo>
                <a:cubicBezTo>
                  <a:pt x="6541" y="11270"/>
                  <a:pt x="6342" y="11325"/>
                  <a:pt x="6424" y="11460"/>
                </a:cubicBezTo>
                <a:cubicBezTo>
                  <a:pt x="6479" y="11550"/>
                  <a:pt x="6606" y="11440"/>
                  <a:pt x="6648" y="11410"/>
                </a:cubicBezTo>
                <a:cubicBezTo>
                  <a:pt x="6629" y="11318"/>
                  <a:pt x="6630" y="11351"/>
                  <a:pt x="6598" y="11286"/>
                </a:cubicBezTo>
              </a:path>
              <a:path w="1812" h="472">
                <a:moveTo>
                  <a:pt x="6896" y="11435"/>
                </a:moveTo>
                <a:cubicBezTo>
                  <a:pt x="6888" y="11452"/>
                  <a:pt x="6879" y="11468"/>
                  <a:pt x="6871" y="11485"/>
                </a:cubicBezTo>
                <a:cubicBezTo>
                  <a:pt x="6860" y="11397"/>
                  <a:pt x="6823" y="11253"/>
                  <a:pt x="6921" y="11187"/>
                </a:cubicBezTo>
                <a:cubicBezTo>
                  <a:pt x="6937" y="11187"/>
                  <a:pt x="6954" y="11187"/>
                  <a:pt x="6970" y="11187"/>
                </a:cubicBezTo>
              </a:path>
              <a:path w="1812" h="472">
                <a:moveTo>
                  <a:pt x="7193" y="11112"/>
                </a:moveTo>
                <a:cubicBezTo>
                  <a:pt x="7202" y="11220"/>
                  <a:pt x="7125" y="11491"/>
                  <a:pt x="7218" y="11435"/>
                </a:cubicBezTo>
                <a:cubicBezTo>
                  <a:pt x="7226" y="11418"/>
                  <a:pt x="7235" y="11402"/>
                  <a:pt x="7243" y="11385"/>
                </a:cubicBezTo>
              </a:path>
              <a:path w="1812" h="472">
                <a:moveTo>
                  <a:pt x="7392" y="11088"/>
                </a:moveTo>
                <a:cubicBezTo>
                  <a:pt x="7353" y="11172"/>
                  <a:pt x="7346" y="11188"/>
                  <a:pt x="7268" y="11237"/>
                </a:cubicBezTo>
                <a:cubicBezTo>
                  <a:pt x="7372" y="11237"/>
                  <a:pt x="7467" y="11225"/>
                  <a:pt x="7516" y="11336"/>
                </a:cubicBezTo>
                <a:cubicBezTo>
                  <a:pt x="7516" y="11361"/>
                  <a:pt x="7516" y="11385"/>
                  <a:pt x="7516" y="1141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00240" y="3929040"/>
            <a:ext cx="554040" cy="152280"/>
          </a:xfrm>
          <a:custGeom>
            <a:avLst/>
            <a:gdLst/>
            <a:ahLst/>
            <a:rect l="l" t="t" r="r" b="b"/>
            <a:pathLst>
              <a:path w="1539" h="423">
                <a:moveTo>
                  <a:pt x="8359" y="11162"/>
                </a:moveTo>
                <a:cubicBezTo>
                  <a:pt x="8327" y="11194"/>
                  <a:pt x="8306" y="11297"/>
                  <a:pt x="8384" y="11336"/>
                </a:cubicBezTo>
                <a:cubicBezTo>
                  <a:pt x="8480" y="11384"/>
                  <a:pt x="8561" y="11252"/>
                  <a:pt x="8582" y="11187"/>
                </a:cubicBezTo>
                <a:cubicBezTo>
                  <a:pt x="8623" y="11290"/>
                  <a:pt x="8747" y="11304"/>
                  <a:pt x="8855" y="11286"/>
                </a:cubicBezTo>
                <a:cubicBezTo>
                  <a:pt x="8941" y="11272"/>
                  <a:pt x="8856" y="11163"/>
                  <a:pt x="8830" y="11137"/>
                </a:cubicBezTo>
                <a:cubicBezTo>
                  <a:pt x="8788" y="11137"/>
                  <a:pt x="8797" y="11131"/>
                  <a:pt x="8880" y="11112"/>
                </a:cubicBezTo>
              </a:path>
              <a:path w="1539" h="423">
                <a:moveTo>
                  <a:pt x="9079" y="11088"/>
                </a:moveTo>
                <a:cubicBezTo>
                  <a:pt x="9079" y="11161"/>
                  <a:pt x="9083" y="11218"/>
                  <a:pt x="9103" y="11286"/>
                </a:cubicBezTo>
              </a:path>
              <a:path w="1539" h="423">
                <a:moveTo>
                  <a:pt x="9401" y="10914"/>
                </a:moveTo>
                <a:cubicBezTo>
                  <a:pt x="9421" y="11024"/>
                  <a:pt x="9426" y="11125"/>
                  <a:pt x="9426" y="11237"/>
                </a:cubicBezTo>
              </a:path>
              <a:path w="1539" h="423">
                <a:moveTo>
                  <a:pt x="9103" y="11088"/>
                </a:moveTo>
                <a:cubicBezTo>
                  <a:pt x="9251" y="11108"/>
                  <a:pt x="9451" y="11168"/>
                  <a:pt x="9550" y="11038"/>
                </a:cubicBezTo>
                <a:cubicBezTo>
                  <a:pt x="9558" y="11021"/>
                  <a:pt x="9567" y="11005"/>
                  <a:pt x="9575" y="10988"/>
                </a:cubicBezTo>
                <a:cubicBezTo>
                  <a:pt x="9575" y="10922"/>
                  <a:pt x="9590" y="11071"/>
                  <a:pt x="9599" y="11137"/>
                </a:cubicBezTo>
                <a:cubicBezTo>
                  <a:pt x="9599" y="11145"/>
                  <a:pt x="9599" y="11154"/>
                  <a:pt x="9599" y="11162"/>
                </a:cubicBezTo>
                <a:cubicBezTo>
                  <a:pt x="9621" y="11108"/>
                  <a:pt x="9723" y="11036"/>
                  <a:pt x="9798" y="11063"/>
                </a:cubicBezTo>
                <a:cubicBezTo>
                  <a:pt x="9819" y="11070"/>
                  <a:pt x="9865" y="11169"/>
                  <a:pt x="9872" y="1118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57760" y="3848040"/>
            <a:ext cx="1233360" cy="162000"/>
          </a:xfrm>
          <a:custGeom>
            <a:avLst/>
            <a:gdLst/>
            <a:ahLst/>
            <a:rect l="l" t="t" r="r" b="b"/>
            <a:pathLst>
              <a:path w="3424" h="447">
                <a:moveTo>
                  <a:pt x="10740" y="10939"/>
                </a:moveTo>
                <a:cubicBezTo>
                  <a:pt x="10740" y="11013"/>
                  <a:pt x="10744" y="11069"/>
                  <a:pt x="10765" y="11137"/>
                </a:cubicBezTo>
                <a:cubicBezTo>
                  <a:pt x="10737" y="11067"/>
                  <a:pt x="10668" y="10985"/>
                  <a:pt x="10790" y="10939"/>
                </a:cubicBezTo>
                <a:cubicBezTo>
                  <a:pt x="10894" y="10900"/>
                  <a:pt x="11129" y="10935"/>
                  <a:pt x="11137" y="11088"/>
                </a:cubicBezTo>
                <a:cubicBezTo>
                  <a:pt x="11129" y="11104"/>
                  <a:pt x="11120" y="11121"/>
                  <a:pt x="11112" y="11137"/>
                </a:cubicBezTo>
              </a:path>
              <a:path w="3424" h="447">
                <a:moveTo>
                  <a:pt x="11336" y="10889"/>
                </a:moveTo>
                <a:cubicBezTo>
                  <a:pt x="11350" y="10992"/>
                  <a:pt x="11344" y="11099"/>
                  <a:pt x="11485" y="11063"/>
                </a:cubicBezTo>
                <a:cubicBezTo>
                  <a:pt x="11549" y="11030"/>
                  <a:pt x="11577" y="11010"/>
                  <a:pt x="11609" y="10964"/>
                </a:cubicBezTo>
                <a:cubicBezTo>
                  <a:pt x="11609" y="11067"/>
                  <a:pt x="11658" y="11092"/>
                  <a:pt x="11757" y="11112"/>
                </a:cubicBezTo>
                <a:cubicBezTo>
                  <a:pt x="11825" y="11112"/>
                  <a:pt x="11847" y="11118"/>
                  <a:pt x="11857" y="11063"/>
                </a:cubicBezTo>
              </a:path>
              <a:path w="3424" h="447">
                <a:moveTo>
                  <a:pt x="11857" y="10964"/>
                </a:moveTo>
                <a:cubicBezTo>
                  <a:pt x="11857" y="11048"/>
                  <a:pt x="11850" y="11068"/>
                  <a:pt x="11881" y="11112"/>
                </a:cubicBezTo>
                <a:cubicBezTo>
                  <a:pt x="11881" y="11102"/>
                  <a:pt x="11879" y="10942"/>
                  <a:pt x="11931" y="10964"/>
                </a:cubicBezTo>
                <a:cubicBezTo>
                  <a:pt x="11988" y="10988"/>
                  <a:pt x="11981" y="11085"/>
                  <a:pt x="11981" y="11038"/>
                </a:cubicBezTo>
                <a:cubicBezTo>
                  <a:pt x="12025" y="10977"/>
                  <a:pt x="12040" y="10940"/>
                  <a:pt x="12105" y="10914"/>
                </a:cubicBezTo>
                <a:cubicBezTo>
                  <a:pt x="12151" y="11008"/>
                  <a:pt x="12129" y="10993"/>
                  <a:pt x="12229" y="11013"/>
                </a:cubicBezTo>
              </a:path>
              <a:path w="3424" h="447">
                <a:moveTo>
                  <a:pt x="12477" y="10691"/>
                </a:moveTo>
                <a:cubicBezTo>
                  <a:pt x="12477" y="10808"/>
                  <a:pt x="12509" y="10905"/>
                  <a:pt x="12551" y="11013"/>
                </a:cubicBezTo>
                <a:cubicBezTo>
                  <a:pt x="12559" y="11030"/>
                  <a:pt x="12568" y="11046"/>
                  <a:pt x="12576" y="11063"/>
                </a:cubicBezTo>
                <a:cubicBezTo>
                  <a:pt x="12576" y="10991"/>
                  <a:pt x="12570" y="10880"/>
                  <a:pt x="12700" y="10914"/>
                </a:cubicBezTo>
                <a:cubicBezTo>
                  <a:pt x="12792" y="10938"/>
                  <a:pt x="12855" y="11107"/>
                  <a:pt x="12725" y="11137"/>
                </a:cubicBezTo>
                <a:cubicBezTo>
                  <a:pt x="12569" y="11174"/>
                  <a:pt x="12462" y="11109"/>
                  <a:pt x="12626" y="11013"/>
                </a:cubicBezTo>
              </a:path>
              <a:path w="3424" h="447">
                <a:moveTo>
                  <a:pt x="12948" y="10964"/>
                </a:moveTo>
                <a:cubicBezTo>
                  <a:pt x="13001" y="10944"/>
                  <a:pt x="13137" y="10943"/>
                  <a:pt x="13171" y="10914"/>
                </a:cubicBezTo>
                <a:cubicBezTo>
                  <a:pt x="13171" y="10906"/>
                  <a:pt x="13171" y="10897"/>
                  <a:pt x="13171" y="10889"/>
                </a:cubicBezTo>
                <a:cubicBezTo>
                  <a:pt x="13076" y="10831"/>
                  <a:pt x="12973" y="10880"/>
                  <a:pt x="12923" y="10988"/>
                </a:cubicBezTo>
                <a:cubicBezTo>
                  <a:pt x="12923" y="11013"/>
                  <a:pt x="12923" y="11038"/>
                  <a:pt x="12923" y="11063"/>
                </a:cubicBezTo>
                <a:cubicBezTo>
                  <a:pt x="13096" y="11112"/>
                  <a:pt x="13135" y="11126"/>
                  <a:pt x="13271" y="11013"/>
                </a:cubicBezTo>
              </a:path>
              <a:path w="3424" h="447">
                <a:moveTo>
                  <a:pt x="13345" y="10914"/>
                </a:moveTo>
                <a:cubicBezTo>
                  <a:pt x="13357" y="10975"/>
                  <a:pt x="13376" y="10989"/>
                  <a:pt x="13419" y="11038"/>
                </a:cubicBezTo>
                <a:cubicBezTo>
                  <a:pt x="13402" y="10969"/>
                  <a:pt x="13354" y="10896"/>
                  <a:pt x="13444" y="10840"/>
                </a:cubicBezTo>
                <a:cubicBezTo>
                  <a:pt x="13519" y="10794"/>
                  <a:pt x="13582" y="10809"/>
                  <a:pt x="13667" y="10815"/>
                </a:cubicBezTo>
              </a:path>
              <a:path w="3424" h="447">
                <a:moveTo>
                  <a:pt x="14015" y="10790"/>
                </a:moveTo>
                <a:cubicBezTo>
                  <a:pt x="13950" y="10776"/>
                  <a:pt x="13873" y="10766"/>
                  <a:pt x="13841" y="10815"/>
                </a:cubicBezTo>
                <a:cubicBezTo>
                  <a:pt x="13961" y="10867"/>
                  <a:pt x="14046" y="10920"/>
                  <a:pt x="14139" y="11013"/>
                </a:cubicBezTo>
                <a:cubicBezTo>
                  <a:pt x="14028" y="11069"/>
                  <a:pt x="13988" y="11081"/>
                  <a:pt x="13866" y="1106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92800" y="3652920"/>
            <a:ext cx="135000" cy="88920"/>
          </a:xfrm>
          <a:custGeom>
            <a:avLst/>
            <a:gdLst/>
            <a:ahLst/>
            <a:rect l="l" t="t" r="r" b="b"/>
            <a:pathLst>
              <a:path w="373" h="249">
                <a:moveTo>
                  <a:pt x="14982" y="10195"/>
                </a:moveTo>
                <a:cubicBezTo>
                  <a:pt x="15026" y="10195"/>
                  <a:pt x="15102" y="10239"/>
                  <a:pt x="15131" y="10269"/>
                </a:cubicBezTo>
                <a:cubicBezTo>
                  <a:pt x="15180" y="10319"/>
                  <a:pt x="15191" y="10372"/>
                  <a:pt x="15255" y="10393"/>
                </a:cubicBezTo>
                <a:cubicBezTo>
                  <a:pt x="15263" y="10393"/>
                  <a:pt x="15272" y="10393"/>
                  <a:pt x="15280" y="10393"/>
                </a:cubicBezTo>
                <a:cubicBezTo>
                  <a:pt x="15280" y="10327"/>
                  <a:pt x="15300" y="10364"/>
                  <a:pt x="15304" y="10294"/>
                </a:cubicBezTo>
                <a:cubicBezTo>
                  <a:pt x="15308" y="10219"/>
                  <a:pt x="15329" y="10257"/>
                  <a:pt x="15329" y="10170"/>
                </a:cubicBezTo>
                <a:cubicBezTo>
                  <a:pt x="15329" y="10145"/>
                  <a:pt x="15329" y="10137"/>
                  <a:pt x="15354" y="1014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259680" y="3821040"/>
            <a:ext cx="63360" cy="100080"/>
          </a:xfrm>
          <a:custGeom>
            <a:avLst/>
            <a:gdLst/>
            <a:ahLst/>
            <a:rect l="l" t="t" r="r" b="b"/>
            <a:pathLst>
              <a:path w="175" h="274">
                <a:moveTo>
                  <a:pt x="17562" y="10616"/>
                </a:moveTo>
                <a:cubicBezTo>
                  <a:pt x="17479" y="10658"/>
                  <a:pt x="17462" y="10666"/>
                  <a:pt x="17413" y="10691"/>
                </a:cubicBezTo>
                <a:cubicBezTo>
                  <a:pt x="17424" y="10724"/>
                  <a:pt x="17532" y="10750"/>
                  <a:pt x="17537" y="10765"/>
                </a:cubicBezTo>
                <a:cubicBezTo>
                  <a:pt x="17580" y="10886"/>
                  <a:pt x="17429" y="10922"/>
                  <a:pt x="17388" y="1084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483240" y="3795840"/>
            <a:ext cx="561960" cy="222120"/>
          </a:xfrm>
          <a:custGeom>
            <a:avLst/>
            <a:gdLst/>
            <a:ahLst/>
            <a:rect l="l" t="t" r="r" b="b"/>
            <a:pathLst>
              <a:path w="1564" h="621">
                <a:moveTo>
                  <a:pt x="18033" y="10716"/>
                </a:moveTo>
                <a:cubicBezTo>
                  <a:pt x="17969" y="10716"/>
                  <a:pt x="18142" y="10670"/>
                  <a:pt x="18157" y="10666"/>
                </a:cubicBezTo>
                <a:cubicBezTo>
                  <a:pt x="18165" y="10666"/>
                  <a:pt x="18174" y="10666"/>
                  <a:pt x="18182" y="10666"/>
                </a:cubicBezTo>
                <a:cubicBezTo>
                  <a:pt x="18212" y="10816"/>
                  <a:pt x="18154" y="10833"/>
                  <a:pt x="18033" y="10914"/>
                </a:cubicBezTo>
                <a:cubicBezTo>
                  <a:pt x="17964" y="10914"/>
                  <a:pt x="18145" y="10890"/>
                  <a:pt x="18157" y="10889"/>
                </a:cubicBezTo>
                <a:cubicBezTo>
                  <a:pt x="18280" y="10883"/>
                  <a:pt x="18286" y="11045"/>
                  <a:pt x="18207" y="11112"/>
                </a:cubicBezTo>
                <a:cubicBezTo>
                  <a:pt x="18118" y="11156"/>
                  <a:pt x="18098" y="11173"/>
                  <a:pt x="18033" y="11162"/>
                </a:cubicBezTo>
              </a:path>
              <a:path w="1564" h="621">
                <a:moveTo>
                  <a:pt x="18529" y="10666"/>
                </a:moveTo>
                <a:cubicBezTo>
                  <a:pt x="18650" y="10642"/>
                  <a:pt x="18777" y="10626"/>
                  <a:pt x="18901" y="10616"/>
                </a:cubicBezTo>
                <a:cubicBezTo>
                  <a:pt x="18909" y="10616"/>
                  <a:pt x="18918" y="10616"/>
                  <a:pt x="18926" y="10616"/>
                </a:cubicBezTo>
                <a:cubicBezTo>
                  <a:pt x="18937" y="10741"/>
                  <a:pt x="18934" y="10839"/>
                  <a:pt x="18926" y="10964"/>
                </a:cubicBezTo>
                <a:cubicBezTo>
                  <a:pt x="18926" y="10997"/>
                  <a:pt x="18935" y="11005"/>
                  <a:pt x="18976" y="10988"/>
                </a:cubicBezTo>
              </a:path>
              <a:path w="1564" h="621">
                <a:moveTo>
                  <a:pt x="19521" y="10592"/>
                </a:moveTo>
                <a:cubicBezTo>
                  <a:pt x="19478" y="10505"/>
                  <a:pt x="19357" y="10531"/>
                  <a:pt x="19298" y="10616"/>
                </a:cubicBezTo>
                <a:cubicBezTo>
                  <a:pt x="19290" y="10649"/>
                  <a:pt x="19281" y="10683"/>
                  <a:pt x="19273" y="10716"/>
                </a:cubicBezTo>
                <a:cubicBezTo>
                  <a:pt x="19385" y="10763"/>
                  <a:pt x="19468" y="10755"/>
                  <a:pt x="19521" y="10641"/>
                </a:cubicBezTo>
                <a:cubicBezTo>
                  <a:pt x="19521" y="10633"/>
                  <a:pt x="19521" y="10624"/>
                  <a:pt x="19521" y="10616"/>
                </a:cubicBezTo>
                <a:cubicBezTo>
                  <a:pt x="19573" y="10685"/>
                  <a:pt x="19568" y="10777"/>
                  <a:pt x="19571" y="10864"/>
                </a:cubicBezTo>
                <a:cubicBezTo>
                  <a:pt x="19571" y="10881"/>
                  <a:pt x="19571" y="10897"/>
                  <a:pt x="19571" y="1091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205760" y="3759120"/>
            <a:ext cx="696960" cy="189000"/>
          </a:xfrm>
          <a:custGeom>
            <a:avLst/>
            <a:gdLst/>
            <a:ahLst/>
            <a:rect l="l" t="t" r="r" b="b"/>
            <a:pathLst>
              <a:path w="1936" h="522">
                <a:moveTo>
                  <a:pt x="20067" y="10765"/>
                </a:moveTo>
                <a:cubicBezTo>
                  <a:pt x="20130" y="10786"/>
                  <a:pt x="20099" y="10843"/>
                  <a:pt x="20117" y="10914"/>
                </a:cubicBezTo>
                <a:cubicBezTo>
                  <a:pt x="20125" y="10931"/>
                  <a:pt x="20133" y="10947"/>
                  <a:pt x="20141" y="10964"/>
                </a:cubicBezTo>
              </a:path>
              <a:path w="1936" h="522">
                <a:moveTo>
                  <a:pt x="20017" y="10889"/>
                </a:moveTo>
                <a:cubicBezTo>
                  <a:pt x="20092" y="10866"/>
                  <a:pt x="20162" y="10840"/>
                  <a:pt x="20241" y="10840"/>
                </a:cubicBezTo>
              </a:path>
              <a:path w="1936" h="522">
                <a:moveTo>
                  <a:pt x="20513" y="10616"/>
                </a:moveTo>
                <a:cubicBezTo>
                  <a:pt x="20566" y="10603"/>
                  <a:pt x="20579" y="10575"/>
                  <a:pt x="20638" y="10567"/>
                </a:cubicBezTo>
                <a:cubicBezTo>
                  <a:pt x="20655" y="10675"/>
                  <a:pt x="20645" y="10771"/>
                  <a:pt x="20563" y="10864"/>
                </a:cubicBezTo>
                <a:cubicBezTo>
                  <a:pt x="20507" y="10902"/>
                  <a:pt x="20482" y="10897"/>
                  <a:pt x="20489" y="10939"/>
                </a:cubicBezTo>
                <a:cubicBezTo>
                  <a:pt x="20573" y="10939"/>
                  <a:pt x="20652" y="10918"/>
                  <a:pt x="20737" y="10914"/>
                </a:cubicBezTo>
                <a:cubicBezTo>
                  <a:pt x="20745" y="10914"/>
                  <a:pt x="20754" y="10914"/>
                  <a:pt x="20762" y="10914"/>
                </a:cubicBezTo>
              </a:path>
              <a:path w="1936" h="522">
                <a:moveTo>
                  <a:pt x="21233" y="10492"/>
                </a:moveTo>
                <a:cubicBezTo>
                  <a:pt x="21273" y="10472"/>
                  <a:pt x="21280" y="10464"/>
                  <a:pt x="21307" y="10468"/>
                </a:cubicBezTo>
                <a:cubicBezTo>
                  <a:pt x="21264" y="10468"/>
                  <a:pt x="21184" y="10479"/>
                  <a:pt x="21158" y="10517"/>
                </a:cubicBezTo>
                <a:cubicBezTo>
                  <a:pt x="21058" y="10664"/>
                  <a:pt x="21319" y="10663"/>
                  <a:pt x="21382" y="10740"/>
                </a:cubicBezTo>
                <a:cubicBezTo>
                  <a:pt x="21404" y="10807"/>
                  <a:pt x="21415" y="10825"/>
                  <a:pt x="21382" y="10864"/>
                </a:cubicBezTo>
                <a:cubicBezTo>
                  <a:pt x="21283" y="10855"/>
                  <a:pt x="21177" y="10820"/>
                  <a:pt x="21258" y="10691"/>
                </a:cubicBezTo>
                <a:cubicBezTo>
                  <a:pt x="21324" y="10585"/>
                  <a:pt x="21332" y="10640"/>
                  <a:pt x="21332" y="10542"/>
                </a:cubicBezTo>
              </a:path>
              <a:path w="1936" h="522">
                <a:moveTo>
                  <a:pt x="21754" y="10443"/>
                </a:moveTo>
                <a:cubicBezTo>
                  <a:pt x="21729" y="10448"/>
                  <a:pt x="21642" y="10474"/>
                  <a:pt x="21630" y="10492"/>
                </a:cubicBezTo>
                <a:cubicBezTo>
                  <a:pt x="21606" y="10528"/>
                  <a:pt x="21645" y="10588"/>
                  <a:pt x="21679" y="10592"/>
                </a:cubicBezTo>
                <a:cubicBezTo>
                  <a:pt x="21739" y="10598"/>
                  <a:pt x="21925" y="10556"/>
                  <a:pt x="21952" y="10641"/>
                </a:cubicBezTo>
                <a:cubicBezTo>
                  <a:pt x="21991" y="10766"/>
                  <a:pt x="21860" y="10757"/>
                  <a:pt x="21779" y="10765"/>
                </a:cubicBezTo>
              </a:path>
              <a:path w="1936" h="522">
                <a:moveTo>
                  <a:pt x="20340" y="10443"/>
                </a:moveTo>
                <a:cubicBezTo>
                  <a:pt x="20262" y="10452"/>
                  <a:pt x="20221" y="10462"/>
                  <a:pt x="20166" y="10517"/>
                </a:cubicBezTo>
                <a:cubicBezTo>
                  <a:pt x="20193" y="10521"/>
                  <a:pt x="20341" y="10531"/>
                  <a:pt x="20315" y="10567"/>
                </a:cubicBezTo>
                <a:cubicBezTo>
                  <a:pt x="20264" y="10639"/>
                  <a:pt x="20257" y="10590"/>
                  <a:pt x="20241" y="1064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67360" y="4037040"/>
            <a:ext cx="98640" cy="150840"/>
          </a:xfrm>
          <a:custGeom>
            <a:avLst/>
            <a:gdLst/>
            <a:ahLst/>
            <a:rect l="l" t="t" r="r" b="b"/>
            <a:pathLst>
              <a:path w="274" h="422">
                <a:moveTo>
                  <a:pt x="19100" y="11261"/>
                </a:moveTo>
                <a:cubicBezTo>
                  <a:pt x="19123" y="11308"/>
                  <a:pt x="19087" y="11341"/>
                  <a:pt x="19075" y="11410"/>
                </a:cubicBezTo>
                <a:cubicBezTo>
                  <a:pt x="19182" y="11450"/>
                  <a:pt x="19270" y="11452"/>
                  <a:pt x="19348" y="11385"/>
                </a:cubicBezTo>
              </a:path>
              <a:path w="274" h="422">
                <a:moveTo>
                  <a:pt x="19348" y="11212"/>
                </a:moveTo>
                <a:cubicBezTo>
                  <a:pt x="19328" y="11331"/>
                  <a:pt x="19315" y="11414"/>
                  <a:pt x="19323" y="11534"/>
                </a:cubicBezTo>
                <a:cubicBezTo>
                  <a:pt x="19323" y="11592"/>
                  <a:pt x="19323" y="11600"/>
                  <a:pt x="19323" y="1163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215120" y="4054320"/>
            <a:ext cx="63720" cy="54000"/>
          </a:xfrm>
          <a:custGeom>
            <a:avLst/>
            <a:gdLst/>
            <a:ahLst/>
            <a:rect l="l" t="t" r="r" b="b"/>
            <a:pathLst>
              <a:path w="175" h="150">
                <a:moveTo>
                  <a:pt x="20067" y="11261"/>
                </a:moveTo>
                <a:cubicBezTo>
                  <a:pt x="20067" y="11311"/>
                  <a:pt x="20067" y="11360"/>
                  <a:pt x="20067" y="11410"/>
                </a:cubicBezTo>
              </a:path>
              <a:path w="175" h="150">
                <a:moveTo>
                  <a:pt x="20042" y="11336"/>
                </a:moveTo>
                <a:cubicBezTo>
                  <a:pt x="20111" y="11336"/>
                  <a:pt x="20154" y="11330"/>
                  <a:pt x="20216" y="1131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446960" y="4017960"/>
            <a:ext cx="125280" cy="125280"/>
          </a:xfrm>
          <a:custGeom>
            <a:avLst/>
            <a:gdLst/>
            <a:ahLst/>
            <a:rect l="l" t="t" r="r" b="b"/>
            <a:pathLst>
              <a:path w="348" h="348">
                <a:moveTo>
                  <a:pt x="20687" y="11212"/>
                </a:moveTo>
                <a:cubicBezTo>
                  <a:pt x="20720" y="11201"/>
                  <a:pt x="20801" y="11157"/>
                  <a:pt x="20861" y="11162"/>
                </a:cubicBezTo>
                <a:cubicBezTo>
                  <a:pt x="20877" y="11170"/>
                  <a:pt x="20894" y="11179"/>
                  <a:pt x="20910" y="11187"/>
                </a:cubicBezTo>
                <a:cubicBezTo>
                  <a:pt x="20859" y="11239"/>
                  <a:pt x="20840" y="11257"/>
                  <a:pt x="20786" y="11261"/>
                </a:cubicBezTo>
                <a:cubicBezTo>
                  <a:pt x="20871" y="11293"/>
                  <a:pt x="21000" y="11246"/>
                  <a:pt x="21034" y="11336"/>
                </a:cubicBezTo>
                <a:cubicBezTo>
                  <a:pt x="21075" y="11445"/>
                  <a:pt x="20846" y="11516"/>
                  <a:pt x="20786" y="11509"/>
                </a:cubicBezTo>
                <a:cubicBezTo>
                  <a:pt x="20786" y="11501"/>
                  <a:pt x="20786" y="11493"/>
                  <a:pt x="20786" y="1148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bjective :  Students will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accurately round decimal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Verdana"/>
              </a:rPr>
              <a:t>To round a decimal to a given place value, look at the digit in the place to the right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If the digit is 4 or less, 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Verdana"/>
              </a:rPr>
              <a:t>	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Verdana"/>
              </a:rPr>
              <a:t>	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Verdana"/>
              </a:rPr>
              <a:t>	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Verdana"/>
              </a:rPr>
              <a:t>	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If the digit is 5 or greater, 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Verdana"/>
              </a:rPr>
              <a:t>	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Verdana"/>
              </a:rPr>
              <a:t>	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Verdana"/>
              </a:rPr>
              <a:t>	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Verdana"/>
              </a:rPr>
              <a:t>	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member the saying from elementary school?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“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4 or below…” and “5 or above…”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3081240" y="2303640"/>
            <a:ext cx="125640" cy="134640"/>
          </a:xfrm>
          <a:custGeom>
            <a:avLst/>
            <a:gdLst/>
            <a:ahLst/>
            <a:rect l="l" t="t" r="r" b="b"/>
            <a:pathLst>
              <a:path w="348" h="373">
                <a:moveTo>
                  <a:pt x="8905" y="6424"/>
                </a:moveTo>
                <a:cubicBezTo>
                  <a:pt x="8886" y="6369"/>
                  <a:pt x="8782" y="6410"/>
                  <a:pt x="8731" y="6424"/>
                </a:cubicBezTo>
                <a:cubicBezTo>
                  <a:pt x="8644" y="6448"/>
                  <a:pt x="8647" y="6454"/>
                  <a:pt x="8607" y="6524"/>
                </a:cubicBezTo>
                <a:cubicBezTo>
                  <a:pt x="8607" y="6628"/>
                  <a:pt x="8706" y="6576"/>
                  <a:pt x="8781" y="6598"/>
                </a:cubicBezTo>
                <a:cubicBezTo>
                  <a:pt x="8824" y="6620"/>
                  <a:pt x="8836" y="6624"/>
                  <a:pt x="8855" y="6648"/>
                </a:cubicBezTo>
                <a:cubicBezTo>
                  <a:pt x="8793" y="6730"/>
                  <a:pt x="8697" y="6800"/>
                  <a:pt x="8582" y="6747"/>
                </a:cubicBezTo>
                <a:cubicBezTo>
                  <a:pt x="8582" y="6722"/>
                  <a:pt x="8582" y="6714"/>
                  <a:pt x="8558" y="6722"/>
                </a:cubicBezTo>
              </a:path>
              <a:path w="348" h="373">
                <a:moveTo>
                  <a:pt x="8682" y="6400"/>
                </a:moveTo>
                <a:cubicBezTo>
                  <a:pt x="8682" y="6476"/>
                  <a:pt x="8644" y="6751"/>
                  <a:pt x="8706" y="677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394080" y="2313000"/>
            <a:ext cx="293760" cy="223920"/>
          </a:xfrm>
          <a:custGeom>
            <a:avLst/>
            <a:gdLst/>
            <a:ahLst/>
            <a:rect l="l" t="t" r="r" b="b"/>
            <a:pathLst>
              <a:path w="819" h="622">
                <a:moveTo>
                  <a:pt x="9475" y="6524"/>
                </a:moveTo>
                <a:cubicBezTo>
                  <a:pt x="9520" y="6501"/>
                  <a:pt x="9541" y="6476"/>
                  <a:pt x="9599" y="6449"/>
                </a:cubicBezTo>
                <a:cubicBezTo>
                  <a:pt x="9664" y="6418"/>
                  <a:pt x="9761" y="6453"/>
                  <a:pt x="9798" y="6474"/>
                </a:cubicBezTo>
                <a:cubicBezTo>
                  <a:pt x="9916" y="6543"/>
                  <a:pt x="9867" y="6611"/>
                  <a:pt x="9773" y="6672"/>
                </a:cubicBezTo>
                <a:cubicBezTo>
                  <a:pt x="9725" y="6703"/>
                  <a:pt x="9680" y="6722"/>
                  <a:pt x="9624" y="6722"/>
                </a:cubicBezTo>
                <a:cubicBezTo>
                  <a:pt x="9714" y="6683"/>
                  <a:pt x="9719" y="6692"/>
                  <a:pt x="9798" y="6747"/>
                </a:cubicBezTo>
                <a:cubicBezTo>
                  <a:pt x="9880" y="6804"/>
                  <a:pt x="9955" y="6931"/>
                  <a:pt x="9823" y="6995"/>
                </a:cubicBezTo>
                <a:cubicBezTo>
                  <a:pt x="9732" y="7039"/>
                  <a:pt x="9538" y="7084"/>
                  <a:pt x="9451" y="7020"/>
                </a:cubicBezTo>
                <a:cubicBezTo>
                  <a:pt x="9451" y="6995"/>
                  <a:pt x="9451" y="6987"/>
                  <a:pt x="9426" y="6995"/>
                </a:cubicBezTo>
              </a:path>
              <a:path w="819" h="622">
                <a:moveTo>
                  <a:pt x="10220" y="6846"/>
                </a:moveTo>
                <a:cubicBezTo>
                  <a:pt x="10183" y="6864"/>
                  <a:pt x="10179" y="6875"/>
                  <a:pt x="10170" y="6921"/>
                </a:cubicBezTo>
                <a:cubicBezTo>
                  <a:pt x="10221" y="6892"/>
                  <a:pt x="10232" y="6897"/>
                  <a:pt x="10244" y="6846"/>
                </a:cubicBezTo>
              </a:path>
              <a:path w="819" h="622">
                <a:moveTo>
                  <a:pt x="10145" y="6846"/>
                </a:moveTo>
                <a:cubicBezTo>
                  <a:pt x="10116" y="6875"/>
                  <a:pt x="10105" y="6884"/>
                  <a:pt x="10096" y="6921"/>
                </a:cubicBezTo>
                <a:cubicBezTo>
                  <a:pt x="10120" y="6921"/>
                  <a:pt x="10128" y="6921"/>
                  <a:pt x="10120" y="689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67120" y="2313000"/>
            <a:ext cx="704880" cy="187200"/>
          </a:xfrm>
          <a:custGeom>
            <a:avLst/>
            <a:gdLst/>
            <a:ahLst/>
            <a:rect l="l" t="t" r="r" b="b"/>
            <a:pathLst>
              <a:path w="1961" h="522">
                <a:moveTo>
                  <a:pt x="10765" y="6573"/>
                </a:moveTo>
                <a:cubicBezTo>
                  <a:pt x="10765" y="6654"/>
                  <a:pt x="10773" y="6707"/>
                  <a:pt x="10740" y="6772"/>
                </a:cubicBezTo>
                <a:cubicBezTo>
                  <a:pt x="10852" y="6772"/>
                  <a:pt x="10954" y="6741"/>
                  <a:pt x="11063" y="6722"/>
                </a:cubicBezTo>
                <a:cubicBezTo>
                  <a:pt x="11106" y="6714"/>
                  <a:pt x="11099" y="6738"/>
                  <a:pt x="11112" y="6697"/>
                </a:cubicBezTo>
              </a:path>
              <a:path w="1961" h="522">
                <a:moveTo>
                  <a:pt x="11162" y="6449"/>
                </a:moveTo>
                <a:cubicBezTo>
                  <a:pt x="11149" y="6599"/>
                  <a:pt x="11137" y="6744"/>
                  <a:pt x="11137" y="6896"/>
                </a:cubicBezTo>
                <a:cubicBezTo>
                  <a:pt x="11137" y="6921"/>
                  <a:pt x="11137" y="6929"/>
                  <a:pt x="11137" y="6945"/>
                </a:cubicBezTo>
              </a:path>
              <a:path w="1961" h="522">
                <a:moveTo>
                  <a:pt x="11509" y="6499"/>
                </a:moveTo>
                <a:cubicBezTo>
                  <a:pt x="11491" y="6480"/>
                  <a:pt x="11617" y="6477"/>
                  <a:pt x="11683" y="6474"/>
                </a:cubicBezTo>
                <a:cubicBezTo>
                  <a:pt x="11784" y="6474"/>
                  <a:pt x="11805" y="6484"/>
                  <a:pt x="11857" y="6449"/>
                </a:cubicBezTo>
                <a:cubicBezTo>
                  <a:pt x="11840" y="6499"/>
                  <a:pt x="11794" y="6619"/>
                  <a:pt x="11782" y="6697"/>
                </a:cubicBezTo>
                <a:cubicBezTo>
                  <a:pt x="11772" y="6763"/>
                  <a:pt x="11745" y="6846"/>
                  <a:pt x="11782" y="6896"/>
                </a:cubicBezTo>
              </a:path>
              <a:path w="1961" h="522">
                <a:moveTo>
                  <a:pt x="12254" y="6524"/>
                </a:moveTo>
                <a:cubicBezTo>
                  <a:pt x="12285" y="6468"/>
                  <a:pt x="12309" y="6433"/>
                  <a:pt x="12378" y="6424"/>
                </a:cubicBezTo>
                <a:cubicBezTo>
                  <a:pt x="12441" y="6415"/>
                  <a:pt x="12557" y="6398"/>
                  <a:pt x="12576" y="6474"/>
                </a:cubicBezTo>
                <a:cubicBezTo>
                  <a:pt x="12593" y="6542"/>
                  <a:pt x="12567" y="6616"/>
                  <a:pt x="12502" y="6648"/>
                </a:cubicBezTo>
                <a:cubicBezTo>
                  <a:pt x="12414" y="6692"/>
                  <a:pt x="12328" y="6728"/>
                  <a:pt x="12254" y="6796"/>
                </a:cubicBezTo>
                <a:cubicBezTo>
                  <a:pt x="12187" y="6863"/>
                  <a:pt x="12171" y="6879"/>
                  <a:pt x="12129" y="6921"/>
                </a:cubicBezTo>
                <a:cubicBezTo>
                  <a:pt x="12144" y="6950"/>
                  <a:pt x="12157" y="6897"/>
                  <a:pt x="12204" y="6871"/>
                </a:cubicBezTo>
                <a:cubicBezTo>
                  <a:pt x="12267" y="6836"/>
                  <a:pt x="12296" y="6840"/>
                  <a:pt x="12353" y="6871"/>
                </a:cubicBezTo>
                <a:cubicBezTo>
                  <a:pt x="12433" y="6914"/>
                  <a:pt x="12474" y="6971"/>
                  <a:pt x="12576" y="6945"/>
                </a:cubicBezTo>
                <a:cubicBezTo>
                  <a:pt x="12627" y="6932"/>
                  <a:pt x="12689" y="6878"/>
                  <a:pt x="12700" y="684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751200" y="2205000"/>
            <a:ext cx="490680" cy="403200"/>
          </a:xfrm>
          <a:custGeom>
            <a:avLst/>
            <a:gdLst/>
            <a:ahLst/>
            <a:rect l="l" t="t" r="r" b="b"/>
            <a:pathLst>
              <a:path w="1365" h="1117">
                <a:moveTo>
                  <a:pt x="11038" y="7243"/>
                </a:moveTo>
                <a:cubicBezTo>
                  <a:pt x="11070" y="7219"/>
                  <a:pt x="11120" y="7204"/>
                  <a:pt x="11162" y="7193"/>
                </a:cubicBezTo>
                <a:cubicBezTo>
                  <a:pt x="11228" y="7177"/>
                  <a:pt x="10976" y="7171"/>
                  <a:pt x="10939" y="7169"/>
                </a:cubicBezTo>
                <a:cubicBezTo>
                  <a:pt x="10872" y="7166"/>
                  <a:pt x="11021" y="7188"/>
                  <a:pt x="11088" y="7193"/>
                </a:cubicBezTo>
                <a:cubicBezTo>
                  <a:pt x="11187" y="7193"/>
                  <a:pt x="11203" y="7193"/>
                  <a:pt x="11261" y="7193"/>
                </a:cubicBezTo>
                <a:cubicBezTo>
                  <a:pt x="11168" y="7193"/>
                  <a:pt x="10896" y="7164"/>
                  <a:pt x="10914" y="7169"/>
                </a:cubicBezTo>
                <a:cubicBezTo>
                  <a:pt x="10993" y="7191"/>
                  <a:pt x="11114" y="7169"/>
                  <a:pt x="11212" y="7169"/>
                </a:cubicBezTo>
                <a:cubicBezTo>
                  <a:pt x="11328" y="7169"/>
                  <a:pt x="10980" y="7169"/>
                  <a:pt x="10864" y="7169"/>
                </a:cubicBezTo>
                <a:cubicBezTo>
                  <a:pt x="10732" y="7169"/>
                  <a:pt x="11081" y="7181"/>
                  <a:pt x="11212" y="7169"/>
                </a:cubicBezTo>
                <a:cubicBezTo>
                  <a:pt x="11337" y="7158"/>
                  <a:pt x="11212" y="7152"/>
                  <a:pt x="11088" y="7169"/>
                </a:cubicBezTo>
                <a:cubicBezTo>
                  <a:pt x="11009" y="7169"/>
                  <a:pt x="10632" y="7196"/>
                  <a:pt x="10964" y="7169"/>
                </a:cubicBezTo>
                <a:cubicBezTo>
                  <a:pt x="11063" y="7161"/>
                  <a:pt x="11518" y="7107"/>
                  <a:pt x="11137" y="7144"/>
                </a:cubicBezTo>
                <a:cubicBezTo>
                  <a:pt x="11093" y="7148"/>
                  <a:pt x="10782" y="7202"/>
                  <a:pt x="11013" y="7169"/>
                </a:cubicBezTo>
                <a:cubicBezTo>
                  <a:pt x="11071" y="7161"/>
                  <a:pt x="11196" y="7144"/>
                  <a:pt x="11137" y="7144"/>
                </a:cubicBezTo>
              </a:path>
              <a:path w="1365" h="1117">
                <a:moveTo>
                  <a:pt x="11013" y="7144"/>
                </a:moveTo>
                <a:cubicBezTo>
                  <a:pt x="10999" y="7137"/>
                  <a:pt x="10841" y="7102"/>
                  <a:pt x="10840" y="7094"/>
                </a:cubicBezTo>
                <a:cubicBezTo>
                  <a:pt x="10868" y="7094"/>
                  <a:pt x="10878" y="7097"/>
                  <a:pt x="10889" y="7119"/>
                </a:cubicBezTo>
                <a:cubicBezTo>
                  <a:pt x="10983" y="7119"/>
                  <a:pt x="11229" y="7077"/>
                  <a:pt x="11162" y="7144"/>
                </a:cubicBezTo>
                <a:cubicBezTo>
                  <a:pt x="11134" y="7172"/>
                  <a:pt x="10934" y="7166"/>
                  <a:pt x="10889" y="7169"/>
                </a:cubicBezTo>
                <a:cubicBezTo>
                  <a:pt x="10820" y="7173"/>
                  <a:pt x="10969" y="7200"/>
                  <a:pt x="11038" y="7193"/>
                </a:cubicBezTo>
                <a:cubicBezTo>
                  <a:pt x="11112" y="7175"/>
                  <a:pt x="11119" y="7167"/>
                  <a:pt x="11162" y="7169"/>
                </a:cubicBezTo>
                <a:cubicBezTo>
                  <a:pt x="11045" y="7203"/>
                  <a:pt x="10915" y="7208"/>
                  <a:pt x="10790" y="7218"/>
                </a:cubicBezTo>
                <a:cubicBezTo>
                  <a:pt x="10922" y="7218"/>
                  <a:pt x="11054" y="7197"/>
                  <a:pt x="11187" y="7193"/>
                </a:cubicBezTo>
                <a:cubicBezTo>
                  <a:pt x="11255" y="7191"/>
                  <a:pt x="11043" y="7214"/>
                  <a:pt x="11013" y="7218"/>
                </a:cubicBezTo>
                <a:cubicBezTo>
                  <a:pt x="11046" y="7218"/>
                  <a:pt x="11063" y="7218"/>
                  <a:pt x="11088" y="7218"/>
                </a:cubicBezTo>
              </a:path>
              <a:path w="1365" h="1117">
                <a:moveTo>
                  <a:pt x="10939" y="6375"/>
                </a:moveTo>
                <a:cubicBezTo>
                  <a:pt x="10906" y="6331"/>
                  <a:pt x="10911" y="6310"/>
                  <a:pt x="10964" y="6276"/>
                </a:cubicBezTo>
                <a:cubicBezTo>
                  <a:pt x="10997" y="6255"/>
                  <a:pt x="11071" y="6211"/>
                  <a:pt x="11088" y="6201"/>
                </a:cubicBezTo>
                <a:cubicBezTo>
                  <a:pt x="11111" y="6187"/>
                  <a:pt x="11208" y="6179"/>
                  <a:pt x="11237" y="6176"/>
                </a:cubicBezTo>
                <a:cubicBezTo>
                  <a:pt x="11292" y="6170"/>
                  <a:pt x="11327" y="6152"/>
                  <a:pt x="11385" y="6152"/>
                </a:cubicBezTo>
                <a:cubicBezTo>
                  <a:pt x="11476" y="6152"/>
                  <a:pt x="11555" y="6160"/>
                  <a:pt x="11633" y="6176"/>
                </a:cubicBezTo>
                <a:cubicBezTo>
                  <a:pt x="11661" y="6182"/>
                  <a:pt x="11716" y="6200"/>
                  <a:pt x="11733" y="6226"/>
                </a:cubicBezTo>
                <a:cubicBezTo>
                  <a:pt x="11749" y="6250"/>
                  <a:pt x="11768" y="6272"/>
                  <a:pt x="11782" y="6300"/>
                </a:cubicBezTo>
                <a:cubicBezTo>
                  <a:pt x="11748" y="6307"/>
                  <a:pt x="11717" y="6318"/>
                  <a:pt x="11683" y="6325"/>
                </a:cubicBezTo>
                <a:cubicBezTo>
                  <a:pt x="11683" y="6241"/>
                  <a:pt x="11704" y="6266"/>
                  <a:pt x="11733" y="6201"/>
                </a:cubicBezTo>
                <a:cubicBezTo>
                  <a:pt x="11750" y="6163"/>
                  <a:pt x="11732" y="6135"/>
                  <a:pt x="11708" y="6127"/>
                </a:cubicBezTo>
                <a:cubicBezTo>
                  <a:pt x="11720" y="6197"/>
                  <a:pt x="11714" y="6219"/>
                  <a:pt x="11708" y="6276"/>
                </a:cubicBezTo>
                <a:cubicBezTo>
                  <a:pt x="11705" y="6305"/>
                  <a:pt x="11732" y="6306"/>
                  <a:pt x="11757" y="6325"/>
                </a:cubicBezTo>
                <a:cubicBezTo>
                  <a:pt x="11737" y="6320"/>
                  <a:pt x="11653" y="6300"/>
                  <a:pt x="11708" y="6300"/>
                </a:cubicBezTo>
                <a:cubicBezTo>
                  <a:pt x="11762" y="6300"/>
                  <a:pt x="11762" y="6300"/>
                  <a:pt x="11708" y="6300"/>
                </a:cubicBezTo>
                <a:cubicBezTo>
                  <a:pt x="11684" y="6300"/>
                  <a:pt x="11586" y="6319"/>
                  <a:pt x="11633" y="6300"/>
                </a:cubicBezTo>
                <a:cubicBezTo>
                  <a:pt x="11729" y="6261"/>
                  <a:pt x="11668" y="6276"/>
                  <a:pt x="11633" y="6276"/>
                </a:cubicBezTo>
                <a:cubicBezTo>
                  <a:pt x="11687" y="6276"/>
                  <a:pt x="11670" y="6264"/>
                  <a:pt x="11708" y="6251"/>
                </a:cubicBezTo>
              </a:path>
              <a:path w="1365" h="1117">
                <a:moveTo>
                  <a:pt x="10790" y="7243"/>
                </a:moveTo>
                <a:cubicBezTo>
                  <a:pt x="10747" y="7221"/>
                  <a:pt x="10649" y="7196"/>
                  <a:pt x="10592" y="7218"/>
                </a:cubicBezTo>
                <a:cubicBezTo>
                  <a:pt x="10514" y="7248"/>
                  <a:pt x="10565" y="7218"/>
                  <a:pt x="10567" y="7218"/>
                </a:cubicBezTo>
                <a:cubicBezTo>
                  <a:pt x="10673" y="7203"/>
                  <a:pt x="10781" y="7193"/>
                  <a:pt x="10889" y="7193"/>
                </a:cubicBezTo>
                <a:cubicBezTo>
                  <a:pt x="10987" y="7193"/>
                  <a:pt x="11067" y="7176"/>
                  <a:pt x="11162" y="7169"/>
                </a:cubicBezTo>
                <a:cubicBezTo>
                  <a:pt x="11246" y="7163"/>
                  <a:pt x="11048" y="7190"/>
                  <a:pt x="10964" y="7193"/>
                </a:cubicBezTo>
                <a:cubicBezTo>
                  <a:pt x="10931" y="7193"/>
                  <a:pt x="10931" y="7193"/>
                  <a:pt x="10988" y="7193"/>
                </a:cubicBezTo>
                <a:cubicBezTo>
                  <a:pt x="11084" y="7182"/>
                  <a:pt x="11317" y="7144"/>
                  <a:pt x="11311" y="7144"/>
                </a:cubicBezTo>
                <a:cubicBezTo>
                  <a:pt x="11177" y="7144"/>
                  <a:pt x="10802" y="7266"/>
                  <a:pt x="10914" y="7193"/>
                </a:cubicBezTo>
                <a:cubicBezTo>
                  <a:pt x="11054" y="7101"/>
                  <a:pt x="11572" y="7161"/>
                  <a:pt x="11410" y="7119"/>
                </a:cubicBezTo>
                <a:cubicBezTo>
                  <a:pt x="11307" y="7093"/>
                  <a:pt x="10999" y="7136"/>
                  <a:pt x="10914" y="7193"/>
                </a:cubicBezTo>
                <a:cubicBezTo>
                  <a:pt x="10788" y="7277"/>
                  <a:pt x="11164" y="7156"/>
                  <a:pt x="11311" y="7119"/>
                </a:cubicBezTo>
                <a:cubicBezTo>
                  <a:pt x="11087" y="7150"/>
                  <a:pt x="10466" y="7240"/>
                  <a:pt x="10691" y="7218"/>
                </a:cubicBezTo>
                <a:cubicBezTo>
                  <a:pt x="10713" y="7216"/>
                  <a:pt x="11388" y="7130"/>
                  <a:pt x="10964" y="7169"/>
                </a:cubicBezTo>
                <a:cubicBezTo>
                  <a:pt x="10837" y="7181"/>
                  <a:pt x="10465" y="7230"/>
                  <a:pt x="10592" y="7243"/>
                </a:cubicBezTo>
                <a:cubicBezTo>
                  <a:pt x="10656" y="7249"/>
                  <a:pt x="11050" y="7177"/>
                  <a:pt x="10864" y="7193"/>
                </a:cubicBezTo>
                <a:cubicBezTo>
                  <a:pt x="10710" y="7206"/>
                  <a:pt x="10105" y="7268"/>
                  <a:pt x="10691" y="7218"/>
                </a:cubicBezTo>
                <a:cubicBezTo>
                  <a:pt x="10798" y="7210"/>
                  <a:pt x="10906" y="7201"/>
                  <a:pt x="11013" y="7193"/>
                </a:cubicBezTo>
                <a:cubicBezTo>
                  <a:pt x="11362" y="7115"/>
                  <a:pt x="10715" y="7212"/>
                  <a:pt x="10641" y="7218"/>
                </a:cubicBezTo>
                <a:cubicBezTo>
                  <a:pt x="10460" y="7233"/>
                  <a:pt x="11005" y="7182"/>
                  <a:pt x="11088" y="7144"/>
                </a:cubicBezTo>
                <a:cubicBezTo>
                  <a:pt x="11217" y="7085"/>
                  <a:pt x="10526" y="7219"/>
                  <a:pt x="10666" y="7193"/>
                </a:cubicBezTo>
                <a:cubicBezTo>
                  <a:pt x="10745" y="7178"/>
                  <a:pt x="11264" y="7125"/>
                  <a:pt x="10988" y="7119"/>
                </a:cubicBezTo>
                <a:cubicBezTo>
                  <a:pt x="10967" y="7119"/>
                  <a:pt x="10744" y="7098"/>
                  <a:pt x="10790" y="714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91160" y="2884320"/>
            <a:ext cx="2438640" cy="250920"/>
          </a:xfrm>
          <a:custGeom>
            <a:avLst/>
            <a:gdLst/>
            <a:ahLst/>
            <a:rect l="l" t="t" r="r" b="b"/>
            <a:pathLst>
              <a:path w="6773" h="695">
                <a:moveTo>
                  <a:pt x="18033" y="8310"/>
                </a:moveTo>
                <a:cubicBezTo>
                  <a:pt x="18033" y="8285"/>
                  <a:pt x="18033" y="8277"/>
                  <a:pt x="18058" y="8285"/>
                </a:cubicBezTo>
              </a:path>
              <a:path w="6773" h="695">
                <a:moveTo>
                  <a:pt x="18058" y="8285"/>
                </a:moveTo>
                <a:lnTo>
                  <a:pt x="18058" y="8285"/>
                </a:lnTo>
              </a:path>
              <a:path w="6773" h="695">
                <a:moveTo>
                  <a:pt x="18777" y="8260"/>
                </a:moveTo>
                <a:cubicBezTo>
                  <a:pt x="18777" y="8252"/>
                  <a:pt x="18777" y="8243"/>
                  <a:pt x="18777" y="8235"/>
                </a:cubicBezTo>
              </a:path>
              <a:path w="6773" h="695">
                <a:moveTo>
                  <a:pt x="18777" y="8235"/>
                </a:moveTo>
                <a:lnTo>
                  <a:pt x="18777" y="8235"/>
                </a:lnTo>
              </a:path>
              <a:path w="6773" h="695">
                <a:moveTo>
                  <a:pt x="20588" y="8012"/>
                </a:moveTo>
                <a:cubicBezTo>
                  <a:pt x="20621" y="8189"/>
                  <a:pt x="20734" y="8478"/>
                  <a:pt x="20588" y="8582"/>
                </a:cubicBezTo>
              </a:path>
              <a:path w="6773" h="695">
                <a:moveTo>
                  <a:pt x="20414" y="8285"/>
                </a:moveTo>
                <a:cubicBezTo>
                  <a:pt x="20603" y="8265"/>
                  <a:pt x="20706" y="8261"/>
                  <a:pt x="20886" y="8310"/>
                </a:cubicBezTo>
              </a:path>
              <a:path w="6773" h="695">
                <a:moveTo>
                  <a:pt x="21258" y="8409"/>
                </a:moveTo>
                <a:cubicBezTo>
                  <a:pt x="21340" y="8550"/>
                  <a:pt x="21397" y="8681"/>
                  <a:pt x="21555" y="8682"/>
                </a:cubicBezTo>
              </a:path>
              <a:path w="6773" h="695">
                <a:moveTo>
                  <a:pt x="24805" y="8632"/>
                </a:moveTo>
                <a:cubicBezTo>
                  <a:pt x="24805" y="8624"/>
                  <a:pt x="24805" y="8615"/>
                  <a:pt x="24805" y="8607"/>
                </a:cubicBezTo>
              </a:path>
              <a:path w="6773" h="695">
                <a:moveTo>
                  <a:pt x="24805" y="8607"/>
                </a:moveTo>
                <a:lnTo>
                  <a:pt x="24805" y="8607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321080" y="2857680"/>
            <a:ext cx="4260960" cy="411120"/>
          </a:xfrm>
          <a:custGeom>
            <a:avLst/>
            <a:gdLst/>
            <a:ahLst/>
            <a:rect l="l" t="t" r="r" b="b"/>
            <a:pathLst>
              <a:path w="11833" h="1142">
                <a:moveTo>
                  <a:pt x="12005" y="9004"/>
                </a:moveTo>
                <a:cubicBezTo>
                  <a:pt x="12069" y="8988"/>
                  <a:pt x="12086" y="8980"/>
                  <a:pt x="12154" y="8979"/>
                </a:cubicBezTo>
                <a:cubicBezTo>
                  <a:pt x="12314" y="8976"/>
                  <a:pt x="12468" y="8964"/>
                  <a:pt x="12626" y="8954"/>
                </a:cubicBezTo>
                <a:cubicBezTo>
                  <a:pt x="12793" y="8944"/>
                  <a:pt x="12954" y="8930"/>
                  <a:pt x="13122" y="8930"/>
                </a:cubicBezTo>
                <a:cubicBezTo>
                  <a:pt x="13536" y="8930"/>
                  <a:pt x="13952" y="8934"/>
                  <a:pt x="14362" y="8905"/>
                </a:cubicBezTo>
                <a:cubicBezTo>
                  <a:pt x="14542" y="8892"/>
                  <a:pt x="14729" y="8899"/>
                  <a:pt x="14908" y="8880"/>
                </a:cubicBezTo>
                <a:cubicBezTo>
                  <a:pt x="15081" y="8862"/>
                  <a:pt x="15255" y="8835"/>
                  <a:pt x="15429" y="8830"/>
                </a:cubicBezTo>
                <a:cubicBezTo>
                  <a:pt x="15638" y="8824"/>
                  <a:pt x="15844" y="8824"/>
                  <a:pt x="16049" y="8806"/>
                </a:cubicBezTo>
                <a:cubicBezTo>
                  <a:pt x="16089" y="8802"/>
                  <a:pt x="16410" y="8806"/>
                  <a:pt x="16222" y="8806"/>
                </a:cubicBezTo>
              </a:path>
              <a:path w="11833" h="1142">
                <a:moveTo>
                  <a:pt x="17810" y="8409"/>
                </a:moveTo>
                <a:cubicBezTo>
                  <a:pt x="17751" y="8448"/>
                  <a:pt x="17731" y="8303"/>
                  <a:pt x="17661" y="8260"/>
                </a:cubicBezTo>
                <a:cubicBezTo>
                  <a:pt x="17513" y="8169"/>
                  <a:pt x="17321" y="8288"/>
                  <a:pt x="17239" y="8409"/>
                </a:cubicBezTo>
                <a:cubicBezTo>
                  <a:pt x="17214" y="8467"/>
                  <a:pt x="17190" y="8524"/>
                  <a:pt x="17165" y="8582"/>
                </a:cubicBezTo>
                <a:cubicBezTo>
                  <a:pt x="17329" y="8701"/>
                  <a:pt x="17508" y="8719"/>
                  <a:pt x="17661" y="8533"/>
                </a:cubicBezTo>
                <a:cubicBezTo>
                  <a:pt x="17678" y="8492"/>
                  <a:pt x="17694" y="8450"/>
                  <a:pt x="17711" y="8409"/>
                </a:cubicBezTo>
              </a:path>
              <a:path w="11833" h="1142">
                <a:moveTo>
                  <a:pt x="17760" y="7962"/>
                </a:moveTo>
                <a:cubicBezTo>
                  <a:pt x="17783" y="8170"/>
                  <a:pt x="17785" y="8372"/>
                  <a:pt x="17785" y="8582"/>
                </a:cubicBezTo>
                <a:cubicBezTo>
                  <a:pt x="17785" y="8673"/>
                  <a:pt x="17785" y="8747"/>
                  <a:pt x="17785" y="8682"/>
                </a:cubicBezTo>
              </a:path>
              <a:path w="11833" h="1142">
                <a:moveTo>
                  <a:pt x="18058" y="8359"/>
                </a:moveTo>
                <a:cubicBezTo>
                  <a:pt x="18058" y="8415"/>
                  <a:pt x="18013" y="8654"/>
                  <a:pt x="18083" y="8607"/>
                </a:cubicBezTo>
              </a:path>
              <a:path w="11833" h="1142">
                <a:moveTo>
                  <a:pt x="18579" y="8409"/>
                </a:moveTo>
                <a:cubicBezTo>
                  <a:pt x="18596" y="8277"/>
                  <a:pt x="18446" y="8273"/>
                  <a:pt x="18331" y="8359"/>
                </a:cubicBezTo>
                <a:cubicBezTo>
                  <a:pt x="18238" y="8474"/>
                  <a:pt x="18202" y="8505"/>
                  <a:pt x="18256" y="8607"/>
                </a:cubicBezTo>
                <a:cubicBezTo>
                  <a:pt x="18513" y="8570"/>
                  <a:pt x="18466" y="8527"/>
                  <a:pt x="18579" y="8359"/>
                </a:cubicBezTo>
                <a:cubicBezTo>
                  <a:pt x="18579" y="8376"/>
                  <a:pt x="18579" y="8392"/>
                  <a:pt x="18579" y="8409"/>
                </a:cubicBezTo>
                <a:cubicBezTo>
                  <a:pt x="18653" y="8617"/>
                  <a:pt x="18776" y="8870"/>
                  <a:pt x="18529" y="9029"/>
                </a:cubicBezTo>
                <a:cubicBezTo>
                  <a:pt x="18168" y="9262"/>
                  <a:pt x="18081" y="9037"/>
                  <a:pt x="18207" y="8756"/>
                </a:cubicBezTo>
              </a:path>
              <a:path w="11833" h="1142">
                <a:moveTo>
                  <a:pt x="18802" y="8458"/>
                </a:moveTo>
                <a:cubicBezTo>
                  <a:pt x="18822" y="8495"/>
                  <a:pt x="18876" y="8647"/>
                  <a:pt x="18876" y="8607"/>
                </a:cubicBezTo>
              </a:path>
              <a:path w="11833" h="1142">
                <a:moveTo>
                  <a:pt x="19149" y="7962"/>
                </a:moveTo>
                <a:cubicBezTo>
                  <a:pt x="19200" y="8167"/>
                  <a:pt x="19305" y="8389"/>
                  <a:pt x="19273" y="8607"/>
                </a:cubicBezTo>
                <a:cubicBezTo>
                  <a:pt x="19245" y="8635"/>
                  <a:pt x="19236" y="8639"/>
                  <a:pt x="19248" y="8582"/>
                </a:cubicBezTo>
              </a:path>
              <a:path w="11833" h="1142">
                <a:moveTo>
                  <a:pt x="19000" y="8334"/>
                </a:moveTo>
                <a:cubicBezTo>
                  <a:pt x="19141" y="8334"/>
                  <a:pt x="19281" y="8334"/>
                  <a:pt x="19422" y="8334"/>
                </a:cubicBezTo>
              </a:path>
              <a:path w="11833" h="1142">
                <a:moveTo>
                  <a:pt x="20340" y="8235"/>
                </a:moveTo>
                <a:cubicBezTo>
                  <a:pt x="20148" y="8225"/>
                  <a:pt x="20145" y="8234"/>
                  <a:pt x="19993" y="8359"/>
                </a:cubicBezTo>
                <a:cubicBezTo>
                  <a:pt x="20137" y="8401"/>
                  <a:pt x="20269" y="8433"/>
                  <a:pt x="20414" y="8483"/>
                </a:cubicBezTo>
                <a:cubicBezTo>
                  <a:pt x="20259" y="8667"/>
                  <a:pt x="20134" y="8724"/>
                  <a:pt x="19968" y="8582"/>
                </a:cubicBezTo>
              </a:path>
              <a:path w="11833" h="1142">
                <a:moveTo>
                  <a:pt x="21109" y="8434"/>
                </a:moveTo>
                <a:cubicBezTo>
                  <a:pt x="21011" y="8336"/>
                  <a:pt x="20860" y="8321"/>
                  <a:pt x="20737" y="8434"/>
                </a:cubicBezTo>
                <a:cubicBezTo>
                  <a:pt x="20712" y="8475"/>
                  <a:pt x="20687" y="8517"/>
                  <a:pt x="20662" y="8558"/>
                </a:cubicBezTo>
                <a:cubicBezTo>
                  <a:pt x="20844" y="8654"/>
                  <a:pt x="20920" y="8621"/>
                  <a:pt x="21034" y="8434"/>
                </a:cubicBezTo>
                <a:cubicBezTo>
                  <a:pt x="21034" y="8526"/>
                  <a:pt x="21094" y="8640"/>
                  <a:pt x="21183" y="8682"/>
                </a:cubicBezTo>
                <a:cubicBezTo>
                  <a:pt x="21191" y="8674"/>
                  <a:pt x="21200" y="8665"/>
                  <a:pt x="21208" y="8657"/>
                </a:cubicBezTo>
              </a:path>
              <a:path w="11833" h="1142">
                <a:moveTo>
                  <a:pt x="21580" y="8359"/>
                </a:moveTo>
                <a:cubicBezTo>
                  <a:pt x="21529" y="8578"/>
                  <a:pt x="21530" y="8777"/>
                  <a:pt x="21530" y="9004"/>
                </a:cubicBezTo>
                <a:cubicBezTo>
                  <a:pt x="21530" y="9037"/>
                  <a:pt x="21530" y="9037"/>
                  <a:pt x="21530" y="8979"/>
                </a:cubicBezTo>
              </a:path>
              <a:path w="11833" h="1142">
                <a:moveTo>
                  <a:pt x="21878" y="8334"/>
                </a:moveTo>
                <a:cubicBezTo>
                  <a:pt x="21784" y="8364"/>
                  <a:pt x="21516" y="8411"/>
                  <a:pt x="21679" y="8508"/>
                </a:cubicBezTo>
                <a:cubicBezTo>
                  <a:pt x="21805" y="8571"/>
                  <a:pt x="21834" y="8581"/>
                  <a:pt x="21903" y="8632"/>
                </a:cubicBezTo>
                <a:cubicBezTo>
                  <a:pt x="21819" y="8736"/>
                  <a:pt x="21725" y="8774"/>
                  <a:pt x="21580" y="8682"/>
                </a:cubicBezTo>
                <a:cubicBezTo>
                  <a:pt x="21572" y="8674"/>
                  <a:pt x="21563" y="8665"/>
                  <a:pt x="21555" y="8657"/>
                </a:cubicBezTo>
              </a:path>
              <a:path w="11833" h="1142">
                <a:moveTo>
                  <a:pt x="22597" y="7962"/>
                </a:moveTo>
                <a:cubicBezTo>
                  <a:pt x="22597" y="7837"/>
                  <a:pt x="22640" y="8160"/>
                  <a:pt x="22647" y="8285"/>
                </a:cubicBezTo>
                <a:cubicBezTo>
                  <a:pt x="22658" y="8462"/>
                  <a:pt x="22690" y="8494"/>
                  <a:pt x="22572" y="8533"/>
                </a:cubicBezTo>
              </a:path>
              <a:path w="11833" h="1142">
                <a:moveTo>
                  <a:pt x="22349" y="8235"/>
                </a:moveTo>
                <a:cubicBezTo>
                  <a:pt x="22547" y="8265"/>
                  <a:pt x="22743" y="8260"/>
                  <a:pt x="22944" y="8260"/>
                </a:cubicBezTo>
              </a:path>
              <a:path w="11833" h="1142">
                <a:moveTo>
                  <a:pt x="22920" y="8062"/>
                </a:moveTo>
                <a:cubicBezTo>
                  <a:pt x="22956" y="8211"/>
                  <a:pt x="22984" y="8360"/>
                  <a:pt x="23019" y="8508"/>
                </a:cubicBezTo>
                <a:cubicBezTo>
                  <a:pt x="23029" y="8373"/>
                  <a:pt x="23050" y="8326"/>
                  <a:pt x="23118" y="8210"/>
                </a:cubicBezTo>
                <a:cubicBezTo>
                  <a:pt x="23269" y="8316"/>
                  <a:pt x="23280" y="8377"/>
                  <a:pt x="23292" y="8558"/>
                </a:cubicBezTo>
              </a:path>
              <a:path w="11833" h="1142">
                <a:moveTo>
                  <a:pt x="23391" y="8359"/>
                </a:moveTo>
                <a:cubicBezTo>
                  <a:pt x="23543" y="8324"/>
                  <a:pt x="23735" y="8301"/>
                  <a:pt x="23812" y="8210"/>
                </a:cubicBezTo>
                <a:cubicBezTo>
                  <a:pt x="23820" y="8202"/>
                  <a:pt x="23829" y="8194"/>
                  <a:pt x="23837" y="8186"/>
                </a:cubicBezTo>
                <a:cubicBezTo>
                  <a:pt x="23696" y="8205"/>
                  <a:pt x="23388" y="8284"/>
                  <a:pt x="23540" y="8508"/>
                </a:cubicBezTo>
                <a:cubicBezTo>
                  <a:pt x="23647" y="8535"/>
                  <a:pt x="23688" y="8542"/>
                  <a:pt x="23763" y="850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974080" y="2776680"/>
            <a:ext cx="152280" cy="393480"/>
          </a:xfrm>
          <a:custGeom>
            <a:avLst/>
            <a:gdLst/>
            <a:ahLst/>
            <a:rect l="l" t="t" r="r" b="b"/>
            <a:pathLst>
              <a:path w="422" h="1093">
                <a:moveTo>
                  <a:pt x="24978" y="8458"/>
                </a:moveTo>
                <a:cubicBezTo>
                  <a:pt x="24955" y="8528"/>
                  <a:pt x="24908" y="8546"/>
                  <a:pt x="24954" y="8607"/>
                </a:cubicBezTo>
                <a:cubicBezTo>
                  <a:pt x="24972" y="8562"/>
                  <a:pt x="25003" y="8435"/>
                  <a:pt x="25003" y="8483"/>
                </a:cubicBezTo>
                <a:cubicBezTo>
                  <a:pt x="25003" y="8559"/>
                  <a:pt x="25122" y="8697"/>
                  <a:pt x="25152" y="8781"/>
                </a:cubicBezTo>
                <a:cubicBezTo>
                  <a:pt x="25152" y="8806"/>
                  <a:pt x="25152" y="8814"/>
                  <a:pt x="25152" y="8781"/>
                </a:cubicBezTo>
              </a:path>
              <a:path w="422" h="1093">
                <a:moveTo>
                  <a:pt x="24978" y="8086"/>
                </a:moveTo>
                <a:cubicBezTo>
                  <a:pt x="25003" y="8173"/>
                  <a:pt x="25049" y="8259"/>
                  <a:pt x="25102" y="8334"/>
                </a:cubicBezTo>
                <a:cubicBezTo>
                  <a:pt x="25102" y="8258"/>
                  <a:pt x="25083" y="8199"/>
                  <a:pt x="25102" y="8210"/>
                </a:cubicBezTo>
                <a:cubicBezTo>
                  <a:pt x="25231" y="8287"/>
                  <a:pt x="25218" y="8279"/>
                  <a:pt x="25301" y="8186"/>
                </a:cubicBezTo>
              </a:path>
              <a:path w="422" h="1093">
                <a:moveTo>
                  <a:pt x="25127" y="7714"/>
                </a:moveTo>
                <a:cubicBezTo>
                  <a:pt x="25143" y="7796"/>
                  <a:pt x="25238" y="7962"/>
                  <a:pt x="25301" y="8012"/>
                </a:cubicBezTo>
                <a:cubicBezTo>
                  <a:pt x="25309" y="8004"/>
                  <a:pt x="25318" y="7995"/>
                  <a:pt x="25326" y="7987"/>
                </a:cubicBezTo>
              </a:path>
              <a:path w="422" h="1093">
                <a:moveTo>
                  <a:pt x="25102" y="7913"/>
                </a:moveTo>
                <a:cubicBezTo>
                  <a:pt x="25137" y="7891"/>
                  <a:pt x="25339" y="7742"/>
                  <a:pt x="25350" y="7739"/>
                </a:cubicBezTo>
                <a:cubicBezTo>
                  <a:pt x="25350" y="7747"/>
                  <a:pt x="25350" y="7756"/>
                  <a:pt x="25350" y="776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60720" y="3321000"/>
            <a:ext cx="6135480" cy="304920"/>
          </a:xfrm>
          <a:custGeom>
            <a:avLst/>
            <a:gdLst/>
            <a:ahLst/>
            <a:rect l="l" t="t" r="r" b="b"/>
            <a:pathLst>
              <a:path w="17042" h="845">
                <a:moveTo>
                  <a:pt x="6077" y="9798"/>
                </a:moveTo>
                <a:cubicBezTo>
                  <a:pt x="6071" y="9937"/>
                  <a:pt x="6094" y="10005"/>
                  <a:pt x="6003" y="10071"/>
                </a:cubicBezTo>
              </a:path>
              <a:path w="17042" h="845">
                <a:moveTo>
                  <a:pt x="8855" y="9327"/>
                </a:moveTo>
                <a:cubicBezTo>
                  <a:pt x="8887" y="9542"/>
                  <a:pt x="8933" y="9755"/>
                  <a:pt x="8954" y="9971"/>
                </a:cubicBezTo>
              </a:path>
              <a:path w="17042" h="845">
                <a:moveTo>
                  <a:pt x="9649" y="9971"/>
                </a:moveTo>
                <a:lnTo>
                  <a:pt x="9649" y="9971"/>
                </a:lnTo>
              </a:path>
              <a:path w="17042" h="845">
                <a:moveTo>
                  <a:pt x="9550" y="9575"/>
                </a:moveTo>
                <a:cubicBezTo>
                  <a:pt x="9550" y="9540"/>
                  <a:pt x="9559" y="9527"/>
                  <a:pt x="9599" y="9525"/>
                </a:cubicBezTo>
              </a:path>
              <a:path w="17042" h="845">
                <a:moveTo>
                  <a:pt x="11038" y="9227"/>
                </a:moveTo>
                <a:cubicBezTo>
                  <a:pt x="11028" y="9465"/>
                  <a:pt x="11020" y="9640"/>
                  <a:pt x="11063" y="9872"/>
                </a:cubicBezTo>
              </a:path>
              <a:path w="17042" h="845">
                <a:moveTo>
                  <a:pt x="13568" y="9376"/>
                </a:moveTo>
                <a:cubicBezTo>
                  <a:pt x="13577" y="9579"/>
                  <a:pt x="13593" y="9775"/>
                  <a:pt x="13643" y="9971"/>
                </a:cubicBezTo>
              </a:path>
              <a:path w="17042" h="845">
                <a:moveTo>
                  <a:pt x="14163" y="9624"/>
                </a:moveTo>
                <a:cubicBezTo>
                  <a:pt x="14349" y="9617"/>
                  <a:pt x="14503" y="9593"/>
                  <a:pt x="14684" y="9550"/>
                </a:cubicBezTo>
              </a:path>
              <a:path w="17042" h="845">
                <a:moveTo>
                  <a:pt x="14610" y="9599"/>
                </a:moveTo>
                <a:cubicBezTo>
                  <a:pt x="14759" y="9575"/>
                  <a:pt x="14809" y="9567"/>
                  <a:pt x="14908" y="9550"/>
                </a:cubicBezTo>
              </a:path>
              <a:path w="17042" h="845">
                <a:moveTo>
                  <a:pt x="16049" y="9327"/>
                </a:moveTo>
                <a:cubicBezTo>
                  <a:pt x="16140" y="9480"/>
                  <a:pt x="16208" y="9647"/>
                  <a:pt x="16247" y="9823"/>
                </a:cubicBezTo>
                <a:cubicBezTo>
                  <a:pt x="16247" y="9847"/>
                  <a:pt x="16247" y="9855"/>
                  <a:pt x="16222" y="9847"/>
                </a:cubicBezTo>
              </a:path>
              <a:path w="17042" h="845">
                <a:moveTo>
                  <a:pt x="15949" y="9599"/>
                </a:moveTo>
                <a:cubicBezTo>
                  <a:pt x="16149" y="9575"/>
                  <a:pt x="16281" y="9558"/>
                  <a:pt x="16470" y="9599"/>
                </a:cubicBezTo>
              </a:path>
              <a:path w="17042" h="845">
                <a:moveTo>
                  <a:pt x="16793" y="9649"/>
                </a:moveTo>
                <a:cubicBezTo>
                  <a:pt x="16873" y="9783"/>
                  <a:pt x="16900" y="9847"/>
                  <a:pt x="17041" y="9847"/>
                </a:cubicBezTo>
              </a:path>
              <a:path w="17042" h="845">
                <a:moveTo>
                  <a:pt x="17041" y="9847"/>
                </a:moveTo>
                <a:lnTo>
                  <a:pt x="17041" y="9847"/>
                </a:lnTo>
              </a:path>
              <a:path w="17042" h="845">
                <a:moveTo>
                  <a:pt x="17066" y="9575"/>
                </a:moveTo>
                <a:cubicBezTo>
                  <a:pt x="17040" y="9739"/>
                  <a:pt x="17027" y="9905"/>
                  <a:pt x="17016" y="10071"/>
                </a:cubicBezTo>
              </a:path>
              <a:path w="17042" h="845">
                <a:moveTo>
                  <a:pt x="23044" y="9550"/>
                </a:moveTo>
                <a:cubicBezTo>
                  <a:pt x="23024" y="9649"/>
                  <a:pt x="23016" y="9664"/>
                  <a:pt x="23019" y="9723"/>
                </a:cubicBezTo>
              </a:path>
              <a:path w="17042" h="845">
                <a:moveTo>
                  <a:pt x="22994" y="9401"/>
                </a:moveTo>
                <a:cubicBezTo>
                  <a:pt x="23011" y="9409"/>
                  <a:pt x="23027" y="9418"/>
                  <a:pt x="23044" y="9426"/>
                </a:cubicBezTo>
              </a:path>
              <a:path w="17042" h="845">
                <a:moveTo>
                  <a:pt x="23044" y="9426"/>
                </a:moveTo>
                <a:lnTo>
                  <a:pt x="23044" y="9426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393920" y="3375000"/>
            <a:ext cx="722160" cy="214200"/>
          </a:xfrm>
          <a:custGeom>
            <a:avLst/>
            <a:gdLst/>
            <a:ahLst/>
            <a:rect l="l" t="t" r="r" b="b"/>
            <a:pathLst>
              <a:path w="2010" h="596">
                <a:moveTo>
                  <a:pt x="4093" y="9401"/>
                </a:moveTo>
                <a:cubicBezTo>
                  <a:pt x="4073" y="9341"/>
                  <a:pt x="3957" y="9448"/>
                  <a:pt x="3919" y="9475"/>
                </a:cubicBezTo>
                <a:cubicBezTo>
                  <a:pt x="3911" y="9483"/>
                  <a:pt x="3902" y="9492"/>
                  <a:pt x="3894" y="9500"/>
                </a:cubicBezTo>
                <a:cubicBezTo>
                  <a:pt x="4072" y="9541"/>
                  <a:pt x="4184" y="9499"/>
                  <a:pt x="4266" y="9649"/>
                </a:cubicBezTo>
                <a:cubicBezTo>
                  <a:pt x="4130" y="9773"/>
                  <a:pt x="4076" y="9743"/>
                  <a:pt x="3919" y="9699"/>
                </a:cubicBezTo>
                <a:cubicBezTo>
                  <a:pt x="3870" y="9699"/>
                  <a:pt x="3853" y="9699"/>
                  <a:pt x="3870" y="9649"/>
                </a:cubicBezTo>
              </a:path>
              <a:path w="2010" h="596">
                <a:moveTo>
                  <a:pt x="4638" y="9500"/>
                </a:moveTo>
                <a:cubicBezTo>
                  <a:pt x="4493" y="9500"/>
                  <a:pt x="4354" y="9504"/>
                  <a:pt x="4390" y="9699"/>
                </a:cubicBezTo>
                <a:cubicBezTo>
                  <a:pt x="4407" y="9724"/>
                  <a:pt x="4423" y="9748"/>
                  <a:pt x="4440" y="9773"/>
                </a:cubicBezTo>
                <a:cubicBezTo>
                  <a:pt x="4612" y="9756"/>
                  <a:pt x="4612" y="9643"/>
                  <a:pt x="4589" y="9475"/>
                </a:cubicBezTo>
                <a:cubicBezTo>
                  <a:pt x="4589" y="9580"/>
                  <a:pt x="4652" y="9707"/>
                  <a:pt x="4738" y="9773"/>
                </a:cubicBezTo>
                <a:cubicBezTo>
                  <a:pt x="4754" y="9773"/>
                  <a:pt x="4771" y="9773"/>
                  <a:pt x="4787" y="9773"/>
                </a:cubicBezTo>
              </a:path>
              <a:path w="2010" h="596">
                <a:moveTo>
                  <a:pt x="4887" y="9599"/>
                </a:moveTo>
                <a:cubicBezTo>
                  <a:pt x="4907" y="9700"/>
                  <a:pt x="4904" y="9720"/>
                  <a:pt x="4936" y="9773"/>
                </a:cubicBezTo>
                <a:cubicBezTo>
                  <a:pt x="4928" y="9723"/>
                  <a:pt x="4871" y="9489"/>
                  <a:pt x="4911" y="9475"/>
                </a:cubicBezTo>
                <a:cubicBezTo>
                  <a:pt x="5063" y="9422"/>
                  <a:pt x="5160" y="9677"/>
                  <a:pt x="5184" y="9773"/>
                </a:cubicBezTo>
                <a:cubicBezTo>
                  <a:pt x="5169" y="9717"/>
                  <a:pt x="5072" y="9416"/>
                  <a:pt x="5234" y="9475"/>
                </a:cubicBezTo>
                <a:cubicBezTo>
                  <a:pt x="5360" y="9521"/>
                  <a:pt x="5303" y="9882"/>
                  <a:pt x="5407" y="9798"/>
                </a:cubicBezTo>
                <a:cubicBezTo>
                  <a:pt x="5424" y="9773"/>
                  <a:pt x="5440" y="9748"/>
                  <a:pt x="5457" y="9723"/>
                </a:cubicBezTo>
              </a:path>
              <a:path w="2010" h="596">
                <a:moveTo>
                  <a:pt x="5507" y="9624"/>
                </a:moveTo>
                <a:cubicBezTo>
                  <a:pt x="5610" y="9617"/>
                  <a:pt x="5707" y="9594"/>
                  <a:pt x="5804" y="9575"/>
                </a:cubicBezTo>
                <a:cubicBezTo>
                  <a:pt x="5804" y="9594"/>
                  <a:pt x="5769" y="9497"/>
                  <a:pt x="5680" y="9475"/>
                </a:cubicBezTo>
                <a:cubicBezTo>
                  <a:pt x="5503" y="9432"/>
                  <a:pt x="5364" y="9607"/>
                  <a:pt x="5407" y="9773"/>
                </a:cubicBezTo>
                <a:cubicBezTo>
                  <a:pt x="5471" y="10021"/>
                  <a:pt x="5668" y="9978"/>
                  <a:pt x="5829" y="9872"/>
                </a:cubicBezTo>
                <a:cubicBezTo>
                  <a:pt x="5846" y="9856"/>
                  <a:pt x="5862" y="9839"/>
                  <a:pt x="5879" y="982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340000" y="3402000"/>
            <a:ext cx="1428840" cy="277920"/>
          </a:xfrm>
          <a:custGeom>
            <a:avLst/>
            <a:gdLst/>
            <a:ahLst/>
            <a:rect l="l" t="t" r="r" b="b"/>
            <a:pathLst>
              <a:path w="3970" h="770">
                <a:moveTo>
                  <a:pt x="6499" y="9649"/>
                </a:moveTo>
                <a:cubicBezTo>
                  <a:pt x="6607" y="9643"/>
                  <a:pt x="6713" y="9631"/>
                  <a:pt x="6821" y="9624"/>
                </a:cubicBezTo>
                <a:cubicBezTo>
                  <a:pt x="6762" y="9597"/>
                  <a:pt x="6574" y="9425"/>
                  <a:pt x="6524" y="9550"/>
                </a:cubicBezTo>
                <a:cubicBezTo>
                  <a:pt x="6467" y="9691"/>
                  <a:pt x="6521" y="10083"/>
                  <a:pt x="6772" y="9947"/>
                </a:cubicBezTo>
                <a:cubicBezTo>
                  <a:pt x="6822" y="9897"/>
                  <a:pt x="6871" y="9848"/>
                  <a:pt x="6921" y="9798"/>
                </a:cubicBezTo>
              </a:path>
              <a:path w="3970" h="770">
                <a:moveTo>
                  <a:pt x="7045" y="9575"/>
                </a:moveTo>
                <a:cubicBezTo>
                  <a:pt x="7060" y="9735"/>
                  <a:pt x="7075" y="9794"/>
                  <a:pt x="7169" y="9922"/>
                </a:cubicBezTo>
                <a:cubicBezTo>
                  <a:pt x="7191" y="9807"/>
                  <a:pt x="7201" y="9692"/>
                  <a:pt x="7218" y="9575"/>
                </a:cubicBezTo>
              </a:path>
              <a:path w="3970" h="770">
                <a:moveTo>
                  <a:pt x="7367" y="9699"/>
                </a:moveTo>
                <a:cubicBezTo>
                  <a:pt x="7441" y="9699"/>
                  <a:pt x="7516" y="9699"/>
                  <a:pt x="7590" y="9699"/>
                </a:cubicBezTo>
                <a:cubicBezTo>
                  <a:pt x="7590" y="9636"/>
                  <a:pt x="7544" y="9543"/>
                  <a:pt x="7466" y="9575"/>
                </a:cubicBezTo>
                <a:cubicBezTo>
                  <a:pt x="7267" y="9657"/>
                  <a:pt x="7342" y="9890"/>
                  <a:pt x="7516" y="9947"/>
                </a:cubicBezTo>
                <a:cubicBezTo>
                  <a:pt x="7652" y="9947"/>
                  <a:pt x="7700" y="9938"/>
                  <a:pt x="7739" y="9823"/>
                </a:cubicBezTo>
              </a:path>
              <a:path w="3970" h="770">
                <a:moveTo>
                  <a:pt x="7838" y="9674"/>
                </a:moveTo>
                <a:cubicBezTo>
                  <a:pt x="7845" y="9762"/>
                  <a:pt x="7861" y="9840"/>
                  <a:pt x="7888" y="9922"/>
                </a:cubicBezTo>
                <a:cubicBezTo>
                  <a:pt x="7888" y="9794"/>
                  <a:pt x="7912" y="9675"/>
                  <a:pt x="7938" y="9550"/>
                </a:cubicBezTo>
              </a:path>
              <a:path w="3970" h="770">
                <a:moveTo>
                  <a:pt x="8285" y="9599"/>
                </a:moveTo>
                <a:cubicBezTo>
                  <a:pt x="8261" y="9700"/>
                  <a:pt x="8229" y="10109"/>
                  <a:pt x="8483" y="9922"/>
                </a:cubicBezTo>
                <a:cubicBezTo>
                  <a:pt x="8559" y="9796"/>
                  <a:pt x="8584" y="9753"/>
                  <a:pt x="8533" y="9649"/>
                </a:cubicBezTo>
                <a:cubicBezTo>
                  <a:pt x="8533" y="9641"/>
                  <a:pt x="8533" y="9632"/>
                  <a:pt x="8533" y="9624"/>
                </a:cubicBezTo>
                <a:cubicBezTo>
                  <a:pt x="8533" y="9823"/>
                  <a:pt x="8604" y="10128"/>
                  <a:pt x="8359" y="10220"/>
                </a:cubicBezTo>
                <a:cubicBezTo>
                  <a:pt x="8008" y="10352"/>
                  <a:pt x="8060" y="10124"/>
                  <a:pt x="8086" y="9947"/>
                </a:cubicBezTo>
              </a:path>
              <a:path w="3970" h="770">
                <a:moveTo>
                  <a:pt x="8657" y="9674"/>
                </a:moveTo>
                <a:cubicBezTo>
                  <a:pt x="8867" y="9722"/>
                  <a:pt x="9175" y="9809"/>
                  <a:pt x="9252" y="9525"/>
                </a:cubicBezTo>
                <a:cubicBezTo>
                  <a:pt x="9244" y="9500"/>
                  <a:pt x="9235" y="9476"/>
                  <a:pt x="9227" y="9451"/>
                </a:cubicBezTo>
                <a:cubicBezTo>
                  <a:pt x="9200" y="9615"/>
                  <a:pt x="9215" y="9756"/>
                  <a:pt x="9227" y="9922"/>
                </a:cubicBezTo>
                <a:cubicBezTo>
                  <a:pt x="9227" y="9938"/>
                  <a:pt x="9227" y="9955"/>
                  <a:pt x="9227" y="9971"/>
                </a:cubicBezTo>
                <a:cubicBezTo>
                  <a:pt x="9232" y="9910"/>
                  <a:pt x="9261" y="9643"/>
                  <a:pt x="9302" y="9699"/>
                </a:cubicBezTo>
                <a:cubicBezTo>
                  <a:pt x="9392" y="9821"/>
                  <a:pt x="9400" y="10056"/>
                  <a:pt x="9500" y="9922"/>
                </a:cubicBezTo>
              </a:path>
              <a:path w="3970" h="770">
                <a:moveTo>
                  <a:pt x="9649" y="9823"/>
                </a:moveTo>
                <a:cubicBezTo>
                  <a:pt x="9649" y="9906"/>
                  <a:pt x="9649" y="10054"/>
                  <a:pt x="9649" y="9971"/>
                </a:cubicBezTo>
              </a:path>
              <a:path w="3970" h="770">
                <a:moveTo>
                  <a:pt x="9947" y="9872"/>
                </a:moveTo>
                <a:cubicBezTo>
                  <a:pt x="9939" y="9880"/>
                  <a:pt x="9930" y="9889"/>
                  <a:pt x="9922" y="9897"/>
                </a:cubicBezTo>
                <a:cubicBezTo>
                  <a:pt x="9922" y="9793"/>
                  <a:pt x="9912" y="9744"/>
                  <a:pt x="9971" y="9674"/>
                </a:cubicBezTo>
                <a:cubicBezTo>
                  <a:pt x="10035" y="9753"/>
                  <a:pt x="10064" y="9796"/>
                  <a:pt x="10145" y="9847"/>
                </a:cubicBezTo>
              </a:path>
              <a:path w="3970" h="770">
                <a:moveTo>
                  <a:pt x="10269" y="9575"/>
                </a:moveTo>
                <a:cubicBezTo>
                  <a:pt x="10233" y="9654"/>
                  <a:pt x="10194" y="10036"/>
                  <a:pt x="10393" y="9798"/>
                </a:cubicBezTo>
                <a:cubicBezTo>
                  <a:pt x="10410" y="9757"/>
                  <a:pt x="10426" y="9715"/>
                  <a:pt x="10443" y="9674"/>
                </a:cubicBezTo>
                <a:cubicBezTo>
                  <a:pt x="10443" y="9657"/>
                  <a:pt x="10443" y="9641"/>
                  <a:pt x="10443" y="9624"/>
                </a:cubicBezTo>
                <a:cubicBezTo>
                  <a:pt x="10470" y="9919"/>
                  <a:pt x="10434" y="10006"/>
                  <a:pt x="10170" y="1012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02040" y="3367080"/>
            <a:ext cx="804960" cy="187200"/>
          </a:xfrm>
          <a:custGeom>
            <a:avLst/>
            <a:gdLst/>
            <a:ahLst/>
            <a:rect l="l" t="t" r="r" b="b"/>
            <a:pathLst>
              <a:path w="2233" h="522">
                <a:moveTo>
                  <a:pt x="10840" y="9500"/>
                </a:moveTo>
                <a:cubicBezTo>
                  <a:pt x="11020" y="9490"/>
                  <a:pt x="11184" y="9470"/>
                  <a:pt x="11361" y="9451"/>
                </a:cubicBezTo>
                <a:cubicBezTo>
                  <a:pt x="11313" y="9603"/>
                  <a:pt x="11113" y="9898"/>
                  <a:pt x="11410" y="9847"/>
                </a:cubicBezTo>
                <a:cubicBezTo>
                  <a:pt x="11828" y="9776"/>
                  <a:pt x="11608" y="9588"/>
                  <a:pt x="11385" y="9500"/>
                </a:cubicBezTo>
              </a:path>
              <a:path w="2233" h="522">
                <a:moveTo>
                  <a:pt x="12055" y="9525"/>
                </a:moveTo>
                <a:cubicBezTo>
                  <a:pt x="12078" y="9649"/>
                  <a:pt x="12105" y="9721"/>
                  <a:pt x="12105" y="9847"/>
                </a:cubicBezTo>
              </a:path>
              <a:path w="2233" h="522">
                <a:moveTo>
                  <a:pt x="11931" y="9624"/>
                </a:moveTo>
                <a:cubicBezTo>
                  <a:pt x="12186" y="9631"/>
                  <a:pt x="12453" y="9677"/>
                  <a:pt x="12502" y="9351"/>
                </a:cubicBezTo>
                <a:cubicBezTo>
                  <a:pt x="12494" y="9351"/>
                  <a:pt x="12485" y="9351"/>
                  <a:pt x="12477" y="9351"/>
                </a:cubicBezTo>
                <a:cubicBezTo>
                  <a:pt x="12492" y="9502"/>
                  <a:pt x="12514" y="9646"/>
                  <a:pt x="12526" y="9798"/>
                </a:cubicBezTo>
                <a:cubicBezTo>
                  <a:pt x="12582" y="9835"/>
                  <a:pt x="12600" y="9561"/>
                  <a:pt x="12626" y="9475"/>
                </a:cubicBezTo>
                <a:cubicBezTo>
                  <a:pt x="12709" y="9596"/>
                  <a:pt x="12756" y="9725"/>
                  <a:pt x="12824" y="9847"/>
                </a:cubicBezTo>
              </a:path>
              <a:path w="2233" h="522">
                <a:moveTo>
                  <a:pt x="12898" y="9649"/>
                </a:moveTo>
                <a:cubicBezTo>
                  <a:pt x="13020" y="9579"/>
                  <a:pt x="13024" y="9601"/>
                  <a:pt x="13047" y="9475"/>
                </a:cubicBezTo>
                <a:cubicBezTo>
                  <a:pt x="12999" y="9505"/>
                  <a:pt x="12654" y="9858"/>
                  <a:pt x="12898" y="9847"/>
                </a:cubicBezTo>
                <a:cubicBezTo>
                  <a:pt x="12956" y="9822"/>
                  <a:pt x="13014" y="9798"/>
                  <a:pt x="13072" y="977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956120" y="3357720"/>
            <a:ext cx="473040" cy="214200"/>
          </a:xfrm>
          <a:custGeom>
            <a:avLst/>
            <a:gdLst/>
            <a:ahLst/>
            <a:rect l="l" t="t" r="r" b="b"/>
            <a:pathLst>
              <a:path w="1315" h="596">
                <a:moveTo>
                  <a:pt x="13767" y="9649"/>
                </a:moveTo>
                <a:cubicBezTo>
                  <a:pt x="13859" y="9640"/>
                  <a:pt x="13982" y="9597"/>
                  <a:pt x="14039" y="9575"/>
                </a:cubicBezTo>
                <a:cubicBezTo>
                  <a:pt x="14067" y="9575"/>
                  <a:pt x="14073" y="9573"/>
                  <a:pt x="14039" y="9550"/>
                </a:cubicBezTo>
                <a:cubicBezTo>
                  <a:pt x="13904" y="9539"/>
                  <a:pt x="13740" y="9680"/>
                  <a:pt x="13866" y="9847"/>
                </a:cubicBezTo>
                <a:cubicBezTo>
                  <a:pt x="13990" y="9878"/>
                  <a:pt x="14049" y="9880"/>
                  <a:pt x="14139" y="9823"/>
                </a:cubicBezTo>
              </a:path>
              <a:path w="1315" h="596">
                <a:moveTo>
                  <a:pt x="14412" y="9376"/>
                </a:moveTo>
                <a:cubicBezTo>
                  <a:pt x="14382" y="9346"/>
                  <a:pt x="14368" y="9335"/>
                  <a:pt x="14337" y="9327"/>
                </a:cubicBezTo>
                <a:cubicBezTo>
                  <a:pt x="14164" y="9436"/>
                  <a:pt x="14267" y="9590"/>
                  <a:pt x="14288" y="9773"/>
                </a:cubicBezTo>
                <a:cubicBezTo>
                  <a:pt x="14295" y="9831"/>
                  <a:pt x="14288" y="9955"/>
                  <a:pt x="14288" y="9897"/>
                </a:cubicBezTo>
              </a:path>
              <a:path w="1315" h="596">
                <a:moveTo>
                  <a:pt x="14684" y="9351"/>
                </a:moveTo>
                <a:cubicBezTo>
                  <a:pt x="14709" y="9468"/>
                  <a:pt x="14684" y="9763"/>
                  <a:pt x="14759" y="9847"/>
                </a:cubicBezTo>
                <a:cubicBezTo>
                  <a:pt x="14856" y="9955"/>
                  <a:pt x="15018" y="9789"/>
                  <a:pt x="15081" y="974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572080" y="3411360"/>
            <a:ext cx="162000" cy="160560"/>
          </a:xfrm>
          <a:custGeom>
            <a:avLst/>
            <a:gdLst/>
            <a:ahLst/>
            <a:rect l="l" t="t" r="r" b="b"/>
            <a:pathLst>
              <a:path w="448" h="448">
                <a:moveTo>
                  <a:pt x="15875" y="9525"/>
                </a:moveTo>
                <a:cubicBezTo>
                  <a:pt x="15837" y="9469"/>
                  <a:pt x="15656" y="9461"/>
                  <a:pt x="15577" y="9500"/>
                </a:cubicBezTo>
                <a:cubicBezTo>
                  <a:pt x="15552" y="9525"/>
                  <a:pt x="15528" y="9550"/>
                  <a:pt x="15503" y="9575"/>
                </a:cubicBezTo>
                <a:cubicBezTo>
                  <a:pt x="15503" y="9658"/>
                  <a:pt x="15793" y="9636"/>
                  <a:pt x="15900" y="9723"/>
                </a:cubicBezTo>
                <a:cubicBezTo>
                  <a:pt x="15908" y="9748"/>
                  <a:pt x="15917" y="9773"/>
                  <a:pt x="15925" y="9798"/>
                </a:cubicBezTo>
                <a:cubicBezTo>
                  <a:pt x="15775" y="9870"/>
                  <a:pt x="15579" y="9994"/>
                  <a:pt x="15478" y="987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884920" y="3438360"/>
            <a:ext cx="393480" cy="142920"/>
          </a:xfrm>
          <a:custGeom>
            <a:avLst/>
            <a:gdLst/>
            <a:ahLst/>
            <a:rect l="l" t="t" r="r" b="b"/>
            <a:pathLst>
              <a:path w="1093" h="398">
                <a:moveTo>
                  <a:pt x="16768" y="9674"/>
                </a:moveTo>
                <a:cubicBezTo>
                  <a:pt x="16644" y="9632"/>
                  <a:pt x="16490" y="9560"/>
                  <a:pt x="16371" y="9699"/>
                </a:cubicBezTo>
                <a:cubicBezTo>
                  <a:pt x="16353" y="9790"/>
                  <a:pt x="16344" y="9797"/>
                  <a:pt x="16346" y="9847"/>
                </a:cubicBezTo>
                <a:cubicBezTo>
                  <a:pt x="16405" y="9841"/>
                  <a:pt x="16642" y="9723"/>
                  <a:pt x="16644" y="9723"/>
                </a:cubicBezTo>
                <a:cubicBezTo>
                  <a:pt x="16715" y="9737"/>
                  <a:pt x="16767" y="9872"/>
                  <a:pt x="16818" y="9823"/>
                </a:cubicBezTo>
              </a:path>
              <a:path w="1093" h="398">
                <a:moveTo>
                  <a:pt x="17338" y="9550"/>
                </a:moveTo>
                <a:cubicBezTo>
                  <a:pt x="17251" y="9593"/>
                  <a:pt x="17228" y="9600"/>
                  <a:pt x="17190" y="9649"/>
                </a:cubicBezTo>
                <a:cubicBezTo>
                  <a:pt x="17232" y="9722"/>
                  <a:pt x="17359" y="9778"/>
                  <a:pt x="17438" y="9872"/>
                </a:cubicBezTo>
                <a:cubicBezTo>
                  <a:pt x="17327" y="9983"/>
                  <a:pt x="17250" y="9963"/>
                  <a:pt x="17140" y="987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446880" y="3419640"/>
            <a:ext cx="635040" cy="144360"/>
          </a:xfrm>
          <a:custGeom>
            <a:avLst/>
            <a:gdLst/>
            <a:ahLst/>
            <a:rect l="l" t="t" r="r" b="b"/>
            <a:pathLst>
              <a:path w="1762" h="398">
                <a:moveTo>
                  <a:pt x="18157" y="9525"/>
                </a:moveTo>
                <a:cubicBezTo>
                  <a:pt x="18104" y="9507"/>
                  <a:pt x="18051" y="9525"/>
                  <a:pt x="17983" y="9525"/>
                </a:cubicBezTo>
                <a:cubicBezTo>
                  <a:pt x="18071" y="9630"/>
                  <a:pt x="18197" y="9655"/>
                  <a:pt x="18256" y="9773"/>
                </a:cubicBezTo>
                <a:cubicBezTo>
                  <a:pt x="18221" y="9792"/>
                  <a:pt x="17889" y="9888"/>
                  <a:pt x="17909" y="9847"/>
                </a:cubicBezTo>
                <a:cubicBezTo>
                  <a:pt x="17934" y="9822"/>
                  <a:pt x="17958" y="9798"/>
                  <a:pt x="17983" y="9773"/>
                </a:cubicBezTo>
              </a:path>
              <a:path w="1762" h="398">
                <a:moveTo>
                  <a:pt x="18604" y="9550"/>
                </a:moveTo>
                <a:cubicBezTo>
                  <a:pt x="18464" y="9524"/>
                  <a:pt x="18275" y="9602"/>
                  <a:pt x="18355" y="9798"/>
                </a:cubicBezTo>
                <a:cubicBezTo>
                  <a:pt x="18435" y="9997"/>
                  <a:pt x="18590" y="9710"/>
                  <a:pt x="18604" y="9649"/>
                </a:cubicBezTo>
                <a:cubicBezTo>
                  <a:pt x="18569" y="9707"/>
                  <a:pt x="18564" y="9843"/>
                  <a:pt x="18653" y="9872"/>
                </a:cubicBezTo>
                <a:cubicBezTo>
                  <a:pt x="18768" y="9909"/>
                  <a:pt x="18820" y="9554"/>
                  <a:pt x="18827" y="9674"/>
                </a:cubicBezTo>
                <a:cubicBezTo>
                  <a:pt x="18827" y="9766"/>
                  <a:pt x="18825" y="9792"/>
                  <a:pt x="18852" y="9847"/>
                </a:cubicBezTo>
                <a:cubicBezTo>
                  <a:pt x="18908" y="9536"/>
                  <a:pt x="18929" y="9602"/>
                  <a:pt x="19075" y="9847"/>
                </a:cubicBezTo>
                <a:cubicBezTo>
                  <a:pt x="19075" y="9976"/>
                  <a:pt x="19070" y="9631"/>
                  <a:pt x="19149" y="9599"/>
                </a:cubicBezTo>
                <a:cubicBezTo>
                  <a:pt x="19273" y="9549"/>
                  <a:pt x="19271" y="9843"/>
                  <a:pt x="19248" y="9897"/>
                </a:cubicBezTo>
              </a:path>
              <a:path w="1762" h="398">
                <a:moveTo>
                  <a:pt x="19447" y="9674"/>
                </a:moveTo>
                <a:cubicBezTo>
                  <a:pt x="19514" y="9661"/>
                  <a:pt x="19591" y="9639"/>
                  <a:pt x="19645" y="9599"/>
                </a:cubicBezTo>
                <a:cubicBezTo>
                  <a:pt x="19653" y="9591"/>
                  <a:pt x="19662" y="9583"/>
                  <a:pt x="19670" y="9575"/>
                </a:cubicBezTo>
                <a:cubicBezTo>
                  <a:pt x="19594" y="9529"/>
                  <a:pt x="19406" y="9554"/>
                  <a:pt x="19372" y="9699"/>
                </a:cubicBezTo>
                <a:cubicBezTo>
                  <a:pt x="19338" y="9845"/>
                  <a:pt x="19492" y="9837"/>
                  <a:pt x="19571" y="984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259760" y="3348000"/>
            <a:ext cx="1312920" cy="304920"/>
          </a:xfrm>
          <a:custGeom>
            <a:avLst/>
            <a:gdLst/>
            <a:ahLst/>
            <a:rect l="l" t="t" r="r" b="b"/>
            <a:pathLst>
              <a:path w="3647" h="844">
                <a:moveTo>
                  <a:pt x="20241" y="9624"/>
                </a:moveTo>
                <a:cubicBezTo>
                  <a:pt x="20365" y="9608"/>
                  <a:pt x="20495" y="9601"/>
                  <a:pt x="20613" y="9575"/>
                </a:cubicBezTo>
                <a:cubicBezTo>
                  <a:pt x="20475" y="9483"/>
                  <a:pt x="20321" y="9392"/>
                  <a:pt x="20216" y="9575"/>
                </a:cubicBezTo>
                <a:cubicBezTo>
                  <a:pt x="20199" y="9624"/>
                  <a:pt x="20183" y="9674"/>
                  <a:pt x="20166" y="9723"/>
                </a:cubicBezTo>
                <a:cubicBezTo>
                  <a:pt x="20396" y="9917"/>
                  <a:pt x="20485" y="9902"/>
                  <a:pt x="20687" y="9674"/>
                </a:cubicBezTo>
              </a:path>
              <a:path w="3647" h="844">
                <a:moveTo>
                  <a:pt x="20687" y="9525"/>
                </a:moveTo>
                <a:cubicBezTo>
                  <a:pt x="20717" y="9642"/>
                  <a:pt x="20769" y="9721"/>
                  <a:pt x="20836" y="9823"/>
                </a:cubicBezTo>
                <a:cubicBezTo>
                  <a:pt x="20871" y="9717"/>
                  <a:pt x="20932" y="9610"/>
                  <a:pt x="20960" y="9500"/>
                </a:cubicBezTo>
              </a:path>
              <a:path w="3647" h="844">
                <a:moveTo>
                  <a:pt x="21158" y="9649"/>
                </a:moveTo>
                <a:cubicBezTo>
                  <a:pt x="21247" y="9592"/>
                  <a:pt x="21267" y="9578"/>
                  <a:pt x="21332" y="9500"/>
                </a:cubicBezTo>
                <a:cubicBezTo>
                  <a:pt x="21223" y="9526"/>
                  <a:pt x="20893" y="9688"/>
                  <a:pt x="21134" y="9823"/>
                </a:cubicBezTo>
                <a:cubicBezTo>
                  <a:pt x="21167" y="9823"/>
                  <a:pt x="21200" y="9823"/>
                  <a:pt x="21233" y="9823"/>
                </a:cubicBezTo>
              </a:path>
              <a:path w="3647" h="844">
                <a:moveTo>
                  <a:pt x="21431" y="9723"/>
                </a:moveTo>
                <a:cubicBezTo>
                  <a:pt x="21450" y="9797"/>
                  <a:pt x="21458" y="9804"/>
                  <a:pt x="21456" y="9847"/>
                </a:cubicBezTo>
                <a:cubicBezTo>
                  <a:pt x="21456" y="9750"/>
                  <a:pt x="21429" y="9623"/>
                  <a:pt x="21530" y="9575"/>
                </a:cubicBezTo>
                <a:cubicBezTo>
                  <a:pt x="21563" y="9567"/>
                  <a:pt x="21597" y="9558"/>
                  <a:pt x="21630" y="9550"/>
                </a:cubicBezTo>
              </a:path>
              <a:path w="3647" h="844">
                <a:moveTo>
                  <a:pt x="21903" y="9500"/>
                </a:moveTo>
                <a:cubicBezTo>
                  <a:pt x="21899" y="9529"/>
                  <a:pt x="21828" y="9946"/>
                  <a:pt x="21977" y="9798"/>
                </a:cubicBezTo>
                <a:cubicBezTo>
                  <a:pt x="22038" y="9737"/>
                  <a:pt x="22042" y="9627"/>
                  <a:pt x="22051" y="9550"/>
                </a:cubicBezTo>
                <a:cubicBezTo>
                  <a:pt x="22012" y="9721"/>
                  <a:pt x="22030" y="10041"/>
                  <a:pt x="21853" y="10145"/>
                </a:cubicBezTo>
                <a:cubicBezTo>
                  <a:pt x="21586" y="10302"/>
                  <a:pt x="21630" y="9931"/>
                  <a:pt x="21630" y="9847"/>
                </a:cubicBezTo>
              </a:path>
              <a:path w="3647" h="844">
                <a:moveTo>
                  <a:pt x="22423" y="9351"/>
                </a:moveTo>
                <a:cubicBezTo>
                  <a:pt x="22413" y="9511"/>
                  <a:pt x="22413" y="9640"/>
                  <a:pt x="22423" y="9798"/>
                </a:cubicBezTo>
              </a:path>
              <a:path w="3647" h="844">
                <a:moveTo>
                  <a:pt x="22200" y="9525"/>
                </a:moveTo>
                <a:cubicBezTo>
                  <a:pt x="22353" y="9614"/>
                  <a:pt x="22556" y="9638"/>
                  <a:pt x="22671" y="9451"/>
                </a:cubicBezTo>
                <a:cubicBezTo>
                  <a:pt x="22711" y="9386"/>
                  <a:pt x="22698" y="9304"/>
                  <a:pt x="22671" y="9376"/>
                </a:cubicBezTo>
                <a:cubicBezTo>
                  <a:pt x="22667" y="9501"/>
                  <a:pt x="22660" y="9600"/>
                  <a:pt x="22647" y="9723"/>
                </a:cubicBezTo>
                <a:cubicBezTo>
                  <a:pt x="22654" y="9686"/>
                  <a:pt x="22724" y="9396"/>
                  <a:pt x="22796" y="9500"/>
                </a:cubicBezTo>
                <a:cubicBezTo>
                  <a:pt x="22859" y="9590"/>
                  <a:pt x="22880" y="9671"/>
                  <a:pt x="22895" y="9773"/>
                </a:cubicBezTo>
              </a:path>
              <a:path w="3647" h="844">
                <a:moveTo>
                  <a:pt x="23267" y="9674"/>
                </a:moveTo>
                <a:cubicBezTo>
                  <a:pt x="23267" y="9708"/>
                  <a:pt x="23213" y="9584"/>
                  <a:pt x="23242" y="9500"/>
                </a:cubicBezTo>
                <a:cubicBezTo>
                  <a:pt x="23259" y="9475"/>
                  <a:pt x="23275" y="9451"/>
                  <a:pt x="23292" y="9426"/>
                </a:cubicBezTo>
                <a:cubicBezTo>
                  <a:pt x="23423" y="9470"/>
                  <a:pt x="23298" y="9652"/>
                  <a:pt x="23416" y="9723"/>
                </a:cubicBezTo>
                <a:cubicBezTo>
                  <a:pt x="23449" y="9715"/>
                  <a:pt x="23482" y="9707"/>
                  <a:pt x="23515" y="9699"/>
                </a:cubicBezTo>
              </a:path>
              <a:path w="3647" h="844">
                <a:moveTo>
                  <a:pt x="23564" y="9475"/>
                </a:moveTo>
                <a:cubicBezTo>
                  <a:pt x="23499" y="9622"/>
                  <a:pt x="23549" y="9825"/>
                  <a:pt x="23738" y="9624"/>
                </a:cubicBezTo>
                <a:cubicBezTo>
                  <a:pt x="23776" y="9531"/>
                  <a:pt x="23769" y="9513"/>
                  <a:pt x="23812" y="9475"/>
                </a:cubicBezTo>
                <a:cubicBezTo>
                  <a:pt x="23812" y="9658"/>
                  <a:pt x="23891" y="9987"/>
                  <a:pt x="23639" y="10046"/>
                </a:cubicBezTo>
                <a:cubicBezTo>
                  <a:pt x="23565" y="10038"/>
                  <a:pt x="23490" y="10029"/>
                  <a:pt x="23416" y="1002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85000" y="3598920"/>
            <a:ext cx="339840" cy="187200"/>
          </a:xfrm>
          <a:custGeom>
            <a:avLst/>
            <a:gdLst/>
            <a:ahLst/>
            <a:rect l="l" t="t" r="r" b="b"/>
            <a:pathLst>
              <a:path w="944" h="522">
                <a:moveTo>
                  <a:pt x="19596" y="10120"/>
                </a:moveTo>
                <a:cubicBezTo>
                  <a:pt x="19596" y="10035"/>
                  <a:pt x="19520" y="9973"/>
                  <a:pt x="19422" y="9996"/>
                </a:cubicBezTo>
                <a:cubicBezTo>
                  <a:pt x="19209" y="10047"/>
                  <a:pt x="19235" y="10337"/>
                  <a:pt x="19472" y="10244"/>
                </a:cubicBezTo>
                <a:cubicBezTo>
                  <a:pt x="19559" y="10179"/>
                  <a:pt x="19587" y="10169"/>
                  <a:pt x="19596" y="10096"/>
                </a:cubicBezTo>
                <a:cubicBezTo>
                  <a:pt x="19618" y="10205"/>
                  <a:pt x="19705" y="10369"/>
                  <a:pt x="19596" y="10468"/>
                </a:cubicBezTo>
                <a:cubicBezTo>
                  <a:pt x="19533" y="10525"/>
                  <a:pt x="19080" y="10544"/>
                  <a:pt x="19124" y="10393"/>
                </a:cubicBezTo>
                <a:cubicBezTo>
                  <a:pt x="19149" y="10385"/>
                  <a:pt x="19174" y="10376"/>
                  <a:pt x="19199" y="10368"/>
                </a:cubicBezTo>
              </a:path>
              <a:path w="944" h="522">
                <a:moveTo>
                  <a:pt x="19893" y="10170"/>
                </a:moveTo>
                <a:cubicBezTo>
                  <a:pt x="19727" y="10204"/>
                  <a:pt x="19681" y="10266"/>
                  <a:pt x="19670" y="10418"/>
                </a:cubicBezTo>
                <a:cubicBezTo>
                  <a:pt x="19745" y="10413"/>
                  <a:pt x="20296" y="10358"/>
                  <a:pt x="19993" y="10170"/>
                </a:cubicBezTo>
                <a:cubicBezTo>
                  <a:pt x="19853" y="10130"/>
                  <a:pt x="19831" y="10113"/>
                  <a:pt x="19745" y="1012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715160" y="3652920"/>
            <a:ext cx="1009800" cy="98280"/>
          </a:xfrm>
          <a:custGeom>
            <a:avLst/>
            <a:gdLst/>
            <a:ahLst/>
            <a:rect l="l" t="t" r="r" b="b"/>
            <a:pathLst>
              <a:path w="2804" h="274">
                <a:moveTo>
                  <a:pt x="21431" y="10195"/>
                </a:moveTo>
                <a:cubicBezTo>
                  <a:pt x="21573" y="10227"/>
                  <a:pt x="21861" y="10185"/>
                  <a:pt x="21977" y="10244"/>
                </a:cubicBezTo>
                <a:cubicBezTo>
                  <a:pt x="21977" y="10252"/>
                  <a:pt x="21977" y="10261"/>
                  <a:pt x="21977" y="10269"/>
                </a:cubicBezTo>
                <a:cubicBezTo>
                  <a:pt x="21844" y="10381"/>
                  <a:pt x="21889" y="10443"/>
                  <a:pt x="22076" y="10393"/>
                </a:cubicBezTo>
                <a:cubicBezTo>
                  <a:pt x="22327" y="10326"/>
                  <a:pt x="22007" y="10232"/>
                  <a:pt x="21952" y="10220"/>
                </a:cubicBezTo>
              </a:path>
              <a:path w="2804" h="274">
                <a:moveTo>
                  <a:pt x="22547" y="10220"/>
                </a:moveTo>
                <a:cubicBezTo>
                  <a:pt x="22657" y="10165"/>
                  <a:pt x="22728" y="10125"/>
                  <a:pt x="22845" y="10170"/>
                </a:cubicBezTo>
                <a:cubicBezTo>
                  <a:pt x="22803" y="10311"/>
                  <a:pt x="22729" y="10357"/>
                  <a:pt x="22597" y="10418"/>
                </a:cubicBezTo>
                <a:cubicBezTo>
                  <a:pt x="22687" y="10418"/>
                  <a:pt x="22823" y="10376"/>
                  <a:pt x="22870" y="10368"/>
                </a:cubicBezTo>
                <a:cubicBezTo>
                  <a:pt x="22903" y="10368"/>
                  <a:pt x="22936" y="10368"/>
                  <a:pt x="22969" y="10368"/>
                </a:cubicBezTo>
              </a:path>
              <a:path w="2804" h="274">
                <a:moveTo>
                  <a:pt x="22994" y="10344"/>
                </a:moveTo>
                <a:cubicBezTo>
                  <a:pt x="23098" y="10318"/>
                  <a:pt x="23201" y="10332"/>
                  <a:pt x="23217" y="10220"/>
                </a:cubicBezTo>
                <a:cubicBezTo>
                  <a:pt x="23045" y="10180"/>
                  <a:pt x="23012" y="10185"/>
                  <a:pt x="22944" y="10344"/>
                </a:cubicBezTo>
                <a:cubicBezTo>
                  <a:pt x="23092" y="10435"/>
                  <a:pt x="23284" y="10413"/>
                  <a:pt x="23440" y="10319"/>
                </a:cubicBezTo>
                <a:cubicBezTo>
                  <a:pt x="23538" y="10260"/>
                  <a:pt x="23515" y="10235"/>
                  <a:pt x="23515" y="10393"/>
                </a:cubicBezTo>
                <a:cubicBezTo>
                  <a:pt x="23527" y="10324"/>
                  <a:pt x="23548" y="10210"/>
                  <a:pt x="23614" y="10170"/>
                </a:cubicBezTo>
                <a:cubicBezTo>
                  <a:pt x="23639" y="10162"/>
                  <a:pt x="23663" y="10153"/>
                  <a:pt x="23688" y="10145"/>
                </a:cubicBezTo>
              </a:path>
              <a:path w="2804" h="274">
                <a:moveTo>
                  <a:pt x="24135" y="10170"/>
                </a:moveTo>
                <a:cubicBezTo>
                  <a:pt x="23982" y="10104"/>
                  <a:pt x="23906" y="10197"/>
                  <a:pt x="23788" y="10294"/>
                </a:cubicBezTo>
                <a:cubicBezTo>
                  <a:pt x="23877" y="10383"/>
                  <a:pt x="24174" y="10480"/>
                  <a:pt x="24234" y="10244"/>
                </a:cubicBezTo>
                <a:cubicBezTo>
                  <a:pt x="24248" y="10187"/>
                  <a:pt x="24050" y="10159"/>
                  <a:pt x="24011" y="1014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42120" y="3606840"/>
            <a:ext cx="268200" cy="108000"/>
          </a:xfrm>
          <a:custGeom>
            <a:avLst/>
            <a:gdLst/>
            <a:ahLst/>
            <a:rect l="l" t="t" r="r" b="b"/>
            <a:pathLst>
              <a:path w="745" h="299">
                <a:moveTo>
                  <a:pt x="20191" y="10220"/>
                </a:moveTo>
                <a:cubicBezTo>
                  <a:pt x="20234" y="10185"/>
                  <a:pt x="20312" y="10170"/>
                  <a:pt x="20389" y="10170"/>
                </a:cubicBezTo>
                <a:cubicBezTo>
                  <a:pt x="20389" y="10057"/>
                  <a:pt x="20309" y="10021"/>
                  <a:pt x="20191" y="10021"/>
                </a:cubicBezTo>
                <a:cubicBezTo>
                  <a:pt x="20174" y="10029"/>
                  <a:pt x="20158" y="10038"/>
                  <a:pt x="20141" y="10046"/>
                </a:cubicBezTo>
                <a:cubicBezTo>
                  <a:pt x="20103" y="10218"/>
                  <a:pt x="20092" y="10269"/>
                  <a:pt x="20265" y="10269"/>
                </a:cubicBezTo>
              </a:path>
              <a:path w="745" h="299">
                <a:moveTo>
                  <a:pt x="20638" y="10021"/>
                </a:moveTo>
                <a:cubicBezTo>
                  <a:pt x="20613" y="10021"/>
                  <a:pt x="20588" y="10021"/>
                  <a:pt x="20563" y="10021"/>
                </a:cubicBezTo>
                <a:cubicBezTo>
                  <a:pt x="20563" y="10114"/>
                  <a:pt x="20779" y="10121"/>
                  <a:pt x="20861" y="10145"/>
                </a:cubicBezTo>
                <a:cubicBezTo>
                  <a:pt x="20802" y="10322"/>
                  <a:pt x="20708" y="10326"/>
                  <a:pt x="20538" y="1026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35840" y="3633840"/>
            <a:ext cx="760320" cy="349200"/>
          </a:xfrm>
          <a:custGeom>
            <a:avLst/>
            <a:gdLst/>
            <a:ahLst/>
            <a:rect l="l" t="t" r="r" b="b"/>
            <a:pathLst>
              <a:path w="2109" h="968">
                <a:moveTo>
                  <a:pt x="21580" y="10096"/>
                </a:moveTo>
                <a:cubicBezTo>
                  <a:pt x="21595" y="10198"/>
                  <a:pt x="21625" y="10291"/>
                  <a:pt x="21654" y="10393"/>
                </a:cubicBezTo>
              </a:path>
              <a:path w="2109" h="968">
                <a:moveTo>
                  <a:pt x="19546" y="10988"/>
                </a:moveTo>
                <a:cubicBezTo>
                  <a:pt x="19546" y="10980"/>
                  <a:pt x="19546" y="10972"/>
                  <a:pt x="19546" y="10964"/>
                </a:cubicBezTo>
              </a:path>
              <a:path w="2109" h="968">
                <a:moveTo>
                  <a:pt x="19546" y="10964"/>
                </a:moveTo>
                <a:lnTo>
                  <a:pt x="19546" y="10964"/>
                </a:lnTo>
              </a:path>
              <a:path w="2109" h="968">
                <a:moveTo>
                  <a:pt x="20365" y="10765"/>
                </a:moveTo>
                <a:lnTo>
                  <a:pt x="20365" y="10765"/>
                </a:lnTo>
              </a:path>
              <a:path w="2109" h="968">
                <a:moveTo>
                  <a:pt x="21481" y="11063"/>
                </a:moveTo>
                <a:cubicBezTo>
                  <a:pt x="21481" y="11022"/>
                  <a:pt x="21497" y="11013"/>
                  <a:pt x="21555" y="11038"/>
                </a:cubicBezTo>
              </a:path>
              <a:path w="2109" h="968">
                <a:moveTo>
                  <a:pt x="21555" y="11038"/>
                </a:moveTo>
                <a:lnTo>
                  <a:pt x="21555" y="11038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796080" y="3857760"/>
            <a:ext cx="785880" cy="374400"/>
          </a:xfrm>
          <a:custGeom>
            <a:avLst/>
            <a:gdLst/>
            <a:ahLst/>
            <a:rect l="l" t="t" r="r" b="b"/>
            <a:pathLst>
              <a:path w="2184" h="1042">
                <a:moveTo>
                  <a:pt x="19248" y="11137"/>
                </a:moveTo>
                <a:cubicBezTo>
                  <a:pt x="19273" y="11137"/>
                  <a:pt x="19281" y="11137"/>
                  <a:pt x="19298" y="11137"/>
                </a:cubicBezTo>
                <a:cubicBezTo>
                  <a:pt x="19284" y="11067"/>
                  <a:pt x="19231" y="11033"/>
                  <a:pt x="19149" y="11038"/>
                </a:cubicBezTo>
                <a:cubicBezTo>
                  <a:pt x="18933" y="11050"/>
                  <a:pt x="18897" y="11180"/>
                  <a:pt x="18876" y="11361"/>
                </a:cubicBezTo>
                <a:cubicBezTo>
                  <a:pt x="19092" y="11409"/>
                  <a:pt x="19212" y="11429"/>
                  <a:pt x="19323" y="11237"/>
                </a:cubicBezTo>
              </a:path>
              <a:path w="2184" h="1042">
                <a:moveTo>
                  <a:pt x="19224" y="10765"/>
                </a:moveTo>
                <a:cubicBezTo>
                  <a:pt x="19246" y="10927"/>
                  <a:pt x="19304" y="11080"/>
                  <a:pt x="19348" y="11237"/>
                </a:cubicBezTo>
                <a:cubicBezTo>
                  <a:pt x="19368" y="11319"/>
                  <a:pt x="19376" y="11369"/>
                  <a:pt x="19372" y="11286"/>
                </a:cubicBezTo>
              </a:path>
              <a:path w="2184" h="1042">
                <a:moveTo>
                  <a:pt x="19496" y="11063"/>
                </a:moveTo>
                <a:cubicBezTo>
                  <a:pt x="19556" y="11160"/>
                  <a:pt x="19679" y="11551"/>
                  <a:pt x="19621" y="11212"/>
                </a:cubicBezTo>
              </a:path>
              <a:path w="2184" h="1042">
                <a:moveTo>
                  <a:pt x="20092" y="11063"/>
                </a:moveTo>
                <a:cubicBezTo>
                  <a:pt x="19977" y="11055"/>
                  <a:pt x="19685" y="11146"/>
                  <a:pt x="19844" y="11336"/>
                </a:cubicBezTo>
                <a:cubicBezTo>
                  <a:pt x="19885" y="11352"/>
                  <a:pt x="19927" y="11369"/>
                  <a:pt x="19968" y="11385"/>
                </a:cubicBezTo>
                <a:cubicBezTo>
                  <a:pt x="20132" y="11247"/>
                  <a:pt x="19988" y="11199"/>
                  <a:pt x="20042" y="11088"/>
                </a:cubicBezTo>
                <a:cubicBezTo>
                  <a:pt x="20050" y="11096"/>
                  <a:pt x="20059" y="11104"/>
                  <a:pt x="20067" y="11112"/>
                </a:cubicBezTo>
                <a:cubicBezTo>
                  <a:pt x="20190" y="11312"/>
                  <a:pt x="20437" y="11589"/>
                  <a:pt x="20117" y="11733"/>
                </a:cubicBezTo>
                <a:cubicBezTo>
                  <a:pt x="19954" y="11806"/>
                  <a:pt x="19834" y="11748"/>
                  <a:pt x="19745" y="11658"/>
                </a:cubicBezTo>
              </a:path>
              <a:path w="2184" h="1042">
                <a:moveTo>
                  <a:pt x="20315" y="11162"/>
                </a:moveTo>
                <a:cubicBezTo>
                  <a:pt x="20328" y="11124"/>
                  <a:pt x="20349" y="11125"/>
                  <a:pt x="20365" y="11063"/>
                </a:cubicBezTo>
                <a:cubicBezTo>
                  <a:pt x="20365" y="11055"/>
                  <a:pt x="20365" y="11046"/>
                  <a:pt x="20365" y="11038"/>
                </a:cubicBezTo>
                <a:cubicBezTo>
                  <a:pt x="20415" y="11194"/>
                  <a:pt x="20409" y="11368"/>
                  <a:pt x="20414" y="11534"/>
                </a:cubicBezTo>
                <a:cubicBezTo>
                  <a:pt x="20414" y="11562"/>
                  <a:pt x="20416" y="11568"/>
                  <a:pt x="20439" y="11534"/>
                </a:cubicBezTo>
              </a:path>
              <a:path w="2184" h="1042">
                <a:moveTo>
                  <a:pt x="20662" y="10716"/>
                </a:moveTo>
                <a:cubicBezTo>
                  <a:pt x="20729" y="10980"/>
                  <a:pt x="20779" y="11210"/>
                  <a:pt x="20786" y="11485"/>
                </a:cubicBezTo>
                <a:cubicBezTo>
                  <a:pt x="20786" y="11559"/>
                  <a:pt x="20786" y="11550"/>
                  <a:pt x="20786" y="11410"/>
                </a:cubicBezTo>
              </a:path>
              <a:path w="2184" h="1042">
                <a:moveTo>
                  <a:pt x="20662" y="11112"/>
                </a:moveTo>
                <a:cubicBezTo>
                  <a:pt x="20794" y="11112"/>
                  <a:pt x="20927" y="11112"/>
                  <a:pt x="21059" y="1111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796160" y="3963960"/>
            <a:ext cx="1249560" cy="206280"/>
          </a:xfrm>
          <a:custGeom>
            <a:avLst/>
            <a:gdLst/>
            <a:ahLst/>
            <a:rect l="l" t="t" r="r" b="b"/>
            <a:pathLst>
              <a:path w="3474" h="572">
                <a:moveTo>
                  <a:pt x="21654" y="11187"/>
                </a:moveTo>
                <a:cubicBezTo>
                  <a:pt x="21654" y="11328"/>
                  <a:pt x="21654" y="11559"/>
                  <a:pt x="21654" y="11559"/>
                </a:cubicBezTo>
              </a:path>
              <a:path w="3474" h="572">
                <a:moveTo>
                  <a:pt x="21878" y="11460"/>
                </a:moveTo>
                <a:cubicBezTo>
                  <a:pt x="21914" y="11533"/>
                  <a:pt x="21931" y="11538"/>
                  <a:pt x="21927" y="11584"/>
                </a:cubicBezTo>
                <a:cubicBezTo>
                  <a:pt x="21921" y="11413"/>
                  <a:pt x="21924" y="11343"/>
                  <a:pt x="22002" y="11187"/>
                </a:cubicBezTo>
                <a:cubicBezTo>
                  <a:pt x="22219" y="11233"/>
                  <a:pt x="22290" y="11330"/>
                  <a:pt x="22250" y="11559"/>
                </a:cubicBezTo>
                <a:cubicBezTo>
                  <a:pt x="22242" y="11567"/>
                  <a:pt x="22233" y="11576"/>
                  <a:pt x="22225" y="11584"/>
                </a:cubicBezTo>
              </a:path>
              <a:path w="3474" h="572">
                <a:moveTo>
                  <a:pt x="22523" y="11162"/>
                </a:moveTo>
                <a:cubicBezTo>
                  <a:pt x="22583" y="11208"/>
                  <a:pt x="22561" y="11192"/>
                  <a:pt x="22597" y="11112"/>
                </a:cubicBezTo>
                <a:cubicBezTo>
                  <a:pt x="22449" y="11004"/>
                  <a:pt x="22390" y="11260"/>
                  <a:pt x="22399" y="11385"/>
                </a:cubicBezTo>
                <a:cubicBezTo>
                  <a:pt x="22417" y="11652"/>
                  <a:pt x="22629" y="11537"/>
                  <a:pt x="22796" y="11509"/>
                </a:cubicBezTo>
              </a:path>
              <a:path w="3474" h="572">
                <a:moveTo>
                  <a:pt x="22895" y="11187"/>
                </a:moveTo>
                <a:cubicBezTo>
                  <a:pt x="22899" y="11263"/>
                  <a:pt x="22920" y="11526"/>
                  <a:pt x="22920" y="11509"/>
                </a:cubicBezTo>
                <a:cubicBezTo>
                  <a:pt x="22936" y="11359"/>
                  <a:pt x="22944" y="11157"/>
                  <a:pt x="23143" y="11162"/>
                </a:cubicBezTo>
                <a:cubicBezTo>
                  <a:pt x="23193" y="11170"/>
                  <a:pt x="23242" y="11179"/>
                  <a:pt x="23292" y="11187"/>
                </a:cubicBezTo>
              </a:path>
              <a:path w="3474" h="572">
                <a:moveTo>
                  <a:pt x="23316" y="11286"/>
                </a:moveTo>
                <a:cubicBezTo>
                  <a:pt x="23392" y="11230"/>
                  <a:pt x="23405" y="11227"/>
                  <a:pt x="23440" y="11187"/>
                </a:cubicBezTo>
                <a:cubicBezTo>
                  <a:pt x="23348" y="11212"/>
                  <a:pt x="23021" y="11359"/>
                  <a:pt x="23118" y="11534"/>
                </a:cubicBezTo>
                <a:cubicBezTo>
                  <a:pt x="23270" y="11572"/>
                  <a:pt x="23354" y="11560"/>
                  <a:pt x="23465" y="11460"/>
                </a:cubicBezTo>
              </a:path>
              <a:path w="3474" h="572">
                <a:moveTo>
                  <a:pt x="23788" y="11187"/>
                </a:moveTo>
                <a:cubicBezTo>
                  <a:pt x="23665" y="11138"/>
                  <a:pt x="23522" y="11328"/>
                  <a:pt x="23515" y="11460"/>
                </a:cubicBezTo>
                <a:cubicBezTo>
                  <a:pt x="23508" y="11591"/>
                  <a:pt x="23700" y="11458"/>
                  <a:pt x="23788" y="11361"/>
                </a:cubicBezTo>
                <a:cubicBezTo>
                  <a:pt x="23788" y="11100"/>
                  <a:pt x="23722" y="11488"/>
                  <a:pt x="23837" y="11509"/>
                </a:cubicBezTo>
                <a:cubicBezTo>
                  <a:pt x="24028" y="11446"/>
                  <a:pt x="24115" y="11407"/>
                  <a:pt x="24234" y="11311"/>
                </a:cubicBezTo>
              </a:path>
              <a:path w="3474" h="572">
                <a:moveTo>
                  <a:pt x="24185" y="11088"/>
                </a:moveTo>
                <a:cubicBezTo>
                  <a:pt x="24104" y="11131"/>
                  <a:pt x="24078" y="11117"/>
                  <a:pt x="24061" y="11187"/>
                </a:cubicBezTo>
                <a:cubicBezTo>
                  <a:pt x="24194" y="11251"/>
                  <a:pt x="24448" y="11485"/>
                  <a:pt x="24085" y="11485"/>
                </a:cubicBezTo>
                <a:cubicBezTo>
                  <a:pt x="24044" y="11468"/>
                  <a:pt x="24002" y="11452"/>
                  <a:pt x="23961" y="11435"/>
                </a:cubicBezTo>
              </a:path>
              <a:path w="3474" h="572">
                <a:moveTo>
                  <a:pt x="24433" y="11187"/>
                </a:moveTo>
                <a:cubicBezTo>
                  <a:pt x="24532" y="11170"/>
                  <a:pt x="24632" y="11140"/>
                  <a:pt x="24730" y="11112"/>
                </a:cubicBezTo>
                <a:cubicBezTo>
                  <a:pt x="24610" y="11089"/>
                  <a:pt x="24533" y="10981"/>
                  <a:pt x="24408" y="11088"/>
                </a:cubicBezTo>
                <a:cubicBezTo>
                  <a:pt x="24272" y="11204"/>
                  <a:pt x="24194" y="11551"/>
                  <a:pt x="24482" y="11509"/>
                </a:cubicBezTo>
                <a:cubicBezTo>
                  <a:pt x="24540" y="11484"/>
                  <a:pt x="24598" y="11460"/>
                  <a:pt x="24656" y="11435"/>
                </a:cubicBezTo>
              </a:path>
              <a:path w="3474" h="572">
                <a:moveTo>
                  <a:pt x="25003" y="11013"/>
                </a:moveTo>
                <a:cubicBezTo>
                  <a:pt x="24914" y="11035"/>
                  <a:pt x="24889" y="11036"/>
                  <a:pt x="24854" y="11088"/>
                </a:cubicBezTo>
                <a:cubicBezTo>
                  <a:pt x="24989" y="11141"/>
                  <a:pt x="25257" y="11238"/>
                  <a:pt x="25053" y="11410"/>
                </a:cubicBezTo>
                <a:cubicBezTo>
                  <a:pt x="24919" y="11464"/>
                  <a:pt x="24868" y="11476"/>
                  <a:pt x="24780" y="1138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599320" y="3152880"/>
            <a:ext cx="393840" cy="285480"/>
          </a:xfrm>
          <a:custGeom>
            <a:avLst/>
            <a:gdLst/>
            <a:ahLst/>
            <a:rect l="l" t="t" r="r" b="b"/>
            <a:pathLst>
              <a:path w="1092" h="795">
                <a:moveTo>
                  <a:pt x="24036" y="9178"/>
                </a:moveTo>
                <a:cubicBezTo>
                  <a:pt x="24036" y="9302"/>
                  <a:pt x="24036" y="9426"/>
                  <a:pt x="24036" y="9550"/>
                </a:cubicBezTo>
              </a:path>
              <a:path w="1092" h="795">
                <a:moveTo>
                  <a:pt x="23887" y="9376"/>
                </a:moveTo>
                <a:cubicBezTo>
                  <a:pt x="24016" y="9329"/>
                  <a:pt x="24120" y="9309"/>
                  <a:pt x="24259" y="9302"/>
                </a:cubicBezTo>
                <a:cubicBezTo>
                  <a:pt x="24245" y="9359"/>
                  <a:pt x="24150" y="9464"/>
                  <a:pt x="24259" y="9500"/>
                </a:cubicBezTo>
                <a:cubicBezTo>
                  <a:pt x="24444" y="9561"/>
                  <a:pt x="24514" y="9388"/>
                  <a:pt x="24333" y="9302"/>
                </a:cubicBezTo>
                <a:cubicBezTo>
                  <a:pt x="24317" y="9302"/>
                  <a:pt x="24300" y="9302"/>
                  <a:pt x="24284" y="9302"/>
                </a:cubicBezTo>
              </a:path>
              <a:path w="1092" h="795">
                <a:moveTo>
                  <a:pt x="24606" y="9004"/>
                </a:moveTo>
                <a:cubicBezTo>
                  <a:pt x="24620" y="9045"/>
                  <a:pt x="24642" y="9087"/>
                  <a:pt x="24656" y="9128"/>
                </a:cubicBezTo>
                <a:cubicBezTo>
                  <a:pt x="24682" y="9063"/>
                  <a:pt x="24597" y="8980"/>
                  <a:pt x="24631" y="8905"/>
                </a:cubicBezTo>
                <a:cubicBezTo>
                  <a:pt x="24659" y="8843"/>
                  <a:pt x="24750" y="8830"/>
                  <a:pt x="24805" y="8806"/>
                </a:cubicBezTo>
              </a:path>
              <a:path w="1092" h="795">
                <a:moveTo>
                  <a:pt x="24904" y="8756"/>
                </a:moveTo>
                <a:cubicBezTo>
                  <a:pt x="24914" y="8808"/>
                  <a:pt x="24950" y="8924"/>
                  <a:pt x="24978" y="8954"/>
                </a:cubicBezTo>
                <a:cubicBezTo>
                  <a:pt x="24978" y="8946"/>
                  <a:pt x="24978" y="8938"/>
                  <a:pt x="24978" y="893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411200" y="4160880"/>
            <a:ext cx="330120" cy="384120"/>
          </a:xfrm>
          <a:custGeom>
            <a:avLst/>
            <a:gdLst/>
            <a:ahLst/>
            <a:rect l="l" t="t" r="r" b="b"/>
            <a:pathLst>
              <a:path w="919" h="1068">
                <a:moveTo>
                  <a:pt x="4018" y="11733"/>
                </a:moveTo>
                <a:cubicBezTo>
                  <a:pt x="4026" y="11849"/>
                  <a:pt x="4037" y="11963"/>
                  <a:pt x="4043" y="12080"/>
                </a:cubicBezTo>
                <a:cubicBezTo>
                  <a:pt x="4043" y="12103"/>
                  <a:pt x="4042" y="11941"/>
                  <a:pt x="4093" y="11881"/>
                </a:cubicBezTo>
                <a:cubicBezTo>
                  <a:pt x="4178" y="11781"/>
                  <a:pt x="4407" y="11961"/>
                  <a:pt x="4366" y="12080"/>
                </a:cubicBezTo>
                <a:cubicBezTo>
                  <a:pt x="4300" y="12271"/>
                  <a:pt x="4049" y="12203"/>
                  <a:pt x="3944" y="12105"/>
                </a:cubicBezTo>
                <a:cubicBezTo>
                  <a:pt x="3944" y="12097"/>
                  <a:pt x="3944" y="12088"/>
                  <a:pt x="3944" y="12080"/>
                </a:cubicBezTo>
              </a:path>
              <a:path w="919" h="1068">
                <a:moveTo>
                  <a:pt x="4440" y="12005"/>
                </a:moveTo>
                <a:cubicBezTo>
                  <a:pt x="4463" y="12119"/>
                  <a:pt x="4510" y="12281"/>
                  <a:pt x="4663" y="12204"/>
                </a:cubicBezTo>
                <a:cubicBezTo>
                  <a:pt x="4743" y="12164"/>
                  <a:pt x="4738" y="12053"/>
                  <a:pt x="4738" y="12080"/>
                </a:cubicBezTo>
                <a:cubicBezTo>
                  <a:pt x="4881" y="12338"/>
                  <a:pt x="4850" y="12575"/>
                  <a:pt x="4490" y="12626"/>
                </a:cubicBezTo>
                <a:cubicBezTo>
                  <a:pt x="4277" y="12602"/>
                  <a:pt x="4210" y="12601"/>
                  <a:pt x="4118" y="12477"/>
                </a:cubicBezTo>
              </a:path>
              <a:path w="919" h="1068">
                <a:moveTo>
                  <a:pt x="3919" y="11584"/>
                </a:moveTo>
                <a:cubicBezTo>
                  <a:pt x="3919" y="11501"/>
                  <a:pt x="3919" y="11699"/>
                  <a:pt x="3919" y="11782"/>
                </a:cubicBezTo>
                <a:cubicBezTo>
                  <a:pt x="3919" y="11862"/>
                  <a:pt x="3925" y="11932"/>
                  <a:pt x="3944" y="12005"/>
                </a:cubicBezTo>
                <a:cubicBezTo>
                  <a:pt x="3958" y="12058"/>
                  <a:pt x="3984" y="12103"/>
                  <a:pt x="3994" y="12154"/>
                </a:cubicBezTo>
                <a:cubicBezTo>
                  <a:pt x="3994" y="12032"/>
                  <a:pt x="3992" y="11901"/>
                  <a:pt x="3969" y="11782"/>
                </a:cubicBezTo>
                <a:cubicBezTo>
                  <a:pt x="3956" y="11718"/>
                  <a:pt x="3903" y="11661"/>
                  <a:pt x="3969" y="1168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009880" y="4205160"/>
            <a:ext cx="27000" cy="189000"/>
          </a:xfrm>
          <a:custGeom>
            <a:avLst/>
            <a:gdLst/>
            <a:ahLst/>
            <a:rect l="l" t="t" r="r" b="b"/>
            <a:pathLst>
              <a:path w="75" h="522">
                <a:moveTo>
                  <a:pt x="5606" y="11683"/>
                </a:moveTo>
                <a:cubicBezTo>
                  <a:pt x="5565" y="11858"/>
                  <a:pt x="5601" y="12002"/>
                  <a:pt x="5631" y="12179"/>
                </a:cubicBezTo>
                <a:cubicBezTo>
                  <a:pt x="5631" y="12204"/>
                  <a:pt x="5631" y="12212"/>
                  <a:pt x="5655" y="1220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241720" y="4348080"/>
            <a:ext cx="9360" cy="36720"/>
          </a:xfrm>
          <a:custGeom>
            <a:avLst/>
            <a:gdLst/>
            <a:ahLst/>
            <a:rect l="l" t="t" r="r" b="b"/>
            <a:pathLst>
              <a:path w="26" h="100">
                <a:moveTo>
                  <a:pt x="6251" y="12105"/>
                </a:moveTo>
                <a:cubicBezTo>
                  <a:pt x="6251" y="12097"/>
                  <a:pt x="6251" y="12088"/>
                  <a:pt x="6251" y="12080"/>
                </a:cubicBezTo>
                <a:cubicBezTo>
                  <a:pt x="6228" y="12125"/>
                  <a:pt x="6251" y="12121"/>
                  <a:pt x="6251" y="1217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419200" y="4357800"/>
            <a:ext cx="9720" cy="36360"/>
          </a:xfrm>
          <a:custGeom>
            <a:avLst/>
            <a:gdLst/>
            <a:ahLst/>
            <a:rect l="l" t="t" r="r" b="b"/>
            <a:pathLst>
              <a:path w="26" h="100">
                <a:moveTo>
                  <a:pt x="6722" y="12129"/>
                </a:moveTo>
                <a:cubicBezTo>
                  <a:pt x="6722" y="12078"/>
                  <a:pt x="6738" y="12182"/>
                  <a:pt x="6747" y="1220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54200" y="4367160"/>
            <a:ext cx="9720" cy="34920"/>
          </a:xfrm>
          <a:custGeom>
            <a:avLst/>
            <a:gdLst/>
            <a:ahLst/>
            <a:rect l="l" t="t" r="r" b="b"/>
            <a:pathLst>
              <a:path w="26" h="101">
                <a:moveTo>
                  <a:pt x="7094" y="12129"/>
                </a:moveTo>
                <a:cubicBezTo>
                  <a:pt x="7101" y="12163"/>
                  <a:pt x="7112" y="12195"/>
                  <a:pt x="7119" y="1222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bjective :  Students will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accurately round decimal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Verdana"/>
              </a:rPr>
              <a:t>Examples:  Round each decimal to the place value specifie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2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.) 5.7 (one)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2.) 0.047 (hundredth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2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2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2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3.) 6.13 (tenth)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4.) 4.095 (tenth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2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2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2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5.) 0.985 (hundredth)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6.) 7.275 (on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2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23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623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62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62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99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/>
          <p:nvPr/>
        </p:nvSpPr>
        <p:spPr>
          <a:xfrm>
            <a:off x="1393920" y="2660760"/>
            <a:ext cx="527040" cy="3009960"/>
          </a:xfrm>
          <a:custGeom>
            <a:avLst/>
            <a:gdLst/>
            <a:ahLst/>
            <a:rect l="l" t="t" r="r" b="b"/>
            <a:pathLst>
              <a:path w="1464" h="8360">
                <a:moveTo>
                  <a:pt x="3894" y="7392"/>
                </a:moveTo>
                <a:cubicBezTo>
                  <a:pt x="3874" y="7432"/>
                  <a:pt x="3866" y="7439"/>
                  <a:pt x="3870" y="7466"/>
                </a:cubicBezTo>
              </a:path>
              <a:path w="1464" h="8360">
                <a:moveTo>
                  <a:pt x="4638" y="12179"/>
                </a:moveTo>
                <a:cubicBezTo>
                  <a:pt x="4581" y="12179"/>
                  <a:pt x="4599" y="12159"/>
                  <a:pt x="4713" y="12105"/>
                </a:cubicBezTo>
              </a:path>
              <a:path w="1464" h="8360">
                <a:moveTo>
                  <a:pt x="5333" y="13742"/>
                </a:moveTo>
                <a:lnTo>
                  <a:pt x="5333" y="13742"/>
                </a:lnTo>
              </a:path>
              <a:path w="1464" h="8360">
                <a:moveTo>
                  <a:pt x="4787" y="15677"/>
                </a:moveTo>
                <a:cubicBezTo>
                  <a:pt x="4748" y="15716"/>
                  <a:pt x="4732" y="15717"/>
                  <a:pt x="4738" y="1575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97000" y="1893960"/>
            <a:ext cx="401760" cy="150840"/>
          </a:xfrm>
          <a:custGeom>
            <a:avLst/>
            <a:gdLst/>
            <a:ahLst/>
            <a:rect l="l" t="t" r="r" b="b"/>
            <a:pathLst>
              <a:path w="1117" h="422">
                <a:moveTo>
                  <a:pt x="3373" y="5680"/>
                </a:moveTo>
                <a:cubicBezTo>
                  <a:pt x="3361" y="5642"/>
                  <a:pt x="3349" y="5659"/>
                  <a:pt x="3349" y="5606"/>
                </a:cubicBezTo>
                <a:cubicBezTo>
                  <a:pt x="3349" y="5561"/>
                  <a:pt x="3324" y="5529"/>
                  <a:pt x="3324" y="5482"/>
                </a:cubicBezTo>
                <a:cubicBezTo>
                  <a:pt x="3324" y="5464"/>
                  <a:pt x="3369" y="5399"/>
                  <a:pt x="3398" y="5383"/>
                </a:cubicBezTo>
                <a:cubicBezTo>
                  <a:pt x="3422" y="5370"/>
                  <a:pt x="3471" y="5342"/>
                  <a:pt x="3497" y="5333"/>
                </a:cubicBezTo>
                <a:cubicBezTo>
                  <a:pt x="3554" y="5314"/>
                  <a:pt x="3608" y="5283"/>
                  <a:pt x="3671" y="5283"/>
                </a:cubicBezTo>
                <a:cubicBezTo>
                  <a:pt x="3698" y="5283"/>
                  <a:pt x="3833" y="5250"/>
                  <a:pt x="3845" y="5259"/>
                </a:cubicBezTo>
                <a:cubicBezTo>
                  <a:pt x="3869" y="5278"/>
                  <a:pt x="3866" y="5283"/>
                  <a:pt x="3919" y="5283"/>
                </a:cubicBezTo>
                <a:cubicBezTo>
                  <a:pt x="3966" y="5283"/>
                  <a:pt x="3998" y="5303"/>
                  <a:pt x="4043" y="5308"/>
                </a:cubicBezTo>
                <a:cubicBezTo>
                  <a:pt x="4069" y="5311"/>
                  <a:pt x="4090" y="5333"/>
                  <a:pt x="4118" y="5358"/>
                </a:cubicBezTo>
                <a:cubicBezTo>
                  <a:pt x="4168" y="5403"/>
                  <a:pt x="4146" y="5375"/>
                  <a:pt x="4167" y="5432"/>
                </a:cubicBezTo>
                <a:cubicBezTo>
                  <a:pt x="4183" y="5476"/>
                  <a:pt x="4204" y="5518"/>
                  <a:pt x="4217" y="5556"/>
                </a:cubicBezTo>
                <a:cubicBezTo>
                  <a:pt x="4231" y="5599"/>
                  <a:pt x="4231" y="5597"/>
                  <a:pt x="4242" y="5631"/>
                </a:cubicBezTo>
                <a:cubicBezTo>
                  <a:pt x="4191" y="5621"/>
                  <a:pt x="4174" y="5585"/>
                  <a:pt x="4142" y="5581"/>
                </a:cubicBezTo>
                <a:cubicBezTo>
                  <a:pt x="4095" y="5575"/>
                  <a:pt x="4086" y="5566"/>
                  <a:pt x="4068" y="5531"/>
                </a:cubicBezTo>
                <a:cubicBezTo>
                  <a:pt x="4023" y="5531"/>
                  <a:pt x="4136" y="5571"/>
                  <a:pt x="4167" y="5581"/>
                </a:cubicBezTo>
                <a:cubicBezTo>
                  <a:pt x="4204" y="5593"/>
                  <a:pt x="4223" y="5606"/>
                  <a:pt x="4266" y="5606"/>
                </a:cubicBezTo>
                <a:cubicBezTo>
                  <a:pt x="4336" y="5606"/>
                  <a:pt x="4331" y="5611"/>
                  <a:pt x="4390" y="5556"/>
                </a:cubicBezTo>
                <a:cubicBezTo>
                  <a:pt x="4415" y="5531"/>
                  <a:pt x="4423" y="5523"/>
                  <a:pt x="4440" y="5507"/>
                </a:cubicBezTo>
                <a:cubicBezTo>
                  <a:pt x="4409" y="5584"/>
                  <a:pt x="4357" y="5586"/>
                  <a:pt x="4291" y="5631"/>
                </a:cubicBezTo>
                <a:cubicBezTo>
                  <a:pt x="4263" y="5650"/>
                  <a:pt x="4253" y="5724"/>
                  <a:pt x="4192" y="5680"/>
                </a:cubicBezTo>
                <a:cubicBezTo>
                  <a:pt x="4167" y="5662"/>
                  <a:pt x="4172" y="5655"/>
                  <a:pt x="4118" y="565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16000" y="2411280"/>
            <a:ext cx="662040" cy="893880"/>
          </a:xfrm>
          <a:custGeom>
            <a:avLst/>
            <a:gdLst/>
            <a:ahLst/>
            <a:rect l="l" t="t" r="r" b="b"/>
            <a:pathLst>
              <a:path w="1836" h="2482">
                <a:moveTo>
                  <a:pt x="3125" y="6747"/>
                </a:moveTo>
                <a:cubicBezTo>
                  <a:pt x="3203" y="6747"/>
                  <a:pt x="3253" y="6740"/>
                  <a:pt x="3324" y="6722"/>
                </a:cubicBezTo>
                <a:cubicBezTo>
                  <a:pt x="3355" y="6714"/>
                  <a:pt x="3545" y="6722"/>
                  <a:pt x="3423" y="6722"/>
                </a:cubicBezTo>
                <a:cubicBezTo>
                  <a:pt x="3316" y="6722"/>
                  <a:pt x="3222" y="6733"/>
                  <a:pt x="3125" y="6697"/>
                </a:cubicBezTo>
                <a:cubicBezTo>
                  <a:pt x="3072" y="6715"/>
                  <a:pt x="3113" y="6722"/>
                  <a:pt x="3150" y="6722"/>
                </a:cubicBezTo>
                <a:cubicBezTo>
                  <a:pt x="3262" y="6722"/>
                  <a:pt x="3362" y="6697"/>
                  <a:pt x="3473" y="6697"/>
                </a:cubicBezTo>
                <a:cubicBezTo>
                  <a:pt x="3506" y="6697"/>
                  <a:pt x="3539" y="6697"/>
                  <a:pt x="3572" y="6697"/>
                </a:cubicBezTo>
                <a:cubicBezTo>
                  <a:pt x="3495" y="6716"/>
                  <a:pt x="3414" y="6722"/>
                  <a:pt x="3324" y="6722"/>
                </a:cubicBezTo>
                <a:cubicBezTo>
                  <a:pt x="3290" y="6722"/>
                  <a:pt x="3124" y="6722"/>
                  <a:pt x="3175" y="6722"/>
                </a:cubicBezTo>
                <a:cubicBezTo>
                  <a:pt x="3183" y="6722"/>
                  <a:pt x="3192" y="6722"/>
                  <a:pt x="3200" y="6722"/>
                </a:cubicBezTo>
              </a:path>
              <a:path w="1836" h="2482">
                <a:moveTo>
                  <a:pt x="3274" y="6921"/>
                </a:moveTo>
                <a:cubicBezTo>
                  <a:pt x="3282" y="6921"/>
                  <a:pt x="3291" y="6921"/>
                  <a:pt x="3299" y="6921"/>
                </a:cubicBezTo>
                <a:cubicBezTo>
                  <a:pt x="3289" y="6960"/>
                  <a:pt x="3265" y="7005"/>
                  <a:pt x="3249" y="7045"/>
                </a:cubicBezTo>
                <a:cubicBezTo>
                  <a:pt x="3227" y="7102"/>
                  <a:pt x="3228" y="7145"/>
                  <a:pt x="3200" y="7193"/>
                </a:cubicBezTo>
                <a:cubicBezTo>
                  <a:pt x="3176" y="7235"/>
                  <a:pt x="3167" y="7277"/>
                  <a:pt x="3150" y="7317"/>
                </a:cubicBezTo>
                <a:cubicBezTo>
                  <a:pt x="3125" y="7376"/>
                  <a:pt x="3106" y="7417"/>
                  <a:pt x="3150" y="7466"/>
                </a:cubicBezTo>
                <a:cubicBezTo>
                  <a:pt x="3172" y="7490"/>
                  <a:pt x="3217" y="7533"/>
                  <a:pt x="3249" y="7541"/>
                </a:cubicBezTo>
                <a:cubicBezTo>
                  <a:pt x="3327" y="7561"/>
                  <a:pt x="3460" y="7551"/>
                  <a:pt x="3522" y="7516"/>
                </a:cubicBezTo>
                <a:cubicBezTo>
                  <a:pt x="3618" y="7461"/>
                  <a:pt x="3547" y="7481"/>
                  <a:pt x="3621" y="7417"/>
                </a:cubicBezTo>
                <a:cubicBezTo>
                  <a:pt x="3646" y="7417"/>
                  <a:pt x="3654" y="7417"/>
                  <a:pt x="3646" y="7392"/>
                </a:cubicBezTo>
                <a:cubicBezTo>
                  <a:pt x="3604" y="7350"/>
                  <a:pt x="3572" y="7314"/>
                  <a:pt x="3522" y="7293"/>
                </a:cubicBezTo>
                <a:cubicBezTo>
                  <a:pt x="3511" y="7288"/>
                  <a:pt x="3418" y="7244"/>
                  <a:pt x="3398" y="7268"/>
                </a:cubicBezTo>
                <a:cubicBezTo>
                  <a:pt x="3355" y="7322"/>
                  <a:pt x="3356" y="7390"/>
                  <a:pt x="3373" y="7441"/>
                </a:cubicBezTo>
                <a:cubicBezTo>
                  <a:pt x="3389" y="7491"/>
                  <a:pt x="3376" y="7489"/>
                  <a:pt x="3423" y="7466"/>
                </a:cubicBezTo>
              </a:path>
              <a:path w="1836" h="2482">
                <a:moveTo>
                  <a:pt x="4316" y="7045"/>
                </a:moveTo>
                <a:cubicBezTo>
                  <a:pt x="4253" y="7107"/>
                  <a:pt x="4223" y="7161"/>
                  <a:pt x="4192" y="7243"/>
                </a:cubicBezTo>
                <a:cubicBezTo>
                  <a:pt x="4170" y="7300"/>
                  <a:pt x="4163" y="7377"/>
                  <a:pt x="4242" y="7392"/>
                </a:cubicBezTo>
                <a:cubicBezTo>
                  <a:pt x="4313" y="7406"/>
                  <a:pt x="4384" y="7363"/>
                  <a:pt x="4415" y="7342"/>
                </a:cubicBezTo>
                <a:cubicBezTo>
                  <a:pt x="4462" y="7310"/>
                  <a:pt x="4508" y="7277"/>
                  <a:pt x="4514" y="7218"/>
                </a:cubicBezTo>
                <a:cubicBezTo>
                  <a:pt x="4520" y="7159"/>
                  <a:pt x="4470" y="7118"/>
                  <a:pt x="4440" y="7094"/>
                </a:cubicBezTo>
                <a:cubicBezTo>
                  <a:pt x="4408" y="7069"/>
                  <a:pt x="4358" y="7055"/>
                  <a:pt x="4316" y="7045"/>
                </a:cubicBezTo>
                <a:cubicBezTo>
                  <a:pt x="4288" y="7045"/>
                  <a:pt x="4277" y="7047"/>
                  <a:pt x="4266" y="7069"/>
                </a:cubicBezTo>
              </a:path>
              <a:path w="1836" h="2482">
                <a:moveTo>
                  <a:pt x="3820" y="7838"/>
                </a:moveTo>
                <a:cubicBezTo>
                  <a:pt x="3789" y="7946"/>
                  <a:pt x="3738" y="8054"/>
                  <a:pt x="3696" y="8161"/>
                </a:cubicBezTo>
                <a:cubicBezTo>
                  <a:pt x="3664" y="8244"/>
                  <a:pt x="3646" y="8296"/>
                  <a:pt x="3646" y="8384"/>
                </a:cubicBezTo>
                <a:cubicBezTo>
                  <a:pt x="3646" y="8451"/>
                  <a:pt x="3722" y="8461"/>
                  <a:pt x="3770" y="8483"/>
                </a:cubicBezTo>
                <a:cubicBezTo>
                  <a:pt x="3871" y="8529"/>
                  <a:pt x="4019" y="8515"/>
                  <a:pt x="4118" y="8458"/>
                </a:cubicBezTo>
                <a:cubicBezTo>
                  <a:pt x="4175" y="8425"/>
                  <a:pt x="4269" y="8381"/>
                  <a:pt x="4291" y="8310"/>
                </a:cubicBezTo>
                <a:cubicBezTo>
                  <a:pt x="4320" y="8216"/>
                  <a:pt x="4290" y="8187"/>
                  <a:pt x="4242" y="8161"/>
                </a:cubicBezTo>
                <a:cubicBezTo>
                  <a:pt x="4183" y="8129"/>
                  <a:pt x="4162" y="8130"/>
                  <a:pt x="4093" y="8161"/>
                </a:cubicBezTo>
                <a:cubicBezTo>
                  <a:pt x="4027" y="8191"/>
                  <a:pt x="3973" y="8281"/>
                  <a:pt x="3994" y="8359"/>
                </a:cubicBezTo>
                <a:cubicBezTo>
                  <a:pt x="4006" y="8403"/>
                  <a:pt x="4032" y="8401"/>
                  <a:pt x="4043" y="8434"/>
                </a:cubicBezTo>
              </a:path>
              <a:path w="1836" h="2482">
                <a:moveTo>
                  <a:pt x="4118" y="9103"/>
                </a:moveTo>
                <a:cubicBezTo>
                  <a:pt x="4118" y="9066"/>
                  <a:pt x="4133" y="9001"/>
                  <a:pt x="4167" y="8979"/>
                </a:cubicBezTo>
                <a:cubicBezTo>
                  <a:pt x="4246" y="8929"/>
                  <a:pt x="4266" y="8928"/>
                  <a:pt x="4366" y="8880"/>
                </a:cubicBezTo>
                <a:cubicBezTo>
                  <a:pt x="4434" y="8847"/>
                  <a:pt x="4495" y="8857"/>
                  <a:pt x="4564" y="8880"/>
                </a:cubicBezTo>
                <a:cubicBezTo>
                  <a:pt x="4595" y="8890"/>
                  <a:pt x="4716" y="8929"/>
                  <a:pt x="4738" y="8954"/>
                </a:cubicBezTo>
                <a:cubicBezTo>
                  <a:pt x="4757" y="8975"/>
                  <a:pt x="4762" y="8989"/>
                  <a:pt x="4762" y="9029"/>
                </a:cubicBezTo>
                <a:cubicBezTo>
                  <a:pt x="4762" y="9082"/>
                  <a:pt x="4768" y="9111"/>
                  <a:pt x="4738" y="9153"/>
                </a:cubicBezTo>
                <a:cubicBezTo>
                  <a:pt x="4689" y="9125"/>
                  <a:pt x="4669" y="9103"/>
                  <a:pt x="4614" y="9103"/>
                </a:cubicBezTo>
                <a:cubicBezTo>
                  <a:pt x="4663" y="9120"/>
                  <a:pt x="4717" y="9167"/>
                  <a:pt x="4738" y="9178"/>
                </a:cubicBezTo>
                <a:cubicBezTo>
                  <a:pt x="4746" y="9178"/>
                  <a:pt x="4754" y="9178"/>
                  <a:pt x="4762" y="9178"/>
                </a:cubicBezTo>
                <a:cubicBezTo>
                  <a:pt x="4796" y="9167"/>
                  <a:pt x="4845" y="9117"/>
                  <a:pt x="4887" y="9079"/>
                </a:cubicBezTo>
                <a:cubicBezTo>
                  <a:pt x="4917" y="9052"/>
                  <a:pt x="4999" y="9001"/>
                  <a:pt x="4862" y="910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044720" y="3687840"/>
            <a:ext cx="911160" cy="849240"/>
          </a:xfrm>
          <a:custGeom>
            <a:avLst/>
            <a:gdLst/>
            <a:ahLst/>
            <a:rect l="l" t="t" r="r" b="b"/>
            <a:pathLst>
              <a:path w="2531" h="2358">
                <a:moveTo>
                  <a:pt x="4068" y="10294"/>
                </a:moveTo>
                <a:cubicBezTo>
                  <a:pt x="4150" y="10253"/>
                  <a:pt x="3957" y="10304"/>
                  <a:pt x="3994" y="10244"/>
                </a:cubicBezTo>
                <a:cubicBezTo>
                  <a:pt x="4041" y="10167"/>
                  <a:pt x="4175" y="10244"/>
                  <a:pt x="4266" y="10244"/>
                </a:cubicBezTo>
                <a:cubicBezTo>
                  <a:pt x="4426" y="10244"/>
                  <a:pt x="4240" y="10244"/>
                  <a:pt x="4192" y="10244"/>
                </a:cubicBezTo>
                <a:cubicBezTo>
                  <a:pt x="4109" y="10244"/>
                  <a:pt x="4027" y="10244"/>
                  <a:pt x="3944" y="10244"/>
                </a:cubicBezTo>
                <a:cubicBezTo>
                  <a:pt x="4067" y="10255"/>
                  <a:pt x="4194" y="10276"/>
                  <a:pt x="4316" y="10294"/>
                </a:cubicBezTo>
                <a:cubicBezTo>
                  <a:pt x="4399" y="10306"/>
                  <a:pt x="3993" y="10282"/>
                  <a:pt x="4068" y="10319"/>
                </a:cubicBezTo>
                <a:cubicBezTo>
                  <a:pt x="4109" y="10319"/>
                  <a:pt x="4117" y="10319"/>
                  <a:pt x="4142" y="10319"/>
                </a:cubicBezTo>
              </a:path>
              <a:path w="2531" h="2358">
                <a:moveTo>
                  <a:pt x="4142" y="10840"/>
                </a:moveTo>
                <a:cubicBezTo>
                  <a:pt x="4096" y="10956"/>
                  <a:pt x="4070" y="11073"/>
                  <a:pt x="4018" y="11187"/>
                </a:cubicBezTo>
                <a:cubicBezTo>
                  <a:pt x="3993" y="11242"/>
                  <a:pt x="3981" y="11303"/>
                  <a:pt x="3969" y="11361"/>
                </a:cubicBezTo>
                <a:cubicBezTo>
                  <a:pt x="3969" y="11319"/>
                  <a:pt x="3979" y="11296"/>
                  <a:pt x="3994" y="11261"/>
                </a:cubicBezTo>
                <a:cubicBezTo>
                  <a:pt x="4034" y="11166"/>
                  <a:pt x="4060" y="11067"/>
                  <a:pt x="4068" y="10964"/>
                </a:cubicBezTo>
                <a:cubicBezTo>
                  <a:pt x="4071" y="10923"/>
                  <a:pt x="4090" y="10898"/>
                  <a:pt x="4118" y="10889"/>
                </a:cubicBezTo>
              </a:path>
              <a:path w="2531" h="2358">
                <a:moveTo>
                  <a:pt x="3696" y="11311"/>
                </a:moveTo>
                <a:cubicBezTo>
                  <a:pt x="3690" y="11297"/>
                  <a:pt x="3629" y="11191"/>
                  <a:pt x="3597" y="11237"/>
                </a:cubicBezTo>
                <a:cubicBezTo>
                  <a:pt x="3556" y="11318"/>
                  <a:pt x="3540" y="11330"/>
                  <a:pt x="3547" y="11385"/>
                </a:cubicBezTo>
                <a:cubicBezTo>
                  <a:pt x="3609" y="11362"/>
                  <a:pt x="3574" y="11264"/>
                  <a:pt x="3621" y="11311"/>
                </a:cubicBezTo>
                <a:cubicBezTo>
                  <a:pt x="3629" y="11311"/>
                  <a:pt x="3638" y="11311"/>
                  <a:pt x="3646" y="11311"/>
                </a:cubicBezTo>
              </a:path>
              <a:path w="2531" h="2358">
                <a:moveTo>
                  <a:pt x="3175" y="10716"/>
                </a:moveTo>
                <a:cubicBezTo>
                  <a:pt x="3112" y="10793"/>
                  <a:pt x="3065" y="10896"/>
                  <a:pt x="3026" y="10988"/>
                </a:cubicBezTo>
                <a:cubicBezTo>
                  <a:pt x="2982" y="11093"/>
                  <a:pt x="2931" y="11202"/>
                  <a:pt x="2902" y="11311"/>
                </a:cubicBezTo>
                <a:cubicBezTo>
                  <a:pt x="2895" y="11338"/>
                  <a:pt x="2906" y="11423"/>
                  <a:pt x="2927" y="11435"/>
                </a:cubicBezTo>
                <a:cubicBezTo>
                  <a:pt x="3016" y="11485"/>
                  <a:pt x="3135" y="11459"/>
                  <a:pt x="3225" y="11435"/>
                </a:cubicBezTo>
                <a:cubicBezTo>
                  <a:pt x="3320" y="11410"/>
                  <a:pt x="3366" y="11379"/>
                  <a:pt x="3423" y="11311"/>
                </a:cubicBezTo>
                <a:cubicBezTo>
                  <a:pt x="3451" y="11277"/>
                  <a:pt x="3464" y="11255"/>
                  <a:pt x="3473" y="11212"/>
                </a:cubicBezTo>
                <a:cubicBezTo>
                  <a:pt x="3420" y="11185"/>
                  <a:pt x="3383" y="11162"/>
                  <a:pt x="3324" y="11162"/>
                </a:cubicBezTo>
                <a:cubicBezTo>
                  <a:pt x="3265" y="11162"/>
                  <a:pt x="3212" y="11257"/>
                  <a:pt x="3200" y="11311"/>
                </a:cubicBezTo>
                <a:cubicBezTo>
                  <a:pt x="3188" y="11364"/>
                  <a:pt x="3201" y="11396"/>
                  <a:pt x="3225" y="11435"/>
                </a:cubicBezTo>
              </a:path>
              <a:path w="2531" h="2358">
                <a:moveTo>
                  <a:pt x="4713" y="10840"/>
                </a:moveTo>
                <a:cubicBezTo>
                  <a:pt x="4662" y="10852"/>
                  <a:pt x="4578" y="10866"/>
                  <a:pt x="4539" y="10914"/>
                </a:cubicBezTo>
                <a:cubicBezTo>
                  <a:pt x="4485" y="10981"/>
                  <a:pt x="4409" y="11133"/>
                  <a:pt x="4390" y="11212"/>
                </a:cubicBezTo>
                <a:cubicBezTo>
                  <a:pt x="4372" y="11288"/>
                  <a:pt x="4440" y="11342"/>
                  <a:pt x="4514" y="11336"/>
                </a:cubicBezTo>
                <a:cubicBezTo>
                  <a:pt x="4610" y="11328"/>
                  <a:pt x="4688" y="11294"/>
                  <a:pt x="4738" y="11212"/>
                </a:cubicBezTo>
                <a:cubicBezTo>
                  <a:pt x="4785" y="11135"/>
                  <a:pt x="4821" y="11055"/>
                  <a:pt x="4812" y="10988"/>
                </a:cubicBezTo>
                <a:cubicBezTo>
                  <a:pt x="4807" y="10947"/>
                  <a:pt x="4779" y="10860"/>
                  <a:pt x="4738" y="10840"/>
                </a:cubicBezTo>
                <a:cubicBezTo>
                  <a:pt x="4705" y="10824"/>
                  <a:pt x="4724" y="10827"/>
                  <a:pt x="4688" y="10815"/>
                </a:cubicBezTo>
              </a:path>
              <a:path w="2531" h="2358">
                <a:moveTo>
                  <a:pt x="3894" y="11733"/>
                </a:moveTo>
                <a:cubicBezTo>
                  <a:pt x="3894" y="11664"/>
                  <a:pt x="3851" y="11857"/>
                  <a:pt x="3845" y="11881"/>
                </a:cubicBezTo>
                <a:cubicBezTo>
                  <a:pt x="3825" y="11959"/>
                  <a:pt x="3806" y="12037"/>
                  <a:pt x="3770" y="12105"/>
                </a:cubicBezTo>
                <a:cubicBezTo>
                  <a:pt x="3740" y="12161"/>
                  <a:pt x="3731" y="12205"/>
                  <a:pt x="3795" y="12229"/>
                </a:cubicBezTo>
                <a:cubicBezTo>
                  <a:pt x="3897" y="12267"/>
                  <a:pt x="3941" y="12234"/>
                  <a:pt x="4043" y="12229"/>
                </a:cubicBezTo>
                <a:cubicBezTo>
                  <a:pt x="4123" y="12225"/>
                  <a:pt x="4173" y="12219"/>
                  <a:pt x="4242" y="12179"/>
                </a:cubicBezTo>
                <a:cubicBezTo>
                  <a:pt x="4299" y="12146"/>
                  <a:pt x="4378" y="12110"/>
                  <a:pt x="4366" y="12030"/>
                </a:cubicBezTo>
                <a:cubicBezTo>
                  <a:pt x="4360" y="11991"/>
                  <a:pt x="4297" y="11961"/>
                  <a:pt x="4266" y="11956"/>
                </a:cubicBezTo>
                <a:cubicBezTo>
                  <a:pt x="4208" y="11947"/>
                  <a:pt x="4136" y="11944"/>
                  <a:pt x="4093" y="11981"/>
                </a:cubicBezTo>
                <a:cubicBezTo>
                  <a:pt x="4036" y="12030"/>
                  <a:pt x="4062" y="12102"/>
                  <a:pt x="4068" y="12154"/>
                </a:cubicBezTo>
                <a:cubicBezTo>
                  <a:pt x="4068" y="12171"/>
                  <a:pt x="4068" y="12187"/>
                  <a:pt x="4068" y="12204"/>
                </a:cubicBezTo>
              </a:path>
              <a:path w="2531" h="2358">
                <a:moveTo>
                  <a:pt x="5159" y="11708"/>
                </a:moveTo>
                <a:cubicBezTo>
                  <a:pt x="5159" y="11639"/>
                  <a:pt x="5126" y="11790"/>
                  <a:pt x="5110" y="11857"/>
                </a:cubicBezTo>
                <a:cubicBezTo>
                  <a:pt x="5089" y="11947"/>
                  <a:pt x="5060" y="12222"/>
                  <a:pt x="5060" y="12129"/>
                </a:cubicBezTo>
                <a:cubicBezTo>
                  <a:pt x="5060" y="12121"/>
                  <a:pt x="5060" y="12113"/>
                  <a:pt x="5060" y="12105"/>
                </a:cubicBezTo>
              </a:path>
              <a:path w="2531" h="2358">
                <a:moveTo>
                  <a:pt x="4638" y="12179"/>
                </a:moveTo>
                <a:cubicBezTo>
                  <a:pt x="4593" y="12163"/>
                  <a:pt x="4639" y="12135"/>
                  <a:pt x="4589" y="12129"/>
                </a:cubicBezTo>
                <a:cubicBezTo>
                  <a:pt x="4516" y="12120"/>
                  <a:pt x="4525" y="12186"/>
                  <a:pt x="4514" y="12229"/>
                </a:cubicBezTo>
                <a:cubicBezTo>
                  <a:pt x="4570" y="12188"/>
                  <a:pt x="4680" y="12085"/>
                  <a:pt x="4614" y="12105"/>
                </a:cubicBezTo>
                <a:cubicBezTo>
                  <a:pt x="4597" y="12113"/>
                  <a:pt x="4581" y="12121"/>
                  <a:pt x="4564" y="12129"/>
                </a:cubicBezTo>
              </a:path>
              <a:path w="2531" h="2358">
                <a:moveTo>
                  <a:pt x="4614" y="12576"/>
                </a:moveTo>
                <a:cubicBezTo>
                  <a:pt x="4638" y="12576"/>
                  <a:pt x="4646" y="12576"/>
                  <a:pt x="4638" y="12601"/>
                </a:cubicBezTo>
                <a:cubicBezTo>
                  <a:pt x="4638" y="12575"/>
                  <a:pt x="4645" y="12514"/>
                  <a:pt x="4663" y="12502"/>
                </a:cubicBezTo>
                <a:cubicBezTo>
                  <a:pt x="4723" y="12463"/>
                  <a:pt x="4779" y="12405"/>
                  <a:pt x="4862" y="12378"/>
                </a:cubicBezTo>
                <a:cubicBezTo>
                  <a:pt x="4961" y="12346"/>
                  <a:pt x="4992" y="12357"/>
                  <a:pt x="5085" y="12378"/>
                </a:cubicBezTo>
                <a:cubicBezTo>
                  <a:pt x="5131" y="12389"/>
                  <a:pt x="5174" y="12396"/>
                  <a:pt x="5209" y="12427"/>
                </a:cubicBezTo>
                <a:cubicBezTo>
                  <a:pt x="5235" y="12450"/>
                  <a:pt x="5255" y="12520"/>
                  <a:pt x="5259" y="12551"/>
                </a:cubicBezTo>
                <a:cubicBezTo>
                  <a:pt x="5265" y="12607"/>
                  <a:pt x="5242" y="12530"/>
                  <a:pt x="5234" y="12526"/>
                </a:cubicBezTo>
                <a:cubicBezTo>
                  <a:pt x="5138" y="12478"/>
                  <a:pt x="5235" y="12520"/>
                  <a:pt x="5259" y="12551"/>
                </a:cubicBezTo>
                <a:cubicBezTo>
                  <a:pt x="5286" y="12586"/>
                  <a:pt x="5313" y="12589"/>
                  <a:pt x="5383" y="12551"/>
                </a:cubicBezTo>
                <a:cubicBezTo>
                  <a:pt x="5405" y="12528"/>
                  <a:pt x="5410" y="12520"/>
                  <a:pt x="5432" y="1252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017720" y="4875120"/>
            <a:ext cx="1063440" cy="384120"/>
          </a:xfrm>
          <a:custGeom>
            <a:avLst/>
            <a:gdLst/>
            <a:ahLst/>
            <a:rect l="l" t="t" r="r" b="b"/>
            <a:pathLst>
              <a:path w="2952" h="1068">
                <a:moveTo>
                  <a:pt x="4440" y="13568"/>
                </a:moveTo>
                <a:cubicBezTo>
                  <a:pt x="4583" y="13514"/>
                  <a:pt x="4758" y="13543"/>
                  <a:pt x="4911" y="13543"/>
                </a:cubicBezTo>
                <a:cubicBezTo>
                  <a:pt x="5047" y="13543"/>
                  <a:pt x="4799" y="13568"/>
                  <a:pt x="4663" y="13568"/>
                </a:cubicBezTo>
                <a:cubicBezTo>
                  <a:pt x="4597" y="13568"/>
                  <a:pt x="4531" y="13568"/>
                  <a:pt x="4465" y="13568"/>
                </a:cubicBezTo>
                <a:cubicBezTo>
                  <a:pt x="4410" y="13513"/>
                  <a:pt x="4706" y="13547"/>
                  <a:pt x="4812" y="13543"/>
                </a:cubicBezTo>
                <a:cubicBezTo>
                  <a:pt x="4903" y="13543"/>
                  <a:pt x="4977" y="13543"/>
                  <a:pt x="4911" y="13543"/>
                </a:cubicBezTo>
              </a:path>
              <a:path w="2952" h="1068">
                <a:moveTo>
                  <a:pt x="4887" y="14139"/>
                </a:moveTo>
                <a:cubicBezTo>
                  <a:pt x="4919" y="14117"/>
                  <a:pt x="4911" y="14089"/>
                  <a:pt x="4911" y="14039"/>
                </a:cubicBezTo>
                <a:cubicBezTo>
                  <a:pt x="4911" y="13993"/>
                  <a:pt x="4867" y="13925"/>
                  <a:pt x="4837" y="13915"/>
                </a:cubicBezTo>
                <a:cubicBezTo>
                  <a:pt x="4793" y="13900"/>
                  <a:pt x="4672" y="13906"/>
                  <a:pt x="4638" y="13940"/>
                </a:cubicBezTo>
                <a:cubicBezTo>
                  <a:pt x="4581" y="13998"/>
                  <a:pt x="4531" y="14134"/>
                  <a:pt x="4564" y="14213"/>
                </a:cubicBezTo>
                <a:cubicBezTo>
                  <a:pt x="4572" y="14221"/>
                  <a:pt x="4581" y="14230"/>
                  <a:pt x="4589" y="14238"/>
                </a:cubicBezTo>
                <a:cubicBezTo>
                  <a:pt x="4677" y="14238"/>
                  <a:pt x="4813" y="14249"/>
                  <a:pt x="4887" y="14188"/>
                </a:cubicBezTo>
                <a:cubicBezTo>
                  <a:pt x="4917" y="14163"/>
                  <a:pt x="4943" y="14074"/>
                  <a:pt x="4961" y="14039"/>
                </a:cubicBezTo>
                <a:cubicBezTo>
                  <a:pt x="4954" y="14165"/>
                  <a:pt x="4936" y="14285"/>
                  <a:pt x="4936" y="14412"/>
                </a:cubicBezTo>
                <a:cubicBezTo>
                  <a:pt x="4936" y="14420"/>
                  <a:pt x="4936" y="14428"/>
                  <a:pt x="4936" y="14436"/>
                </a:cubicBezTo>
              </a:path>
              <a:path w="2952" h="1068">
                <a:moveTo>
                  <a:pt x="4217" y="14064"/>
                </a:moveTo>
                <a:cubicBezTo>
                  <a:pt x="4261" y="14049"/>
                  <a:pt x="4252" y="13963"/>
                  <a:pt x="4217" y="13915"/>
                </a:cubicBezTo>
                <a:cubicBezTo>
                  <a:pt x="4137" y="13806"/>
                  <a:pt x="3924" y="13811"/>
                  <a:pt x="3845" y="13915"/>
                </a:cubicBezTo>
                <a:cubicBezTo>
                  <a:pt x="3786" y="13993"/>
                  <a:pt x="3807" y="14134"/>
                  <a:pt x="3820" y="14213"/>
                </a:cubicBezTo>
                <a:cubicBezTo>
                  <a:pt x="4017" y="14263"/>
                  <a:pt x="4106" y="14179"/>
                  <a:pt x="4217" y="13990"/>
                </a:cubicBezTo>
                <a:cubicBezTo>
                  <a:pt x="4217" y="13982"/>
                  <a:pt x="4217" y="13973"/>
                  <a:pt x="4217" y="13965"/>
                </a:cubicBezTo>
                <a:cubicBezTo>
                  <a:pt x="4217" y="14095"/>
                  <a:pt x="4191" y="14235"/>
                  <a:pt x="4167" y="14362"/>
                </a:cubicBezTo>
                <a:cubicBezTo>
                  <a:pt x="4159" y="14395"/>
                  <a:pt x="4150" y="14428"/>
                  <a:pt x="4142" y="14461"/>
                </a:cubicBezTo>
              </a:path>
              <a:path w="2952" h="1068">
                <a:moveTo>
                  <a:pt x="3547" y="14312"/>
                </a:moveTo>
                <a:cubicBezTo>
                  <a:pt x="3547" y="14366"/>
                  <a:pt x="3541" y="14385"/>
                  <a:pt x="3522" y="14436"/>
                </a:cubicBezTo>
              </a:path>
              <a:path w="2952" h="1068">
                <a:moveTo>
                  <a:pt x="3026" y="13990"/>
                </a:moveTo>
                <a:cubicBezTo>
                  <a:pt x="2875" y="14233"/>
                  <a:pt x="2772" y="14349"/>
                  <a:pt x="2902" y="14610"/>
                </a:cubicBezTo>
                <a:cubicBezTo>
                  <a:pt x="3094" y="14566"/>
                  <a:pt x="3413" y="14444"/>
                  <a:pt x="3324" y="14163"/>
                </a:cubicBezTo>
                <a:cubicBezTo>
                  <a:pt x="3292" y="14063"/>
                  <a:pt x="3143" y="14015"/>
                  <a:pt x="3051" y="14015"/>
                </a:cubicBezTo>
              </a:path>
              <a:path w="2952" h="1068">
                <a:moveTo>
                  <a:pt x="5581" y="14064"/>
                </a:moveTo>
                <a:cubicBezTo>
                  <a:pt x="5607" y="14004"/>
                  <a:pt x="5606" y="14005"/>
                  <a:pt x="5606" y="13940"/>
                </a:cubicBezTo>
                <a:cubicBezTo>
                  <a:pt x="5456" y="13921"/>
                  <a:pt x="5482" y="13935"/>
                  <a:pt x="5407" y="14089"/>
                </a:cubicBezTo>
                <a:cubicBezTo>
                  <a:pt x="5343" y="14219"/>
                  <a:pt x="5253" y="14405"/>
                  <a:pt x="5457" y="14461"/>
                </a:cubicBezTo>
                <a:cubicBezTo>
                  <a:pt x="5618" y="14505"/>
                  <a:pt x="5733" y="14378"/>
                  <a:pt x="5779" y="14238"/>
                </a:cubicBezTo>
                <a:cubicBezTo>
                  <a:pt x="5812" y="14139"/>
                  <a:pt x="5760" y="14057"/>
                  <a:pt x="5680" y="14015"/>
                </a:cubicBezTo>
                <a:cubicBezTo>
                  <a:pt x="5640" y="13995"/>
                  <a:pt x="5634" y="13986"/>
                  <a:pt x="5606" y="1399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374840" y="5375160"/>
            <a:ext cx="903240" cy="339840"/>
          </a:xfrm>
          <a:custGeom>
            <a:avLst/>
            <a:gdLst/>
            <a:ahLst/>
            <a:rect l="l" t="t" r="r" b="b"/>
            <a:pathLst>
              <a:path w="2506" h="944">
                <a:moveTo>
                  <a:pt x="4242" y="15106"/>
                </a:moveTo>
                <a:cubicBezTo>
                  <a:pt x="4155" y="15250"/>
                  <a:pt x="3957" y="15384"/>
                  <a:pt x="3870" y="15553"/>
                </a:cubicBezTo>
                <a:cubicBezTo>
                  <a:pt x="3824" y="15711"/>
                  <a:pt x="3802" y="15754"/>
                  <a:pt x="3870" y="15850"/>
                </a:cubicBezTo>
                <a:cubicBezTo>
                  <a:pt x="4122" y="15850"/>
                  <a:pt x="4448" y="15806"/>
                  <a:pt x="4415" y="15453"/>
                </a:cubicBezTo>
                <a:cubicBezTo>
                  <a:pt x="4401" y="15306"/>
                  <a:pt x="4252" y="15106"/>
                  <a:pt x="4093" y="15180"/>
                </a:cubicBezTo>
                <a:cubicBezTo>
                  <a:pt x="4085" y="15188"/>
                  <a:pt x="4076" y="15197"/>
                  <a:pt x="4068" y="15205"/>
                </a:cubicBezTo>
              </a:path>
              <a:path w="2506" h="944">
                <a:moveTo>
                  <a:pt x="5507" y="15255"/>
                </a:moveTo>
                <a:cubicBezTo>
                  <a:pt x="5507" y="15174"/>
                  <a:pt x="5471" y="15081"/>
                  <a:pt x="5383" y="15056"/>
                </a:cubicBezTo>
                <a:cubicBezTo>
                  <a:pt x="5151" y="14991"/>
                  <a:pt x="5067" y="15219"/>
                  <a:pt x="5035" y="15379"/>
                </a:cubicBezTo>
                <a:cubicBezTo>
                  <a:pt x="5321" y="15420"/>
                  <a:pt x="5264" y="15279"/>
                  <a:pt x="5482" y="15156"/>
                </a:cubicBezTo>
                <a:cubicBezTo>
                  <a:pt x="5490" y="15164"/>
                  <a:pt x="5499" y="15172"/>
                  <a:pt x="5507" y="15180"/>
                </a:cubicBezTo>
                <a:cubicBezTo>
                  <a:pt x="5488" y="15290"/>
                  <a:pt x="5349" y="15658"/>
                  <a:pt x="5407" y="15751"/>
                </a:cubicBezTo>
                <a:cubicBezTo>
                  <a:pt x="5424" y="15743"/>
                  <a:pt x="5440" y="15734"/>
                  <a:pt x="5457" y="15726"/>
                </a:cubicBezTo>
              </a:path>
              <a:path w="2506" h="944">
                <a:moveTo>
                  <a:pt x="6276" y="15230"/>
                </a:moveTo>
                <a:cubicBezTo>
                  <a:pt x="6313" y="15107"/>
                  <a:pt x="6379" y="14974"/>
                  <a:pt x="6201" y="14932"/>
                </a:cubicBezTo>
                <a:cubicBezTo>
                  <a:pt x="5954" y="14873"/>
                  <a:pt x="5865" y="15156"/>
                  <a:pt x="5829" y="15329"/>
                </a:cubicBezTo>
                <a:cubicBezTo>
                  <a:pt x="6053" y="15292"/>
                  <a:pt x="6113" y="15264"/>
                  <a:pt x="6226" y="15056"/>
                </a:cubicBezTo>
                <a:cubicBezTo>
                  <a:pt x="6245" y="15248"/>
                  <a:pt x="6251" y="15433"/>
                  <a:pt x="6251" y="15627"/>
                </a:cubicBezTo>
                <a:cubicBezTo>
                  <a:pt x="6251" y="15736"/>
                  <a:pt x="6244" y="15705"/>
                  <a:pt x="6226" y="1577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313240" y="2571840"/>
            <a:ext cx="777960" cy="473040"/>
          </a:xfrm>
          <a:custGeom>
            <a:avLst/>
            <a:gdLst/>
            <a:ahLst/>
            <a:rect l="l" t="t" r="r" b="b"/>
            <a:pathLst>
              <a:path w="2159" h="1315">
                <a:moveTo>
                  <a:pt x="16148" y="7144"/>
                </a:moveTo>
                <a:cubicBezTo>
                  <a:pt x="16085" y="7144"/>
                  <a:pt x="16051" y="7163"/>
                  <a:pt x="15999" y="7169"/>
                </a:cubicBezTo>
                <a:cubicBezTo>
                  <a:pt x="15974" y="7169"/>
                  <a:pt x="15966" y="7169"/>
                  <a:pt x="15949" y="7169"/>
                </a:cubicBezTo>
                <a:cubicBezTo>
                  <a:pt x="15956" y="7205"/>
                  <a:pt x="15958" y="7286"/>
                  <a:pt x="15974" y="7317"/>
                </a:cubicBezTo>
                <a:cubicBezTo>
                  <a:pt x="15994" y="7356"/>
                  <a:pt x="15999" y="7345"/>
                  <a:pt x="15999" y="7392"/>
                </a:cubicBezTo>
                <a:cubicBezTo>
                  <a:pt x="16034" y="7339"/>
                  <a:pt x="16055" y="7334"/>
                  <a:pt x="16123" y="7317"/>
                </a:cubicBezTo>
                <a:cubicBezTo>
                  <a:pt x="16164" y="7307"/>
                  <a:pt x="16298" y="7305"/>
                  <a:pt x="16321" y="7342"/>
                </a:cubicBezTo>
                <a:cubicBezTo>
                  <a:pt x="16344" y="7379"/>
                  <a:pt x="16393" y="7401"/>
                  <a:pt x="16371" y="7466"/>
                </a:cubicBezTo>
                <a:cubicBezTo>
                  <a:pt x="16348" y="7534"/>
                  <a:pt x="16269" y="7602"/>
                  <a:pt x="16197" y="7615"/>
                </a:cubicBezTo>
                <a:cubicBezTo>
                  <a:pt x="16155" y="7622"/>
                  <a:pt x="16026" y="7633"/>
                  <a:pt x="15999" y="7590"/>
                </a:cubicBezTo>
                <a:cubicBezTo>
                  <a:pt x="15999" y="7582"/>
                  <a:pt x="15999" y="7573"/>
                  <a:pt x="15999" y="7565"/>
                </a:cubicBezTo>
              </a:path>
              <a:path w="2159" h="1315">
                <a:moveTo>
                  <a:pt x="15627" y="7218"/>
                </a:moveTo>
                <a:cubicBezTo>
                  <a:pt x="15560" y="7218"/>
                  <a:pt x="15541" y="7238"/>
                  <a:pt x="15528" y="7317"/>
                </a:cubicBezTo>
                <a:cubicBezTo>
                  <a:pt x="15515" y="7400"/>
                  <a:pt x="15475" y="7492"/>
                  <a:pt x="15503" y="7565"/>
                </a:cubicBezTo>
                <a:cubicBezTo>
                  <a:pt x="15525" y="7622"/>
                  <a:pt x="15527" y="7662"/>
                  <a:pt x="15602" y="7640"/>
                </a:cubicBezTo>
                <a:cubicBezTo>
                  <a:pt x="15691" y="7614"/>
                  <a:pt x="15746" y="7582"/>
                  <a:pt x="15776" y="7491"/>
                </a:cubicBezTo>
                <a:cubicBezTo>
                  <a:pt x="15810" y="7386"/>
                  <a:pt x="15819" y="7334"/>
                  <a:pt x="15726" y="7268"/>
                </a:cubicBezTo>
                <a:cubicBezTo>
                  <a:pt x="15676" y="7233"/>
                  <a:pt x="15634" y="7225"/>
                  <a:pt x="15577" y="7218"/>
                </a:cubicBezTo>
              </a:path>
              <a:path w="2159" h="1315">
                <a:moveTo>
                  <a:pt x="15304" y="7565"/>
                </a:moveTo>
                <a:cubicBezTo>
                  <a:pt x="15273" y="7589"/>
                  <a:pt x="15255" y="7687"/>
                  <a:pt x="15255" y="7640"/>
                </a:cubicBezTo>
              </a:path>
              <a:path w="2159" h="1315">
                <a:moveTo>
                  <a:pt x="14982" y="7268"/>
                </a:moveTo>
                <a:cubicBezTo>
                  <a:pt x="14964" y="7214"/>
                  <a:pt x="14920" y="7259"/>
                  <a:pt x="14883" y="7293"/>
                </a:cubicBezTo>
                <a:cubicBezTo>
                  <a:pt x="14827" y="7345"/>
                  <a:pt x="14755" y="7489"/>
                  <a:pt x="14759" y="7565"/>
                </a:cubicBezTo>
                <a:cubicBezTo>
                  <a:pt x="14760" y="7578"/>
                  <a:pt x="14799" y="7711"/>
                  <a:pt x="14808" y="7714"/>
                </a:cubicBezTo>
                <a:cubicBezTo>
                  <a:pt x="14868" y="7736"/>
                  <a:pt x="14934" y="7743"/>
                  <a:pt x="14982" y="7689"/>
                </a:cubicBezTo>
                <a:cubicBezTo>
                  <a:pt x="15037" y="7629"/>
                  <a:pt x="15077" y="7545"/>
                  <a:pt x="15081" y="7466"/>
                </a:cubicBezTo>
                <a:cubicBezTo>
                  <a:pt x="15084" y="7416"/>
                  <a:pt x="15057" y="7318"/>
                  <a:pt x="15007" y="7293"/>
                </a:cubicBezTo>
                <a:cubicBezTo>
                  <a:pt x="14972" y="7276"/>
                  <a:pt x="14899" y="7251"/>
                  <a:pt x="14858" y="7243"/>
                </a:cubicBezTo>
              </a:path>
              <a:path w="2159" h="1315">
                <a:moveTo>
                  <a:pt x="15255" y="7615"/>
                </a:moveTo>
                <a:cubicBezTo>
                  <a:pt x="15193" y="7615"/>
                  <a:pt x="15214" y="7646"/>
                  <a:pt x="15230" y="7615"/>
                </a:cubicBezTo>
              </a:path>
              <a:path w="2159" h="1315">
                <a:moveTo>
                  <a:pt x="16669" y="7193"/>
                </a:moveTo>
                <a:cubicBezTo>
                  <a:pt x="16649" y="7135"/>
                  <a:pt x="16607" y="7184"/>
                  <a:pt x="16570" y="7218"/>
                </a:cubicBezTo>
                <a:cubicBezTo>
                  <a:pt x="16540" y="7246"/>
                  <a:pt x="16507" y="7306"/>
                  <a:pt x="16495" y="7342"/>
                </a:cubicBezTo>
                <a:cubicBezTo>
                  <a:pt x="16476" y="7397"/>
                  <a:pt x="16506" y="7449"/>
                  <a:pt x="16520" y="7491"/>
                </a:cubicBezTo>
                <a:cubicBezTo>
                  <a:pt x="16532" y="7526"/>
                  <a:pt x="16563" y="7552"/>
                  <a:pt x="16570" y="7565"/>
                </a:cubicBezTo>
                <a:cubicBezTo>
                  <a:pt x="16592" y="7609"/>
                  <a:pt x="16683" y="7590"/>
                  <a:pt x="16743" y="7590"/>
                </a:cubicBezTo>
                <a:cubicBezTo>
                  <a:pt x="16811" y="7590"/>
                  <a:pt x="16812" y="7543"/>
                  <a:pt x="16867" y="7516"/>
                </a:cubicBezTo>
                <a:cubicBezTo>
                  <a:pt x="16894" y="7503"/>
                  <a:pt x="16905" y="7432"/>
                  <a:pt x="16917" y="7392"/>
                </a:cubicBezTo>
                <a:cubicBezTo>
                  <a:pt x="16928" y="7355"/>
                  <a:pt x="16877" y="7323"/>
                  <a:pt x="16867" y="7293"/>
                </a:cubicBezTo>
                <a:cubicBezTo>
                  <a:pt x="16853" y="7253"/>
                  <a:pt x="16803" y="7238"/>
                  <a:pt x="16793" y="7218"/>
                </a:cubicBezTo>
                <a:cubicBezTo>
                  <a:pt x="16781" y="7194"/>
                  <a:pt x="16708" y="7151"/>
                  <a:pt x="16694" y="7144"/>
                </a:cubicBezTo>
                <a:cubicBezTo>
                  <a:pt x="16686" y="7144"/>
                  <a:pt x="16677" y="7144"/>
                  <a:pt x="16669" y="7144"/>
                </a:cubicBezTo>
              </a:path>
              <a:path w="2159" h="1315">
                <a:moveTo>
                  <a:pt x="15255" y="7962"/>
                </a:moveTo>
                <a:cubicBezTo>
                  <a:pt x="15169" y="8065"/>
                  <a:pt x="15123" y="8175"/>
                  <a:pt x="15106" y="8310"/>
                </a:cubicBezTo>
                <a:cubicBezTo>
                  <a:pt x="15106" y="8394"/>
                  <a:pt x="15099" y="8414"/>
                  <a:pt x="15131" y="8458"/>
                </a:cubicBezTo>
                <a:cubicBezTo>
                  <a:pt x="15237" y="8458"/>
                  <a:pt x="15286" y="8472"/>
                  <a:pt x="15354" y="8384"/>
                </a:cubicBezTo>
                <a:cubicBezTo>
                  <a:pt x="15429" y="8288"/>
                  <a:pt x="15424" y="8199"/>
                  <a:pt x="15354" y="8111"/>
                </a:cubicBezTo>
                <a:cubicBezTo>
                  <a:pt x="15320" y="8068"/>
                  <a:pt x="15288" y="8058"/>
                  <a:pt x="15255" y="801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197320" y="3821040"/>
            <a:ext cx="258840" cy="243000"/>
          </a:xfrm>
          <a:custGeom>
            <a:avLst/>
            <a:gdLst/>
            <a:ahLst/>
            <a:rect l="l" t="t" r="r" b="b"/>
            <a:pathLst>
              <a:path w="721" h="671">
                <a:moveTo>
                  <a:pt x="14486" y="10740"/>
                </a:moveTo>
                <a:cubicBezTo>
                  <a:pt x="14486" y="10674"/>
                  <a:pt x="14497" y="10824"/>
                  <a:pt x="14486" y="10889"/>
                </a:cubicBezTo>
                <a:cubicBezTo>
                  <a:pt x="14466" y="10950"/>
                  <a:pt x="14468" y="10965"/>
                  <a:pt x="14436" y="10988"/>
                </a:cubicBezTo>
                <a:cubicBezTo>
                  <a:pt x="14482" y="11019"/>
                  <a:pt x="14591" y="10959"/>
                  <a:pt x="14684" y="10964"/>
                </a:cubicBezTo>
                <a:cubicBezTo>
                  <a:pt x="14756" y="10968"/>
                  <a:pt x="14808" y="11047"/>
                  <a:pt x="14808" y="11013"/>
                </a:cubicBezTo>
              </a:path>
              <a:path w="721" h="671">
                <a:moveTo>
                  <a:pt x="14635" y="10616"/>
                </a:moveTo>
                <a:cubicBezTo>
                  <a:pt x="14664" y="10761"/>
                  <a:pt x="14706" y="10913"/>
                  <a:pt x="14734" y="11063"/>
                </a:cubicBezTo>
                <a:cubicBezTo>
                  <a:pt x="14756" y="11171"/>
                  <a:pt x="14759" y="11197"/>
                  <a:pt x="14784" y="11261"/>
                </a:cubicBezTo>
              </a:path>
              <a:path w="721" h="671">
                <a:moveTo>
                  <a:pt x="15131" y="11212"/>
                </a:moveTo>
                <a:cubicBezTo>
                  <a:pt x="15104" y="11247"/>
                  <a:pt x="15106" y="11242"/>
                  <a:pt x="15106" y="11286"/>
                </a:cubicBezTo>
                <a:cubicBezTo>
                  <a:pt x="15141" y="11251"/>
                  <a:pt x="15154" y="11229"/>
                  <a:pt x="15156" y="11187"/>
                </a:cubicBezTo>
                <a:cubicBezTo>
                  <a:pt x="15091" y="11200"/>
                  <a:pt x="15062" y="11204"/>
                  <a:pt x="15106" y="1126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607000" y="3857760"/>
            <a:ext cx="474840" cy="196560"/>
          </a:xfrm>
          <a:custGeom>
            <a:avLst/>
            <a:gdLst/>
            <a:ahLst/>
            <a:rect l="l" t="t" r="r" b="b"/>
            <a:pathLst>
              <a:path w="1316" h="546">
                <a:moveTo>
                  <a:pt x="15602" y="10740"/>
                </a:moveTo>
                <a:cubicBezTo>
                  <a:pt x="15602" y="10625"/>
                  <a:pt x="15602" y="10923"/>
                  <a:pt x="15602" y="11038"/>
                </a:cubicBezTo>
                <a:cubicBezTo>
                  <a:pt x="15602" y="11092"/>
                  <a:pt x="15557" y="11247"/>
                  <a:pt x="15602" y="11261"/>
                </a:cubicBezTo>
              </a:path>
              <a:path w="1316" h="546">
                <a:moveTo>
                  <a:pt x="16049" y="10840"/>
                </a:moveTo>
                <a:cubicBezTo>
                  <a:pt x="15969" y="10733"/>
                  <a:pt x="15894" y="10855"/>
                  <a:pt x="15875" y="10964"/>
                </a:cubicBezTo>
                <a:cubicBezTo>
                  <a:pt x="15836" y="11189"/>
                  <a:pt x="16038" y="11316"/>
                  <a:pt x="16222" y="11162"/>
                </a:cubicBezTo>
                <a:cubicBezTo>
                  <a:pt x="16372" y="11036"/>
                  <a:pt x="16237" y="10837"/>
                  <a:pt x="16098" y="10790"/>
                </a:cubicBezTo>
                <a:cubicBezTo>
                  <a:pt x="16074" y="10782"/>
                  <a:pt x="16007" y="10790"/>
                  <a:pt x="15974" y="10790"/>
                </a:cubicBezTo>
              </a:path>
              <a:path w="1316" h="546">
                <a:moveTo>
                  <a:pt x="16669" y="10740"/>
                </a:moveTo>
                <a:cubicBezTo>
                  <a:pt x="16535" y="10759"/>
                  <a:pt x="16511" y="10887"/>
                  <a:pt x="16495" y="11013"/>
                </a:cubicBezTo>
                <a:cubicBezTo>
                  <a:pt x="16495" y="11126"/>
                  <a:pt x="16489" y="11158"/>
                  <a:pt x="16545" y="11212"/>
                </a:cubicBezTo>
                <a:cubicBezTo>
                  <a:pt x="16723" y="11167"/>
                  <a:pt x="17062" y="11060"/>
                  <a:pt x="16818" y="10815"/>
                </a:cubicBezTo>
                <a:cubicBezTo>
                  <a:pt x="16674" y="10742"/>
                  <a:pt x="16629" y="10716"/>
                  <a:pt x="16520" y="1076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160960" y="4822920"/>
            <a:ext cx="241200" cy="52200"/>
          </a:xfrm>
          <a:custGeom>
            <a:avLst/>
            <a:gdLst/>
            <a:ahLst/>
            <a:rect l="l" t="t" r="r" b="b"/>
            <a:pathLst>
              <a:path w="671" h="149">
                <a:moveTo>
                  <a:pt x="14387" y="13395"/>
                </a:moveTo>
                <a:cubicBezTo>
                  <a:pt x="14506" y="13453"/>
                  <a:pt x="14696" y="13419"/>
                  <a:pt x="14833" y="13419"/>
                </a:cubicBezTo>
                <a:cubicBezTo>
                  <a:pt x="15009" y="13419"/>
                  <a:pt x="15054" y="13435"/>
                  <a:pt x="14883" y="13469"/>
                </a:cubicBezTo>
                <a:cubicBezTo>
                  <a:pt x="14668" y="13493"/>
                  <a:pt x="14601" y="13500"/>
                  <a:pt x="14461" y="13519"/>
                </a:cubicBezTo>
                <a:cubicBezTo>
                  <a:pt x="14403" y="13519"/>
                  <a:pt x="14527" y="13519"/>
                  <a:pt x="14585" y="13519"/>
                </a:cubicBezTo>
                <a:cubicBezTo>
                  <a:pt x="14925" y="13459"/>
                  <a:pt x="14592" y="13500"/>
                  <a:pt x="14461" y="13519"/>
                </a:cubicBezTo>
                <a:cubicBezTo>
                  <a:pt x="14111" y="13571"/>
                  <a:pt x="14659" y="13469"/>
                  <a:pt x="14660" y="13469"/>
                </a:cubicBezTo>
                <a:cubicBezTo>
                  <a:pt x="14754" y="13450"/>
                  <a:pt x="14817" y="13420"/>
                  <a:pt x="14759" y="1346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286240" y="4348080"/>
            <a:ext cx="322560" cy="144720"/>
          </a:xfrm>
          <a:custGeom>
            <a:avLst/>
            <a:gdLst/>
            <a:ahLst/>
            <a:rect l="l" t="t" r="r" b="b"/>
            <a:pathLst>
              <a:path w="894" h="398">
                <a:moveTo>
                  <a:pt x="14734" y="12378"/>
                </a:moveTo>
                <a:cubicBezTo>
                  <a:pt x="14709" y="12353"/>
                  <a:pt x="14701" y="12345"/>
                  <a:pt x="14684" y="12328"/>
                </a:cubicBezTo>
                <a:cubicBezTo>
                  <a:pt x="14686" y="12322"/>
                  <a:pt x="14703" y="12259"/>
                  <a:pt x="14709" y="12254"/>
                </a:cubicBezTo>
                <a:cubicBezTo>
                  <a:pt x="14750" y="12217"/>
                  <a:pt x="14836" y="12171"/>
                  <a:pt x="14883" y="12154"/>
                </a:cubicBezTo>
                <a:cubicBezTo>
                  <a:pt x="14929" y="12137"/>
                  <a:pt x="14983" y="12122"/>
                  <a:pt x="15032" y="12105"/>
                </a:cubicBezTo>
                <a:cubicBezTo>
                  <a:pt x="15076" y="12090"/>
                  <a:pt x="15154" y="12058"/>
                  <a:pt x="15205" y="12080"/>
                </a:cubicBezTo>
                <a:cubicBezTo>
                  <a:pt x="15232" y="12091"/>
                  <a:pt x="15271" y="12125"/>
                  <a:pt x="15280" y="12129"/>
                </a:cubicBezTo>
                <a:cubicBezTo>
                  <a:pt x="15317" y="12147"/>
                  <a:pt x="15304" y="12191"/>
                  <a:pt x="15329" y="12229"/>
                </a:cubicBezTo>
                <a:cubicBezTo>
                  <a:pt x="15348" y="12258"/>
                  <a:pt x="15367" y="12312"/>
                  <a:pt x="15404" y="12328"/>
                </a:cubicBezTo>
                <a:cubicBezTo>
                  <a:pt x="15438" y="12343"/>
                  <a:pt x="15460" y="12393"/>
                  <a:pt x="15478" y="12402"/>
                </a:cubicBezTo>
                <a:cubicBezTo>
                  <a:pt x="15486" y="12402"/>
                  <a:pt x="15495" y="12402"/>
                  <a:pt x="15503" y="12402"/>
                </a:cubicBezTo>
                <a:cubicBezTo>
                  <a:pt x="15451" y="12385"/>
                  <a:pt x="15406" y="12334"/>
                  <a:pt x="15354" y="12328"/>
                </a:cubicBezTo>
                <a:cubicBezTo>
                  <a:pt x="15346" y="12328"/>
                  <a:pt x="15337" y="12328"/>
                  <a:pt x="15329" y="12328"/>
                </a:cubicBezTo>
                <a:cubicBezTo>
                  <a:pt x="15353" y="12400"/>
                  <a:pt x="15378" y="12433"/>
                  <a:pt x="15453" y="12452"/>
                </a:cubicBezTo>
                <a:cubicBezTo>
                  <a:pt x="15495" y="12463"/>
                  <a:pt x="15462" y="12463"/>
                  <a:pt x="15503" y="12477"/>
                </a:cubicBezTo>
                <a:cubicBezTo>
                  <a:pt x="15513" y="12426"/>
                  <a:pt x="15539" y="12341"/>
                  <a:pt x="15577" y="1232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510160" y="3687840"/>
            <a:ext cx="169920" cy="44280"/>
          </a:xfrm>
          <a:custGeom>
            <a:avLst/>
            <a:gdLst/>
            <a:ahLst/>
            <a:rect l="l" t="t" r="r" b="b"/>
            <a:pathLst>
              <a:path w="473" h="125">
                <a:moveTo>
                  <a:pt x="15329" y="10294"/>
                </a:moveTo>
                <a:cubicBezTo>
                  <a:pt x="15329" y="10398"/>
                  <a:pt x="15306" y="10381"/>
                  <a:pt x="15478" y="10368"/>
                </a:cubicBezTo>
                <a:cubicBezTo>
                  <a:pt x="15483" y="10368"/>
                  <a:pt x="15800" y="10310"/>
                  <a:pt x="15751" y="10344"/>
                </a:cubicBezTo>
                <a:cubicBezTo>
                  <a:pt x="15684" y="10390"/>
                  <a:pt x="15475" y="10348"/>
                  <a:pt x="15379" y="10344"/>
                </a:cubicBezTo>
                <a:cubicBezTo>
                  <a:pt x="15142" y="10344"/>
                  <a:pt x="15648" y="10319"/>
                  <a:pt x="15652" y="10319"/>
                </a:cubicBezTo>
                <a:cubicBezTo>
                  <a:pt x="15743" y="10312"/>
                  <a:pt x="15569" y="10304"/>
                  <a:pt x="15478" y="10294"/>
                </a:cubicBezTo>
                <a:cubicBezTo>
                  <a:pt x="15404" y="10286"/>
                  <a:pt x="15554" y="10283"/>
                  <a:pt x="15627" y="10269"/>
                </a:cubicBezTo>
                <a:cubicBezTo>
                  <a:pt x="15677" y="10244"/>
                  <a:pt x="15694" y="10236"/>
                  <a:pt x="15652" y="1029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562720" y="3160800"/>
            <a:ext cx="287280" cy="144360"/>
          </a:xfrm>
          <a:custGeom>
            <a:avLst/>
            <a:gdLst/>
            <a:ahLst/>
            <a:rect l="l" t="t" r="r" b="b"/>
            <a:pathLst>
              <a:path w="795" h="398">
                <a:moveTo>
                  <a:pt x="15453" y="9029"/>
                </a:moveTo>
                <a:cubicBezTo>
                  <a:pt x="15550" y="9029"/>
                  <a:pt x="15471" y="8946"/>
                  <a:pt x="15553" y="8880"/>
                </a:cubicBezTo>
                <a:cubicBezTo>
                  <a:pt x="15652" y="8800"/>
                  <a:pt x="15832" y="8775"/>
                  <a:pt x="15949" y="8806"/>
                </a:cubicBezTo>
                <a:cubicBezTo>
                  <a:pt x="16022" y="8825"/>
                  <a:pt x="16104" y="8958"/>
                  <a:pt x="16123" y="9029"/>
                </a:cubicBezTo>
                <a:cubicBezTo>
                  <a:pt x="16155" y="9151"/>
                  <a:pt x="16113" y="9059"/>
                  <a:pt x="16073" y="9029"/>
                </a:cubicBezTo>
                <a:cubicBezTo>
                  <a:pt x="16057" y="9021"/>
                  <a:pt x="16040" y="9012"/>
                  <a:pt x="16024" y="9004"/>
                </a:cubicBezTo>
                <a:cubicBezTo>
                  <a:pt x="16037" y="9029"/>
                  <a:pt x="16098" y="9137"/>
                  <a:pt x="16123" y="9153"/>
                </a:cubicBezTo>
                <a:cubicBezTo>
                  <a:pt x="16166" y="9182"/>
                  <a:pt x="16188" y="9092"/>
                  <a:pt x="16222" y="9054"/>
                </a:cubicBezTo>
                <a:cubicBezTo>
                  <a:pt x="16285" y="9012"/>
                  <a:pt x="16162" y="9088"/>
                  <a:pt x="16098" y="9128"/>
                </a:cubicBezTo>
                <a:cubicBezTo>
                  <a:pt x="16064" y="9149"/>
                  <a:pt x="15969" y="9133"/>
                  <a:pt x="15949" y="9153"/>
                </a:cubicBezTo>
                <a:cubicBezTo>
                  <a:pt x="15922" y="9180"/>
                  <a:pt x="15925" y="9150"/>
                  <a:pt x="15925" y="9103"/>
                </a:cubicBezTo>
                <a:cubicBezTo>
                  <a:pt x="15925" y="9095"/>
                  <a:pt x="15925" y="9087"/>
                  <a:pt x="15925" y="907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599080" y="2867040"/>
            <a:ext cx="374760" cy="169920"/>
          </a:xfrm>
          <a:custGeom>
            <a:avLst/>
            <a:gdLst/>
            <a:ahLst/>
            <a:rect l="l" t="t" r="r" b="b"/>
            <a:pathLst>
              <a:path w="1042" h="473">
                <a:moveTo>
                  <a:pt x="16049" y="8037"/>
                </a:moveTo>
                <a:cubicBezTo>
                  <a:pt x="16022" y="8028"/>
                  <a:pt x="16018" y="7996"/>
                  <a:pt x="15974" y="8012"/>
                </a:cubicBezTo>
                <a:cubicBezTo>
                  <a:pt x="15886" y="8044"/>
                  <a:pt x="15864" y="8226"/>
                  <a:pt x="15875" y="8310"/>
                </a:cubicBezTo>
                <a:cubicBezTo>
                  <a:pt x="15883" y="8335"/>
                  <a:pt x="15892" y="8359"/>
                  <a:pt x="15900" y="8384"/>
                </a:cubicBezTo>
                <a:cubicBezTo>
                  <a:pt x="16033" y="8414"/>
                  <a:pt x="16074" y="8384"/>
                  <a:pt x="16123" y="8260"/>
                </a:cubicBezTo>
                <a:cubicBezTo>
                  <a:pt x="16163" y="8160"/>
                  <a:pt x="16119" y="8086"/>
                  <a:pt x="16024" y="8037"/>
                </a:cubicBezTo>
                <a:cubicBezTo>
                  <a:pt x="15966" y="8018"/>
                  <a:pt x="15941" y="7991"/>
                  <a:pt x="15949" y="8037"/>
                </a:cubicBezTo>
              </a:path>
              <a:path w="1042" h="473">
                <a:moveTo>
                  <a:pt x="16520" y="7962"/>
                </a:moveTo>
                <a:cubicBezTo>
                  <a:pt x="16438" y="7974"/>
                  <a:pt x="16342" y="7994"/>
                  <a:pt x="16272" y="8012"/>
                </a:cubicBezTo>
                <a:cubicBezTo>
                  <a:pt x="16264" y="8012"/>
                  <a:pt x="16255" y="8012"/>
                  <a:pt x="16247" y="8012"/>
                </a:cubicBezTo>
                <a:cubicBezTo>
                  <a:pt x="16256" y="8052"/>
                  <a:pt x="16288" y="8192"/>
                  <a:pt x="16321" y="8186"/>
                </a:cubicBezTo>
                <a:cubicBezTo>
                  <a:pt x="16409" y="8171"/>
                  <a:pt x="16423" y="8119"/>
                  <a:pt x="16495" y="8161"/>
                </a:cubicBezTo>
                <a:cubicBezTo>
                  <a:pt x="16565" y="8201"/>
                  <a:pt x="16583" y="8207"/>
                  <a:pt x="16594" y="8285"/>
                </a:cubicBezTo>
                <a:cubicBezTo>
                  <a:pt x="16527" y="8330"/>
                  <a:pt x="16426" y="8368"/>
                  <a:pt x="16346" y="8384"/>
                </a:cubicBezTo>
                <a:cubicBezTo>
                  <a:pt x="16305" y="8384"/>
                  <a:pt x="16289" y="8392"/>
                  <a:pt x="16297" y="8359"/>
                </a:cubicBezTo>
              </a:path>
              <a:path w="1042" h="473">
                <a:moveTo>
                  <a:pt x="15627" y="8359"/>
                </a:moveTo>
                <a:cubicBezTo>
                  <a:pt x="15560" y="8359"/>
                  <a:pt x="15592" y="8382"/>
                  <a:pt x="15553" y="8409"/>
                </a:cubicBezTo>
                <a:cubicBezTo>
                  <a:pt x="15635" y="8352"/>
                  <a:pt x="15526" y="8362"/>
                  <a:pt x="15577" y="8434"/>
                </a:cubicBezTo>
                <a:cubicBezTo>
                  <a:pt x="15584" y="8444"/>
                  <a:pt x="15676" y="8434"/>
                  <a:pt x="15602" y="840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715000" y="2446200"/>
            <a:ext cx="187200" cy="36720"/>
          </a:xfrm>
          <a:custGeom>
            <a:avLst/>
            <a:gdLst/>
            <a:ahLst/>
            <a:rect l="l" t="t" r="r" b="b"/>
            <a:pathLst>
              <a:path w="522" h="101">
                <a:moveTo>
                  <a:pt x="15999" y="6871"/>
                </a:moveTo>
                <a:cubicBezTo>
                  <a:pt x="16030" y="6825"/>
                  <a:pt x="16268" y="6828"/>
                  <a:pt x="16346" y="6821"/>
                </a:cubicBezTo>
                <a:cubicBezTo>
                  <a:pt x="16443" y="6812"/>
                  <a:pt x="16270" y="6800"/>
                  <a:pt x="16173" y="6796"/>
                </a:cubicBezTo>
                <a:cubicBezTo>
                  <a:pt x="16082" y="6796"/>
                  <a:pt x="16074" y="6796"/>
                  <a:pt x="16024" y="6796"/>
                </a:cubicBezTo>
                <a:cubicBezTo>
                  <a:pt x="16121" y="6808"/>
                  <a:pt x="16225" y="6827"/>
                  <a:pt x="16321" y="6846"/>
                </a:cubicBezTo>
                <a:cubicBezTo>
                  <a:pt x="16418" y="6865"/>
                  <a:pt x="16123" y="6846"/>
                  <a:pt x="16024" y="6846"/>
                </a:cubicBezTo>
                <a:cubicBezTo>
                  <a:pt x="15948" y="6846"/>
                  <a:pt x="16255" y="6846"/>
                  <a:pt x="16272" y="6846"/>
                </a:cubicBezTo>
                <a:cubicBezTo>
                  <a:pt x="16396" y="6846"/>
                  <a:pt x="16121" y="6849"/>
                  <a:pt x="15999" y="6871"/>
                </a:cubicBezTo>
                <a:cubicBezTo>
                  <a:pt x="15911" y="6887"/>
                  <a:pt x="15828" y="6919"/>
                  <a:pt x="15949" y="6896"/>
                </a:cubicBezTo>
                <a:cubicBezTo>
                  <a:pt x="15982" y="6888"/>
                  <a:pt x="16016" y="6879"/>
                  <a:pt x="16049" y="6871"/>
                </a:cubicBezTo>
                <a:cubicBezTo>
                  <a:pt x="16104" y="6871"/>
                  <a:pt x="15948" y="6885"/>
                  <a:pt x="15925" y="6896"/>
                </a:cubicBezTo>
                <a:cubicBezTo>
                  <a:pt x="15886" y="6915"/>
                  <a:pt x="16006" y="6871"/>
                  <a:pt x="16049" y="6871"/>
                </a:cubicBezTo>
                <a:cubicBezTo>
                  <a:pt x="16073" y="6871"/>
                  <a:pt x="16082" y="6871"/>
                  <a:pt x="16098" y="687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03920" y="1919160"/>
            <a:ext cx="268200" cy="162000"/>
          </a:xfrm>
          <a:custGeom>
            <a:avLst/>
            <a:gdLst/>
            <a:ahLst/>
            <a:rect l="l" t="t" r="r" b="b"/>
            <a:pathLst>
              <a:path w="745" h="447">
                <a:moveTo>
                  <a:pt x="16123" y="5779"/>
                </a:moveTo>
                <a:cubicBezTo>
                  <a:pt x="16161" y="5767"/>
                  <a:pt x="16148" y="5750"/>
                  <a:pt x="16148" y="5705"/>
                </a:cubicBezTo>
                <a:cubicBezTo>
                  <a:pt x="16148" y="5638"/>
                  <a:pt x="16128" y="5619"/>
                  <a:pt x="16123" y="5556"/>
                </a:cubicBezTo>
                <a:cubicBezTo>
                  <a:pt x="16117" y="5490"/>
                  <a:pt x="16131" y="5439"/>
                  <a:pt x="16148" y="5407"/>
                </a:cubicBezTo>
                <a:cubicBezTo>
                  <a:pt x="16172" y="5360"/>
                  <a:pt x="16195" y="5384"/>
                  <a:pt x="16247" y="5358"/>
                </a:cubicBezTo>
                <a:cubicBezTo>
                  <a:pt x="16293" y="5335"/>
                  <a:pt x="16311" y="5333"/>
                  <a:pt x="16371" y="5333"/>
                </a:cubicBezTo>
                <a:cubicBezTo>
                  <a:pt x="16429" y="5333"/>
                  <a:pt x="16447" y="5364"/>
                  <a:pt x="16495" y="5383"/>
                </a:cubicBezTo>
                <a:cubicBezTo>
                  <a:pt x="16550" y="5405"/>
                  <a:pt x="16589" y="5430"/>
                  <a:pt x="16619" y="5482"/>
                </a:cubicBezTo>
                <a:cubicBezTo>
                  <a:pt x="16651" y="5539"/>
                  <a:pt x="16699" y="5591"/>
                  <a:pt x="16718" y="5655"/>
                </a:cubicBezTo>
                <a:cubicBezTo>
                  <a:pt x="16729" y="5691"/>
                  <a:pt x="16738" y="5700"/>
                  <a:pt x="16768" y="5730"/>
                </a:cubicBezTo>
                <a:cubicBezTo>
                  <a:pt x="16719" y="5718"/>
                  <a:pt x="16691" y="5671"/>
                  <a:pt x="16644" y="5655"/>
                </a:cubicBezTo>
                <a:cubicBezTo>
                  <a:pt x="16619" y="5655"/>
                  <a:pt x="16611" y="5655"/>
                  <a:pt x="16644" y="5655"/>
                </a:cubicBezTo>
                <a:cubicBezTo>
                  <a:pt x="16695" y="5721"/>
                  <a:pt x="16698" y="5737"/>
                  <a:pt x="16768" y="5755"/>
                </a:cubicBezTo>
                <a:cubicBezTo>
                  <a:pt x="16799" y="5693"/>
                  <a:pt x="16833" y="5640"/>
                  <a:pt x="16867" y="5581"/>
                </a:cubicBezTo>
                <a:cubicBezTo>
                  <a:pt x="16814" y="5608"/>
                  <a:pt x="16792" y="5691"/>
                  <a:pt x="16743" y="5730"/>
                </a:cubicBezTo>
                <a:cubicBezTo>
                  <a:pt x="16733" y="5738"/>
                  <a:pt x="16699" y="5777"/>
                  <a:pt x="16694" y="5779"/>
                </a:cubicBezTo>
                <a:cubicBezTo>
                  <a:pt x="16671" y="5790"/>
                  <a:pt x="16649" y="5740"/>
                  <a:pt x="16619" y="5730"/>
                </a:cubicBezTo>
                <a:cubicBezTo>
                  <a:pt x="16577" y="5716"/>
                  <a:pt x="16591" y="5717"/>
                  <a:pt x="16619" y="568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599080" y="2562120"/>
            <a:ext cx="241200" cy="465120"/>
          </a:xfrm>
          <a:custGeom>
            <a:avLst/>
            <a:gdLst/>
            <a:ahLst/>
            <a:rect l="l" t="t" r="r" b="b"/>
            <a:pathLst>
              <a:path w="670" h="1291">
                <a:moveTo>
                  <a:pt x="16222" y="7144"/>
                </a:moveTo>
                <a:cubicBezTo>
                  <a:pt x="16222" y="7136"/>
                  <a:pt x="16222" y="7127"/>
                  <a:pt x="16222" y="7119"/>
                </a:cubicBezTo>
              </a:path>
              <a:path w="670" h="1291">
                <a:moveTo>
                  <a:pt x="16197" y="7119"/>
                </a:moveTo>
                <a:lnTo>
                  <a:pt x="16197" y="7119"/>
                </a:lnTo>
              </a:path>
              <a:path w="670" h="1291">
                <a:moveTo>
                  <a:pt x="15553" y="8384"/>
                </a:moveTo>
                <a:cubicBezTo>
                  <a:pt x="15553" y="8409"/>
                  <a:pt x="15553" y="8417"/>
                  <a:pt x="15577" y="840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214960" y="5018040"/>
            <a:ext cx="901800" cy="250920"/>
          </a:xfrm>
          <a:custGeom>
            <a:avLst/>
            <a:gdLst/>
            <a:ahLst/>
            <a:rect l="l" t="t" r="r" b="b"/>
            <a:pathLst>
              <a:path w="2506" h="696">
                <a:moveTo>
                  <a:pt x="14486" y="13990"/>
                </a:moveTo>
                <a:cubicBezTo>
                  <a:pt x="14573" y="13990"/>
                  <a:pt x="14651" y="13973"/>
                  <a:pt x="14734" y="13965"/>
                </a:cubicBezTo>
                <a:cubicBezTo>
                  <a:pt x="14856" y="13953"/>
                  <a:pt x="14983" y="13965"/>
                  <a:pt x="15106" y="13965"/>
                </a:cubicBezTo>
                <a:cubicBezTo>
                  <a:pt x="15087" y="14021"/>
                  <a:pt x="14998" y="14144"/>
                  <a:pt x="14957" y="14213"/>
                </a:cubicBezTo>
                <a:cubicBezTo>
                  <a:pt x="14883" y="14339"/>
                  <a:pt x="14781" y="14469"/>
                  <a:pt x="14734" y="14610"/>
                </a:cubicBezTo>
                <a:cubicBezTo>
                  <a:pt x="14734" y="14635"/>
                  <a:pt x="14734" y="14643"/>
                  <a:pt x="14759" y="14635"/>
                </a:cubicBezTo>
              </a:path>
              <a:path w="2506" h="696">
                <a:moveTo>
                  <a:pt x="15205" y="14436"/>
                </a:moveTo>
                <a:cubicBezTo>
                  <a:pt x="15155" y="14449"/>
                  <a:pt x="15160" y="14460"/>
                  <a:pt x="15131" y="14511"/>
                </a:cubicBezTo>
                <a:cubicBezTo>
                  <a:pt x="15171" y="14507"/>
                  <a:pt x="15338" y="14463"/>
                  <a:pt x="15230" y="14436"/>
                </a:cubicBezTo>
                <a:cubicBezTo>
                  <a:pt x="15194" y="14427"/>
                  <a:pt x="15266" y="14412"/>
                  <a:pt x="15404" y="14337"/>
                </a:cubicBezTo>
              </a:path>
              <a:path w="2506" h="696">
                <a:moveTo>
                  <a:pt x="15677" y="14064"/>
                </a:moveTo>
                <a:cubicBezTo>
                  <a:pt x="15572" y="14064"/>
                  <a:pt x="15432" y="14152"/>
                  <a:pt x="15404" y="14263"/>
                </a:cubicBezTo>
                <a:cubicBezTo>
                  <a:pt x="15412" y="14304"/>
                  <a:pt x="15421" y="14346"/>
                  <a:pt x="15429" y="14387"/>
                </a:cubicBezTo>
                <a:cubicBezTo>
                  <a:pt x="15611" y="14463"/>
                  <a:pt x="15901" y="14453"/>
                  <a:pt x="15875" y="14139"/>
                </a:cubicBezTo>
                <a:cubicBezTo>
                  <a:pt x="15864" y="14006"/>
                  <a:pt x="15713" y="14023"/>
                  <a:pt x="15627" y="14015"/>
                </a:cubicBezTo>
              </a:path>
              <a:path w="2506" h="696">
                <a:moveTo>
                  <a:pt x="16371" y="13990"/>
                </a:moveTo>
                <a:cubicBezTo>
                  <a:pt x="16219" y="13964"/>
                  <a:pt x="16042" y="14086"/>
                  <a:pt x="15974" y="14238"/>
                </a:cubicBezTo>
                <a:cubicBezTo>
                  <a:pt x="15974" y="14279"/>
                  <a:pt x="15974" y="14321"/>
                  <a:pt x="15974" y="14362"/>
                </a:cubicBezTo>
                <a:cubicBezTo>
                  <a:pt x="16106" y="14390"/>
                  <a:pt x="16503" y="14388"/>
                  <a:pt x="16421" y="14114"/>
                </a:cubicBezTo>
                <a:cubicBezTo>
                  <a:pt x="16400" y="14045"/>
                  <a:pt x="15922" y="13925"/>
                  <a:pt x="16297" y="14064"/>
                </a:cubicBezTo>
              </a:path>
              <a:path w="2506" h="696">
                <a:moveTo>
                  <a:pt x="16867" y="13940"/>
                </a:moveTo>
                <a:cubicBezTo>
                  <a:pt x="16689" y="14029"/>
                  <a:pt x="16653" y="14111"/>
                  <a:pt x="16644" y="14288"/>
                </a:cubicBezTo>
                <a:cubicBezTo>
                  <a:pt x="16717" y="14280"/>
                  <a:pt x="17156" y="14199"/>
                  <a:pt x="16991" y="14015"/>
                </a:cubicBezTo>
                <a:cubicBezTo>
                  <a:pt x="16844" y="13966"/>
                  <a:pt x="16797" y="13949"/>
                  <a:pt x="16694" y="1399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599080" y="5367240"/>
            <a:ext cx="214200" cy="293760"/>
          </a:xfrm>
          <a:custGeom>
            <a:avLst/>
            <a:gdLst/>
            <a:ahLst/>
            <a:rect l="l" t="t" r="r" b="b"/>
            <a:pathLst>
              <a:path w="596" h="819">
                <a:moveTo>
                  <a:pt x="15553" y="15106"/>
                </a:moveTo>
                <a:cubicBezTo>
                  <a:pt x="15553" y="15165"/>
                  <a:pt x="15556" y="15191"/>
                  <a:pt x="15577" y="15230"/>
                </a:cubicBezTo>
                <a:cubicBezTo>
                  <a:pt x="15577" y="15135"/>
                  <a:pt x="15563" y="15064"/>
                  <a:pt x="15652" y="15032"/>
                </a:cubicBezTo>
                <a:cubicBezTo>
                  <a:pt x="15799" y="14979"/>
                  <a:pt x="15972" y="14949"/>
                  <a:pt x="16123" y="14908"/>
                </a:cubicBezTo>
                <a:cubicBezTo>
                  <a:pt x="16131" y="14908"/>
                  <a:pt x="16140" y="14908"/>
                  <a:pt x="16148" y="14908"/>
                </a:cubicBezTo>
                <a:cubicBezTo>
                  <a:pt x="16130" y="15142"/>
                  <a:pt x="16037" y="15348"/>
                  <a:pt x="15999" y="15577"/>
                </a:cubicBezTo>
                <a:cubicBezTo>
                  <a:pt x="15992" y="15617"/>
                  <a:pt x="15999" y="15680"/>
                  <a:pt x="15999" y="1572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bjective :  Students will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accurately round decimal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Verdana"/>
              </a:rPr>
              <a:t>Skill Practice:  Round the decimals below to the </a:t>
            </a:r>
            <a:r>
              <a:rPr b="0" i="1" lang="en-US" sz="3200" spc="-1" strike="noStrike" u="sng">
                <a:solidFill>
                  <a:srgbClr val="66ffff"/>
                </a:solidFill>
                <a:uFillTx/>
                <a:latin typeface="Verdana"/>
              </a:rPr>
              <a:t>nearest tenth</a:t>
            </a:r>
            <a:r>
              <a:rPr b="0" lang="en-US" sz="3200" spc="-1" strike="noStrike">
                <a:solidFill>
                  <a:srgbClr val="66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.) 8.2843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.) 0.909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.) 3.51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4.) 7.459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99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bjective :  Students will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accurately round decimal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50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Verdana"/>
              </a:rPr>
              <a:t>Skill Practice:  Round the decimals below to the </a:t>
            </a:r>
            <a:r>
              <a:rPr b="0" i="1" lang="en-US" sz="3200" spc="-1" strike="noStrike" u="sng">
                <a:solidFill>
                  <a:srgbClr val="66ffff"/>
                </a:solidFill>
                <a:uFillTx/>
                <a:latin typeface="Verdana"/>
              </a:rPr>
              <a:t>nearest hundredth</a:t>
            </a:r>
            <a:r>
              <a:rPr b="0" lang="en-US" sz="3200" spc="-1" strike="noStrike">
                <a:solidFill>
                  <a:srgbClr val="66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50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542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5.) 8.2843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6.) 0.909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542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542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542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7.) 3.51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8.) 7.459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542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542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ound to the leading digi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542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9.) 0.034002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0.) 0.00950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542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542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542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542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542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99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"/>
          <p:cNvSpPr/>
          <p:nvPr/>
        </p:nvSpPr>
        <p:spPr>
          <a:xfrm>
            <a:off x="1990800" y="5813280"/>
            <a:ext cx="223920" cy="54000"/>
          </a:xfrm>
          <a:custGeom>
            <a:avLst/>
            <a:gdLst/>
            <a:ahLst/>
            <a:rect l="l" t="t" r="r" b="b"/>
            <a:pathLst>
              <a:path w="622" h="150">
                <a:moveTo>
                  <a:pt x="5631" y="16197"/>
                </a:moveTo>
                <a:cubicBezTo>
                  <a:pt x="5713" y="16238"/>
                  <a:pt x="5905" y="16226"/>
                  <a:pt x="6028" y="16247"/>
                </a:cubicBezTo>
                <a:cubicBezTo>
                  <a:pt x="6187" y="16274"/>
                  <a:pt x="5717" y="16283"/>
                  <a:pt x="5556" y="16297"/>
                </a:cubicBezTo>
                <a:cubicBezTo>
                  <a:pt x="5431" y="16308"/>
                  <a:pt x="5753" y="16257"/>
                  <a:pt x="5879" y="16247"/>
                </a:cubicBezTo>
                <a:cubicBezTo>
                  <a:pt x="5920" y="16247"/>
                  <a:pt x="5962" y="16247"/>
                  <a:pt x="6003" y="16247"/>
                </a:cubicBezTo>
                <a:cubicBezTo>
                  <a:pt x="5859" y="16247"/>
                  <a:pt x="5719" y="16257"/>
                  <a:pt x="5581" y="16297"/>
                </a:cubicBezTo>
                <a:cubicBezTo>
                  <a:pt x="5427" y="16341"/>
                  <a:pt x="6202" y="16277"/>
                  <a:pt x="6052" y="16222"/>
                </a:cubicBezTo>
                <a:cubicBezTo>
                  <a:pt x="5965" y="16190"/>
                  <a:pt x="5521" y="16280"/>
                  <a:pt x="5705" y="16247"/>
                </a:cubicBezTo>
                <a:cubicBezTo>
                  <a:pt x="5859" y="16219"/>
                  <a:pt x="6463" y="16132"/>
                  <a:pt x="5879" y="16173"/>
                </a:cubicBezTo>
                <a:cubicBezTo>
                  <a:pt x="5434" y="16204"/>
                  <a:pt x="5794" y="16197"/>
                  <a:pt x="5928" y="16173"/>
                </a:cubicBezTo>
                <a:cubicBezTo>
                  <a:pt x="6003" y="16154"/>
                  <a:pt x="6062" y="16146"/>
                  <a:pt x="6003" y="16148"/>
                </a:cubicBezTo>
                <a:cubicBezTo>
                  <a:pt x="5900" y="16165"/>
                  <a:pt x="5501" y="16230"/>
                  <a:pt x="5581" y="16222"/>
                </a:cubicBezTo>
                <a:cubicBezTo>
                  <a:pt x="5640" y="16216"/>
                  <a:pt x="6122" y="16152"/>
                  <a:pt x="6003" y="16148"/>
                </a:cubicBezTo>
                <a:cubicBezTo>
                  <a:pt x="5953" y="16148"/>
                  <a:pt x="5904" y="16148"/>
                  <a:pt x="5854" y="1614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108160" y="5241960"/>
            <a:ext cx="241200" cy="115920"/>
          </a:xfrm>
          <a:custGeom>
            <a:avLst/>
            <a:gdLst/>
            <a:ahLst/>
            <a:rect l="l" t="t" r="r" b="b"/>
            <a:pathLst>
              <a:path w="671" h="324">
                <a:moveTo>
                  <a:pt x="5854" y="14858"/>
                </a:moveTo>
                <a:cubicBezTo>
                  <a:pt x="5854" y="14714"/>
                  <a:pt x="5946" y="14661"/>
                  <a:pt x="6077" y="14610"/>
                </a:cubicBezTo>
                <a:cubicBezTo>
                  <a:pt x="6266" y="14536"/>
                  <a:pt x="6406" y="14591"/>
                  <a:pt x="6499" y="14759"/>
                </a:cubicBezTo>
                <a:cubicBezTo>
                  <a:pt x="6525" y="14806"/>
                  <a:pt x="6484" y="14677"/>
                  <a:pt x="6499" y="14635"/>
                </a:cubicBezTo>
                <a:cubicBezTo>
                  <a:pt x="6507" y="14627"/>
                  <a:pt x="6516" y="14618"/>
                  <a:pt x="6524" y="14610"/>
                </a:cubicBezTo>
                <a:cubicBezTo>
                  <a:pt x="6524" y="14585"/>
                  <a:pt x="6524" y="14577"/>
                  <a:pt x="6524" y="14560"/>
                </a:cubicBezTo>
                <a:cubicBezTo>
                  <a:pt x="6516" y="14636"/>
                  <a:pt x="6531" y="14924"/>
                  <a:pt x="6449" y="14833"/>
                </a:cubicBezTo>
                <a:cubicBezTo>
                  <a:pt x="6393" y="14758"/>
                  <a:pt x="6389" y="14745"/>
                  <a:pt x="6350" y="14709"/>
                </a:cubicBezTo>
                <a:cubicBezTo>
                  <a:pt x="6274" y="14734"/>
                  <a:pt x="6305" y="14750"/>
                  <a:pt x="6400" y="1475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724040" y="5956200"/>
            <a:ext cx="428760" cy="160560"/>
          </a:xfrm>
          <a:custGeom>
            <a:avLst/>
            <a:gdLst/>
            <a:ahLst/>
            <a:rect l="l" t="t" r="r" b="b"/>
            <a:pathLst>
              <a:path w="1192" h="447">
                <a:moveTo>
                  <a:pt x="5507" y="16545"/>
                </a:moveTo>
                <a:cubicBezTo>
                  <a:pt x="5568" y="16545"/>
                  <a:pt x="5948" y="16511"/>
                  <a:pt x="5904" y="16594"/>
                </a:cubicBezTo>
                <a:cubicBezTo>
                  <a:pt x="5861" y="16677"/>
                  <a:pt x="5757" y="16705"/>
                  <a:pt x="5680" y="16743"/>
                </a:cubicBezTo>
                <a:cubicBezTo>
                  <a:pt x="5776" y="16743"/>
                  <a:pt x="5929" y="16714"/>
                  <a:pt x="5978" y="16818"/>
                </a:cubicBezTo>
                <a:cubicBezTo>
                  <a:pt x="6037" y="16943"/>
                  <a:pt x="5650" y="16988"/>
                  <a:pt x="5606" y="16991"/>
                </a:cubicBezTo>
                <a:cubicBezTo>
                  <a:pt x="5589" y="16991"/>
                  <a:pt x="5573" y="16991"/>
                  <a:pt x="5556" y="16991"/>
                </a:cubicBezTo>
              </a:path>
              <a:path w="1192" h="447">
                <a:moveTo>
                  <a:pt x="5135" y="16619"/>
                </a:moveTo>
                <a:cubicBezTo>
                  <a:pt x="4966" y="16650"/>
                  <a:pt x="4816" y="16697"/>
                  <a:pt x="4787" y="16892"/>
                </a:cubicBezTo>
                <a:cubicBezTo>
                  <a:pt x="4795" y="16925"/>
                  <a:pt x="4804" y="16958"/>
                  <a:pt x="4812" y="16991"/>
                </a:cubicBezTo>
                <a:cubicBezTo>
                  <a:pt x="4913" y="16977"/>
                  <a:pt x="5389" y="16830"/>
                  <a:pt x="5110" y="16644"/>
                </a:cubicBezTo>
                <a:cubicBezTo>
                  <a:pt x="4960" y="16622"/>
                  <a:pt x="4926" y="16608"/>
                  <a:pt x="4837" y="1664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51000" y="6000840"/>
            <a:ext cx="330120" cy="214200"/>
          </a:xfrm>
          <a:custGeom>
            <a:avLst/>
            <a:gdLst/>
            <a:ahLst/>
            <a:rect l="l" t="t" r="r" b="b"/>
            <a:pathLst>
              <a:path w="918" h="596">
                <a:moveTo>
                  <a:pt x="4390" y="17140"/>
                </a:moveTo>
                <a:cubicBezTo>
                  <a:pt x="4390" y="17165"/>
                  <a:pt x="4390" y="17173"/>
                  <a:pt x="4390" y="17140"/>
                </a:cubicBezTo>
              </a:path>
              <a:path w="918" h="596">
                <a:moveTo>
                  <a:pt x="3845" y="16669"/>
                </a:moveTo>
                <a:cubicBezTo>
                  <a:pt x="3566" y="16844"/>
                  <a:pt x="3449" y="16941"/>
                  <a:pt x="3547" y="17264"/>
                </a:cubicBezTo>
                <a:cubicBezTo>
                  <a:pt x="3755" y="17236"/>
                  <a:pt x="4335" y="17151"/>
                  <a:pt x="4043" y="16793"/>
                </a:cubicBezTo>
                <a:cubicBezTo>
                  <a:pt x="3920" y="16731"/>
                  <a:pt x="3899" y="16697"/>
                  <a:pt x="3820" y="1674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572160" y="5749920"/>
            <a:ext cx="231840" cy="28440"/>
          </a:xfrm>
          <a:custGeom>
            <a:avLst/>
            <a:gdLst/>
            <a:ahLst/>
            <a:rect l="l" t="t" r="r" b="b"/>
            <a:pathLst>
              <a:path w="646" h="76">
                <a:moveTo>
                  <a:pt x="18256" y="16049"/>
                </a:moveTo>
                <a:cubicBezTo>
                  <a:pt x="18277" y="15987"/>
                  <a:pt x="18672" y="16024"/>
                  <a:pt x="18678" y="16024"/>
                </a:cubicBezTo>
                <a:cubicBezTo>
                  <a:pt x="19179" y="16024"/>
                  <a:pt x="18388" y="16045"/>
                  <a:pt x="18256" y="16049"/>
                </a:cubicBezTo>
                <a:cubicBezTo>
                  <a:pt x="18480" y="16037"/>
                  <a:pt x="18680" y="16007"/>
                  <a:pt x="18901" y="1597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742080" y="5170320"/>
            <a:ext cx="285840" cy="152640"/>
          </a:xfrm>
          <a:custGeom>
            <a:avLst/>
            <a:gdLst/>
            <a:ahLst/>
            <a:rect l="l" t="t" r="r" b="b"/>
            <a:pathLst>
              <a:path w="794" h="423">
                <a:moveTo>
                  <a:pt x="18777" y="14684"/>
                </a:moveTo>
                <a:cubicBezTo>
                  <a:pt x="18621" y="14763"/>
                  <a:pt x="18877" y="14450"/>
                  <a:pt x="18901" y="14436"/>
                </a:cubicBezTo>
                <a:cubicBezTo>
                  <a:pt x="19105" y="14316"/>
                  <a:pt x="19356" y="14339"/>
                  <a:pt x="19348" y="14610"/>
                </a:cubicBezTo>
                <a:cubicBezTo>
                  <a:pt x="19346" y="14664"/>
                  <a:pt x="19351" y="14770"/>
                  <a:pt x="19298" y="14759"/>
                </a:cubicBezTo>
                <a:cubicBezTo>
                  <a:pt x="19267" y="14753"/>
                  <a:pt x="19226" y="14654"/>
                  <a:pt x="19199" y="14635"/>
                </a:cubicBezTo>
                <a:cubicBezTo>
                  <a:pt x="19191" y="14635"/>
                  <a:pt x="19182" y="14635"/>
                  <a:pt x="19174" y="14635"/>
                </a:cubicBezTo>
                <a:cubicBezTo>
                  <a:pt x="19197" y="14680"/>
                  <a:pt x="19298" y="14725"/>
                  <a:pt x="19323" y="14759"/>
                </a:cubicBezTo>
                <a:cubicBezTo>
                  <a:pt x="19323" y="14784"/>
                  <a:pt x="19323" y="14792"/>
                  <a:pt x="19348" y="14784"/>
                </a:cubicBezTo>
                <a:cubicBezTo>
                  <a:pt x="19395" y="14657"/>
                  <a:pt x="19493" y="14594"/>
                  <a:pt x="19472" y="1456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732640" y="5965920"/>
            <a:ext cx="714240" cy="241200"/>
          </a:xfrm>
          <a:custGeom>
            <a:avLst/>
            <a:gdLst/>
            <a:ahLst/>
            <a:rect l="l" t="t" r="r" b="b"/>
            <a:pathLst>
              <a:path w="1985" h="670">
                <a:moveTo>
                  <a:pt x="17909" y="16594"/>
                </a:moveTo>
                <a:cubicBezTo>
                  <a:pt x="17901" y="16586"/>
                  <a:pt x="17892" y="16578"/>
                  <a:pt x="17884" y="16570"/>
                </a:cubicBezTo>
                <a:cubicBezTo>
                  <a:pt x="17884" y="16650"/>
                  <a:pt x="17918" y="17003"/>
                  <a:pt x="17909" y="17016"/>
                </a:cubicBezTo>
                <a:cubicBezTo>
                  <a:pt x="17881" y="17016"/>
                  <a:pt x="17870" y="17014"/>
                  <a:pt x="17859" y="16991"/>
                </a:cubicBezTo>
              </a:path>
              <a:path w="1985" h="670">
                <a:moveTo>
                  <a:pt x="16991" y="16594"/>
                </a:moveTo>
                <a:cubicBezTo>
                  <a:pt x="17034" y="16681"/>
                  <a:pt x="16907" y="16847"/>
                  <a:pt x="16966" y="16991"/>
                </a:cubicBezTo>
                <a:cubicBezTo>
                  <a:pt x="17056" y="17210"/>
                  <a:pt x="17373" y="17032"/>
                  <a:pt x="17462" y="16917"/>
                </a:cubicBezTo>
                <a:cubicBezTo>
                  <a:pt x="17609" y="16727"/>
                  <a:pt x="17403" y="16595"/>
                  <a:pt x="17239" y="16570"/>
                </a:cubicBezTo>
                <a:cubicBezTo>
                  <a:pt x="17161" y="16570"/>
                  <a:pt x="17144" y="16555"/>
                  <a:pt x="17115" y="16594"/>
                </a:cubicBezTo>
              </a:path>
              <a:path w="1985" h="670">
                <a:moveTo>
                  <a:pt x="16743" y="17066"/>
                </a:moveTo>
                <a:cubicBezTo>
                  <a:pt x="16743" y="17038"/>
                  <a:pt x="16741" y="17032"/>
                  <a:pt x="16718" y="17066"/>
                </a:cubicBezTo>
                <a:cubicBezTo>
                  <a:pt x="16718" y="17158"/>
                  <a:pt x="16782" y="17104"/>
                  <a:pt x="16793" y="17041"/>
                </a:cubicBezTo>
                <a:cubicBezTo>
                  <a:pt x="16811" y="16941"/>
                  <a:pt x="16731" y="17007"/>
                  <a:pt x="16669" y="17016"/>
                </a:cubicBezTo>
              </a:path>
              <a:path w="1985" h="670">
                <a:moveTo>
                  <a:pt x="16123" y="16619"/>
                </a:moveTo>
                <a:cubicBezTo>
                  <a:pt x="16089" y="16722"/>
                  <a:pt x="15945" y="16840"/>
                  <a:pt x="15925" y="16991"/>
                </a:cubicBezTo>
                <a:cubicBezTo>
                  <a:pt x="15933" y="17041"/>
                  <a:pt x="15941" y="17090"/>
                  <a:pt x="15949" y="17140"/>
                </a:cubicBezTo>
                <a:cubicBezTo>
                  <a:pt x="16149" y="17240"/>
                  <a:pt x="16481" y="17219"/>
                  <a:pt x="16470" y="16867"/>
                </a:cubicBezTo>
                <a:cubicBezTo>
                  <a:pt x="16462" y="16611"/>
                  <a:pt x="16259" y="16600"/>
                  <a:pt x="16098" y="1666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643800" y="5884920"/>
            <a:ext cx="982440" cy="241200"/>
          </a:xfrm>
          <a:custGeom>
            <a:avLst/>
            <a:gdLst/>
            <a:ahLst/>
            <a:rect l="l" t="t" r="r" b="b"/>
            <a:pathLst>
              <a:path w="2729" h="671">
                <a:moveTo>
                  <a:pt x="18852" y="16545"/>
                </a:moveTo>
                <a:cubicBezTo>
                  <a:pt x="18719" y="16560"/>
                  <a:pt x="18660" y="16580"/>
                  <a:pt x="18579" y="16694"/>
                </a:cubicBezTo>
                <a:cubicBezTo>
                  <a:pt x="18503" y="16801"/>
                  <a:pt x="18469" y="16875"/>
                  <a:pt x="18479" y="16991"/>
                </a:cubicBezTo>
                <a:cubicBezTo>
                  <a:pt x="18671" y="17011"/>
                  <a:pt x="18846" y="17014"/>
                  <a:pt x="18976" y="16842"/>
                </a:cubicBezTo>
                <a:cubicBezTo>
                  <a:pt x="18984" y="16817"/>
                  <a:pt x="18992" y="16793"/>
                  <a:pt x="19000" y="16768"/>
                </a:cubicBezTo>
                <a:cubicBezTo>
                  <a:pt x="18943" y="16702"/>
                  <a:pt x="18862" y="16650"/>
                  <a:pt x="18777" y="16619"/>
                </a:cubicBezTo>
                <a:cubicBezTo>
                  <a:pt x="18769" y="16619"/>
                  <a:pt x="18760" y="16619"/>
                  <a:pt x="18752" y="16619"/>
                </a:cubicBezTo>
              </a:path>
              <a:path w="2729" h="671">
                <a:moveTo>
                  <a:pt x="19422" y="16619"/>
                </a:moveTo>
                <a:cubicBezTo>
                  <a:pt x="19304" y="16690"/>
                  <a:pt x="19250" y="16814"/>
                  <a:pt x="19199" y="16942"/>
                </a:cubicBezTo>
                <a:cubicBezTo>
                  <a:pt x="19338" y="17002"/>
                  <a:pt x="19672" y="17096"/>
                  <a:pt x="19720" y="16842"/>
                </a:cubicBezTo>
                <a:cubicBezTo>
                  <a:pt x="19763" y="16618"/>
                  <a:pt x="19392" y="16644"/>
                  <a:pt x="19472" y="16644"/>
                </a:cubicBezTo>
              </a:path>
              <a:path w="2729" h="671">
                <a:moveTo>
                  <a:pt x="20067" y="16495"/>
                </a:moveTo>
                <a:cubicBezTo>
                  <a:pt x="19932" y="16584"/>
                  <a:pt x="19933" y="16712"/>
                  <a:pt x="19918" y="16867"/>
                </a:cubicBezTo>
                <a:cubicBezTo>
                  <a:pt x="20116" y="16914"/>
                  <a:pt x="20426" y="16841"/>
                  <a:pt x="20414" y="16545"/>
                </a:cubicBezTo>
                <a:cubicBezTo>
                  <a:pt x="20407" y="16378"/>
                  <a:pt x="20183" y="16416"/>
                  <a:pt x="20092" y="16421"/>
                </a:cubicBezTo>
              </a:path>
              <a:path w="2729" h="671">
                <a:moveTo>
                  <a:pt x="20737" y="16371"/>
                </a:moveTo>
                <a:cubicBezTo>
                  <a:pt x="20672" y="16338"/>
                  <a:pt x="20603" y="16472"/>
                  <a:pt x="20588" y="16545"/>
                </a:cubicBezTo>
                <a:cubicBezTo>
                  <a:pt x="20534" y="16816"/>
                  <a:pt x="20826" y="16770"/>
                  <a:pt x="20985" y="16718"/>
                </a:cubicBezTo>
                <a:cubicBezTo>
                  <a:pt x="21224" y="16640"/>
                  <a:pt x="21209" y="16542"/>
                  <a:pt x="21059" y="16446"/>
                </a:cubicBezTo>
                <a:cubicBezTo>
                  <a:pt x="20961" y="16384"/>
                  <a:pt x="20945" y="16358"/>
                  <a:pt x="20836" y="1634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035080" y="1973160"/>
            <a:ext cx="331920" cy="135000"/>
          </a:xfrm>
          <a:custGeom>
            <a:avLst/>
            <a:gdLst/>
            <a:ahLst/>
            <a:rect l="l" t="t" r="r" b="b"/>
            <a:pathLst>
              <a:path w="919" h="373">
                <a:moveTo>
                  <a:pt x="5655" y="5854"/>
                </a:moveTo>
                <a:cubicBezTo>
                  <a:pt x="5702" y="5744"/>
                  <a:pt x="5813" y="5613"/>
                  <a:pt x="5928" y="5556"/>
                </a:cubicBezTo>
                <a:cubicBezTo>
                  <a:pt x="6142" y="5449"/>
                  <a:pt x="6265" y="5456"/>
                  <a:pt x="6400" y="5631"/>
                </a:cubicBezTo>
                <a:cubicBezTo>
                  <a:pt x="6437" y="5679"/>
                  <a:pt x="6477" y="5741"/>
                  <a:pt x="6449" y="5755"/>
                </a:cubicBezTo>
              </a:path>
              <a:path w="919" h="373">
                <a:moveTo>
                  <a:pt x="6499" y="5482"/>
                </a:moveTo>
                <a:cubicBezTo>
                  <a:pt x="6512" y="5596"/>
                  <a:pt x="6554" y="5692"/>
                  <a:pt x="6573" y="5804"/>
                </a:cubicBezTo>
                <a:cubicBezTo>
                  <a:pt x="6481" y="5796"/>
                  <a:pt x="6393" y="5784"/>
                  <a:pt x="6300" y="577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847880" y="2554200"/>
            <a:ext cx="358920" cy="366840"/>
          </a:xfrm>
          <a:custGeom>
            <a:avLst/>
            <a:gdLst/>
            <a:ahLst/>
            <a:rect l="l" t="t" r="r" b="b"/>
            <a:pathLst>
              <a:path w="993" h="1018">
                <a:moveTo>
                  <a:pt x="5631" y="7144"/>
                </a:moveTo>
                <a:cubicBezTo>
                  <a:pt x="5552" y="7118"/>
                  <a:pt x="5721" y="7098"/>
                  <a:pt x="5804" y="7094"/>
                </a:cubicBezTo>
                <a:cubicBezTo>
                  <a:pt x="5901" y="7089"/>
                  <a:pt x="6004" y="7094"/>
                  <a:pt x="6102" y="7094"/>
                </a:cubicBezTo>
              </a:path>
              <a:path w="993" h="1018">
                <a:moveTo>
                  <a:pt x="6127" y="7615"/>
                </a:moveTo>
                <a:cubicBezTo>
                  <a:pt x="5997" y="7615"/>
                  <a:pt x="5844" y="7618"/>
                  <a:pt x="5730" y="7689"/>
                </a:cubicBezTo>
                <a:cubicBezTo>
                  <a:pt x="5730" y="7697"/>
                  <a:pt x="5730" y="7706"/>
                  <a:pt x="5730" y="7714"/>
                </a:cubicBezTo>
                <a:cubicBezTo>
                  <a:pt x="5914" y="7831"/>
                  <a:pt x="6113" y="7895"/>
                  <a:pt x="5928" y="8062"/>
                </a:cubicBezTo>
                <a:cubicBezTo>
                  <a:pt x="5928" y="7875"/>
                  <a:pt x="5967" y="7789"/>
                  <a:pt x="6077" y="7640"/>
                </a:cubicBezTo>
                <a:cubicBezTo>
                  <a:pt x="6100" y="7617"/>
                  <a:pt x="6111" y="7609"/>
                  <a:pt x="6077" y="7615"/>
                </a:cubicBezTo>
              </a:path>
              <a:path w="993" h="1018">
                <a:moveTo>
                  <a:pt x="5234" y="7813"/>
                </a:moveTo>
                <a:cubicBezTo>
                  <a:pt x="5291" y="7756"/>
                  <a:pt x="5318" y="7737"/>
                  <a:pt x="5383" y="7739"/>
                </a:cubicBezTo>
                <a:cubicBezTo>
                  <a:pt x="5312" y="7880"/>
                  <a:pt x="5220" y="7983"/>
                  <a:pt x="5135" y="8111"/>
                </a:cubicBezTo>
                <a:cubicBezTo>
                  <a:pt x="5246" y="8111"/>
                  <a:pt x="5432" y="8139"/>
                  <a:pt x="5531" y="8086"/>
                </a:cubicBezTo>
                <a:cubicBezTo>
                  <a:pt x="5531" y="8062"/>
                  <a:pt x="5531" y="8054"/>
                  <a:pt x="5531" y="808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347840" y="2911320"/>
            <a:ext cx="4448160" cy="3803760"/>
          </a:xfrm>
          <a:custGeom>
            <a:avLst/>
            <a:gdLst/>
            <a:ahLst/>
            <a:rect l="l" t="t" r="r" b="b"/>
            <a:pathLst>
              <a:path w="12353" h="10568">
                <a:moveTo>
                  <a:pt x="4738" y="8210"/>
                </a:moveTo>
                <a:cubicBezTo>
                  <a:pt x="4713" y="8210"/>
                  <a:pt x="4705" y="8210"/>
                  <a:pt x="4713" y="8235"/>
                </a:cubicBezTo>
              </a:path>
              <a:path w="12353" h="10568">
                <a:moveTo>
                  <a:pt x="16098" y="8086"/>
                </a:moveTo>
                <a:cubicBezTo>
                  <a:pt x="16089" y="8120"/>
                  <a:pt x="16093" y="8151"/>
                  <a:pt x="16073" y="8111"/>
                </a:cubicBezTo>
              </a:path>
              <a:path w="12353" h="10568">
                <a:moveTo>
                  <a:pt x="4614" y="12353"/>
                </a:moveTo>
                <a:cubicBezTo>
                  <a:pt x="4647" y="12400"/>
                  <a:pt x="4667" y="12469"/>
                  <a:pt x="4688" y="12427"/>
                </a:cubicBezTo>
              </a:path>
              <a:path w="12353" h="10568">
                <a:moveTo>
                  <a:pt x="3746" y="18653"/>
                </a:moveTo>
                <a:lnTo>
                  <a:pt x="3746" y="18653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490760" y="2795760"/>
            <a:ext cx="125280" cy="187200"/>
          </a:xfrm>
          <a:custGeom>
            <a:avLst/>
            <a:gdLst/>
            <a:ahLst/>
            <a:rect l="l" t="t" r="r" b="b"/>
            <a:pathLst>
              <a:path w="349" h="522">
                <a:moveTo>
                  <a:pt x="4465" y="7764"/>
                </a:moveTo>
                <a:cubicBezTo>
                  <a:pt x="4291" y="7779"/>
                  <a:pt x="4261" y="7769"/>
                  <a:pt x="4142" y="7888"/>
                </a:cubicBezTo>
                <a:cubicBezTo>
                  <a:pt x="4245" y="7990"/>
                  <a:pt x="4590" y="8120"/>
                  <a:pt x="4415" y="8260"/>
                </a:cubicBezTo>
                <a:cubicBezTo>
                  <a:pt x="4382" y="8268"/>
                  <a:pt x="4349" y="8277"/>
                  <a:pt x="4316" y="8285"/>
                </a:cubicBezTo>
                <a:cubicBezTo>
                  <a:pt x="4316" y="8094"/>
                  <a:pt x="4403" y="8050"/>
                  <a:pt x="4490" y="7888"/>
                </a:cubicBezTo>
                <a:cubicBezTo>
                  <a:pt x="4490" y="7880"/>
                  <a:pt x="4490" y="7871"/>
                  <a:pt x="4490" y="786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785960" y="3133800"/>
            <a:ext cx="214200" cy="171360"/>
          </a:xfrm>
          <a:custGeom>
            <a:avLst/>
            <a:gdLst/>
            <a:ahLst/>
            <a:rect l="l" t="t" r="r" b="b"/>
            <a:pathLst>
              <a:path w="596" h="473">
                <a:moveTo>
                  <a:pt x="5283" y="8731"/>
                </a:moveTo>
                <a:cubicBezTo>
                  <a:pt x="5231" y="8652"/>
                  <a:pt x="5045" y="8753"/>
                  <a:pt x="4961" y="8781"/>
                </a:cubicBezTo>
                <a:cubicBezTo>
                  <a:pt x="5015" y="8871"/>
                  <a:pt x="5269" y="8927"/>
                  <a:pt x="5234" y="9079"/>
                </a:cubicBezTo>
                <a:cubicBezTo>
                  <a:pt x="5201" y="9104"/>
                  <a:pt x="5168" y="9128"/>
                  <a:pt x="5135" y="9153"/>
                </a:cubicBezTo>
                <a:cubicBezTo>
                  <a:pt x="4953" y="9179"/>
                  <a:pt x="5135" y="8949"/>
                  <a:pt x="5184" y="8880"/>
                </a:cubicBezTo>
                <a:cubicBezTo>
                  <a:pt x="5241" y="8805"/>
                  <a:pt x="5245" y="8793"/>
                  <a:pt x="5283" y="8756"/>
                </a:cubicBezTo>
              </a:path>
              <a:path w="596" h="473">
                <a:moveTo>
                  <a:pt x="5556" y="8979"/>
                </a:moveTo>
                <a:cubicBezTo>
                  <a:pt x="5556" y="9004"/>
                  <a:pt x="5556" y="9012"/>
                  <a:pt x="5556" y="902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116080" y="2697120"/>
            <a:ext cx="509760" cy="534960"/>
          </a:xfrm>
          <a:custGeom>
            <a:avLst/>
            <a:gdLst/>
            <a:ahLst/>
            <a:rect l="l" t="t" r="r" b="b"/>
            <a:pathLst>
              <a:path w="1415" h="1489">
                <a:moveTo>
                  <a:pt x="6573" y="7689"/>
                </a:moveTo>
                <a:cubicBezTo>
                  <a:pt x="6578" y="7689"/>
                  <a:pt x="6477" y="7704"/>
                  <a:pt x="6400" y="7813"/>
                </a:cubicBezTo>
                <a:cubicBezTo>
                  <a:pt x="6338" y="7936"/>
                  <a:pt x="6304" y="7958"/>
                  <a:pt x="6350" y="8037"/>
                </a:cubicBezTo>
                <a:cubicBezTo>
                  <a:pt x="6487" y="8010"/>
                  <a:pt x="6927" y="7862"/>
                  <a:pt x="6623" y="7689"/>
                </a:cubicBezTo>
                <a:cubicBezTo>
                  <a:pt x="6529" y="7671"/>
                  <a:pt x="6509" y="7684"/>
                  <a:pt x="6474" y="7640"/>
                </a:cubicBezTo>
              </a:path>
              <a:path w="1415" h="1489">
                <a:moveTo>
                  <a:pt x="6995" y="7590"/>
                </a:moveTo>
                <a:cubicBezTo>
                  <a:pt x="6900" y="7704"/>
                  <a:pt x="6904" y="7734"/>
                  <a:pt x="6921" y="7888"/>
                </a:cubicBezTo>
                <a:cubicBezTo>
                  <a:pt x="7120" y="7925"/>
                  <a:pt x="7403" y="7900"/>
                  <a:pt x="7268" y="7590"/>
                </a:cubicBezTo>
                <a:cubicBezTo>
                  <a:pt x="7202" y="7438"/>
                  <a:pt x="7085" y="7491"/>
                  <a:pt x="6970" y="7516"/>
                </a:cubicBezTo>
              </a:path>
              <a:path w="1415" h="1489">
                <a:moveTo>
                  <a:pt x="5879" y="8632"/>
                </a:moveTo>
                <a:cubicBezTo>
                  <a:pt x="5983" y="8626"/>
                  <a:pt x="6292" y="8651"/>
                  <a:pt x="6201" y="8855"/>
                </a:cubicBezTo>
                <a:cubicBezTo>
                  <a:pt x="6134" y="9005"/>
                  <a:pt x="6024" y="8973"/>
                  <a:pt x="5928" y="8930"/>
                </a:cubicBezTo>
                <a:cubicBezTo>
                  <a:pt x="6047" y="8810"/>
                  <a:pt x="6079" y="8871"/>
                  <a:pt x="6201" y="8954"/>
                </a:cubicBezTo>
                <a:cubicBezTo>
                  <a:pt x="6277" y="8992"/>
                  <a:pt x="6319" y="8985"/>
                  <a:pt x="6375" y="8905"/>
                </a:cubicBezTo>
              </a:path>
              <a:path w="1415" h="1489">
                <a:moveTo>
                  <a:pt x="6573" y="8533"/>
                </a:moveTo>
                <a:cubicBezTo>
                  <a:pt x="6429" y="8695"/>
                  <a:pt x="6631" y="8666"/>
                  <a:pt x="6747" y="8806"/>
                </a:cubicBezTo>
                <a:cubicBezTo>
                  <a:pt x="6755" y="8831"/>
                  <a:pt x="6764" y="8855"/>
                  <a:pt x="6772" y="8880"/>
                </a:cubicBezTo>
                <a:cubicBezTo>
                  <a:pt x="6690" y="8905"/>
                  <a:pt x="6454" y="8962"/>
                  <a:pt x="6573" y="8781"/>
                </a:cubicBezTo>
                <a:cubicBezTo>
                  <a:pt x="6660" y="8694"/>
                  <a:pt x="6684" y="8675"/>
                  <a:pt x="6722" y="860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75200" y="2527200"/>
            <a:ext cx="420840" cy="374760"/>
          </a:xfrm>
          <a:custGeom>
            <a:avLst/>
            <a:gdLst/>
            <a:ahLst/>
            <a:rect l="l" t="t" r="r" b="b"/>
            <a:pathLst>
              <a:path w="1167" h="1043">
                <a:moveTo>
                  <a:pt x="16917" y="7045"/>
                </a:moveTo>
                <a:cubicBezTo>
                  <a:pt x="17076" y="7045"/>
                  <a:pt x="17229" y="7024"/>
                  <a:pt x="17388" y="7020"/>
                </a:cubicBezTo>
                <a:cubicBezTo>
                  <a:pt x="17421" y="7020"/>
                  <a:pt x="17454" y="7020"/>
                  <a:pt x="17487" y="7020"/>
                </a:cubicBezTo>
              </a:path>
              <a:path w="1167" h="1043">
                <a:moveTo>
                  <a:pt x="17264" y="7590"/>
                </a:moveTo>
                <a:cubicBezTo>
                  <a:pt x="17242" y="7722"/>
                  <a:pt x="17239" y="7850"/>
                  <a:pt x="17239" y="7987"/>
                </a:cubicBezTo>
                <a:cubicBezTo>
                  <a:pt x="17239" y="8029"/>
                  <a:pt x="17247" y="8045"/>
                  <a:pt x="17214" y="8037"/>
                </a:cubicBezTo>
              </a:path>
              <a:path w="1167" h="1043">
                <a:moveTo>
                  <a:pt x="16669" y="7739"/>
                </a:moveTo>
                <a:cubicBezTo>
                  <a:pt x="16655" y="7681"/>
                  <a:pt x="16599" y="7581"/>
                  <a:pt x="16520" y="7590"/>
                </a:cubicBezTo>
                <a:cubicBezTo>
                  <a:pt x="16405" y="7636"/>
                  <a:pt x="16370" y="7646"/>
                  <a:pt x="16321" y="7714"/>
                </a:cubicBezTo>
                <a:cubicBezTo>
                  <a:pt x="16445" y="7823"/>
                  <a:pt x="16572" y="7794"/>
                  <a:pt x="16694" y="7665"/>
                </a:cubicBezTo>
                <a:cubicBezTo>
                  <a:pt x="16694" y="7657"/>
                  <a:pt x="16694" y="7648"/>
                  <a:pt x="16694" y="7640"/>
                </a:cubicBezTo>
                <a:cubicBezTo>
                  <a:pt x="16694" y="7781"/>
                  <a:pt x="16694" y="7921"/>
                  <a:pt x="16694" y="806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180120" y="1982880"/>
            <a:ext cx="266760" cy="169920"/>
          </a:xfrm>
          <a:custGeom>
            <a:avLst/>
            <a:gdLst/>
            <a:ahLst/>
            <a:rect l="l" t="t" r="r" b="b"/>
            <a:pathLst>
              <a:path w="745" h="472">
                <a:moveTo>
                  <a:pt x="17165" y="5978"/>
                </a:moveTo>
                <a:cubicBezTo>
                  <a:pt x="17165" y="5892"/>
                  <a:pt x="17209" y="5799"/>
                  <a:pt x="17264" y="5730"/>
                </a:cubicBezTo>
                <a:cubicBezTo>
                  <a:pt x="17377" y="5589"/>
                  <a:pt x="17543" y="5510"/>
                  <a:pt x="17711" y="5606"/>
                </a:cubicBezTo>
                <a:cubicBezTo>
                  <a:pt x="17769" y="5639"/>
                  <a:pt x="17868" y="5741"/>
                  <a:pt x="17884" y="5804"/>
                </a:cubicBezTo>
                <a:cubicBezTo>
                  <a:pt x="17897" y="5753"/>
                  <a:pt x="17909" y="5718"/>
                  <a:pt x="17909" y="5655"/>
                </a:cubicBezTo>
                <a:cubicBezTo>
                  <a:pt x="17909" y="5632"/>
                  <a:pt x="17909" y="5478"/>
                  <a:pt x="17909" y="5531"/>
                </a:cubicBezTo>
                <a:cubicBezTo>
                  <a:pt x="17909" y="5639"/>
                  <a:pt x="17909" y="5746"/>
                  <a:pt x="17909" y="5854"/>
                </a:cubicBezTo>
                <a:cubicBezTo>
                  <a:pt x="17847" y="5854"/>
                  <a:pt x="17795" y="5839"/>
                  <a:pt x="17735" y="582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83160" y="2795760"/>
            <a:ext cx="177840" cy="160200"/>
          </a:xfrm>
          <a:custGeom>
            <a:avLst/>
            <a:gdLst/>
            <a:ahLst/>
            <a:rect l="l" t="t" r="r" b="b"/>
            <a:pathLst>
              <a:path w="497" h="447">
                <a:moveTo>
                  <a:pt x="15453" y="7764"/>
                </a:moveTo>
                <a:cubicBezTo>
                  <a:pt x="15329" y="7888"/>
                  <a:pt x="15284" y="7968"/>
                  <a:pt x="15230" y="8136"/>
                </a:cubicBezTo>
                <a:cubicBezTo>
                  <a:pt x="15370" y="8202"/>
                  <a:pt x="15739" y="8229"/>
                  <a:pt x="15726" y="7938"/>
                </a:cubicBezTo>
                <a:cubicBezTo>
                  <a:pt x="15719" y="7770"/>
                  <a:pt x="15562" y="7798"/>
                  <a:pt x="15453" y="778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401840" y="4357800"/>
            <a:ext cx="152280" cy="187200"/>
          </a:xfrm>
          <a:custGeom>
            <a:avLst/>
            <a:gdLst/>
            <a:ahLst/>
            <a:rect l="l" t="t" r="r" b="b"/>
            <a:pathLst>
              <a:path w="423" h="522">
                <a:moveTo>
                  <a:pt x="3894" y="12229"/>
                </a:moveTo>
                <a:cubicBezTo>
                  <a:pt x="3938" y="12140"/>
                  <a:pt x="4141" y="12105"/>
                  <a:pt x="4242" y="12105"/>
                </a:cubicBezTo>
                <a:cubicBezTo>
                  <a:pt x="4345" y="12105"/>
                  <a:pt x="4183" y="12274"/>
                  <a:pt x="4118" y="12353"/>
                </a:cubicBezTo>
                <a:cubicBezTo>
                  <a:pt x="4101" y="12361"/>
                  <a:pt x="4085" y="12370"/>
                  <a:pt x="4068" y="12378"/>
                </a:cubicBezTo>
                <a:cubicBezTo>
                  <a:pt x="4151" y="12364"/>
                  <a:pt x="4352" y="12304"/>
                  <a:pt x="4316" y="12477"/>
                </a:cubicBezTo>
                <a:cubicBezTo>
                  <a:pt x="4283" y="12635"/>
                  <a:pt x="3800" y="12733"/>
                  <a:pt x="3894" y="12601"/>
                </a:cubicBezTo>
                <a:cubicBezTo>
                  <a:pt x="3935" y="12576"/>
                  <a:pt x="3977" y="12551"/>
                  <a:pt x="4018" y="1252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768320" y="4160880"/>
            <a:ext cx="438480" cy="322200"/>
          </a:xfrm>
          <a:custGeom>
            <a:avLst/>
            <a:gdLst/>
            <a:ahLst/>
            <a:rect l="l" t="t" r="r" b="b"/>
            <a:pathLst>
              <a:path w="1217" h="894">
                <a:moveTo>
                  <a:pt x="5581" y="11584"/>
                </a:moveTo>
                <a:cubicBezTo>
                  <a:pt x="5747" y="11584"/>
                  <a:pt x="5911" y="11563"/>
                  <a:pt x="6077" y="11559"/>
                </a:cubicBezTo>
                <a:cubicBezTo>
                  <a:pt x="6094" y="11559"/>
                  <a:pt x="6110" y="11559"/>
                  <a:pt x="6127" y="11559"/>
                </a:cubicBezTo>
                <a:cubicBezTo>
                  <a:pt x="6017" y="11573"/>
                  <a:pt x="5916" y="11584"/>
                  <a:pt x="5804" y="11584"/>
                </a:cubicBezTo>
                <a:cubicBezTo>
                  <a:pt x="5883" y="11584"/>
                  <a:pt x="5977" y="11577"/>
                  <a:pt x="6052" y="11559"/>
                </a:cubicBezTo>
                <a:cubicBezTo>
                  <a:pt x="6001" y="11559"/>
                  <a:pt x="5982" y="11560"/>
                  <a:pt x="5953" y="11584"/>
                </a:cubicBezTo>
              </a:path>
              <a:path w="1217" h="894">
                <a:moveTo>
                  <a:pt x="5184" y="11931"/>
                </a:moveTo>
                <a:cubicBezTo>
                  <a:pt x="5127" y="11945"/>
                  <a:pt x="4980" y="11967"/>
                  <a:pt x="4961" y="12005"/>
                </a:cubicBezTo>
                <a:cubicBezTo>
                  <a:pt x="4935" y="12056"/>
                  <a:pt x="4920" y="12124"/>
                  <a:pt x="4911" y="12179"/>
                </a:cubicBezTo>
                <a:cubicBezTo>
                  <a:pt x="5033" y="12148"/>
                  <a:pt x="5231" y="12079"/>
                  <a:pt x="5333" y="12204"/>
                </a:cubicBezTo>
                <a:cubicBezTo>
                  <a:pt x="5445" y="12342"/>
                  <a:pt x="5184" y="12452"/>
                  <a:pt x="5085" y="12452"/>
                </a:cubicBezTo>
                <a:cubicBezTo>
                  <a:pt x="5044" y="12411"/>
                  <a:pt x="5041" y="12381"/>
                  <a:pt x="5085" y="12328"/>
                </a:cubicBezTo>
              </a:path>
              <a:path w="1217" h="894">
                <a:moveTo>
                  <a:pt x="5581" y="12005"/>
                </a:moveTo>
                <a:cubicBezTo>
                  <a:pt x="5665" y="12089"/>
                  <a:pt x="5704" y="12231"/>
                  <a:pt x="5755" y="1235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134040" y="4152960"/>
            <a:ext cx="189000" cy="34920"/>
          </a:xfrm>
          <a:custGeom>
            <a:avLst/>
            <a:gdLst/>
            <a:ahLst/>
            <a:rect l="l" t="t" r="r" b="b"/>
            <a:pathLst>
              <a:path w="522" h="100">
                <a:moveTo>
                  <a:pt x="17041" y="11609"/>
                </a:moveTo>
                <a:cubicBezTo>
                  <a:pt x="17165" y="11649"/>
                  <a:pt x="17416" y="11605"/>
                  <a:pt x="17562" y="11559"/>
                </a:cubicBezTo>
                <a:cubicBezTo>
                  <a:pt x="17562" y="11551"/>
                  <a:pt x="17562" y="11542"/>
                  <a:pt x="17562" y="1153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197760" y="3625920"/>
            <a:ext cx="276120" cy="106200"/>
          </a:xfrm>
          <a:custGeom>
            <a:avLst/>
            <a:gdLst/>
            <a:ahLst/>
            <a:rect l="l" t="t" r="r" b="b"/>
            <a:pathLst>
              <a:path w="770" h="298">
                <a:moveTo>
                  <a:pt x="17239" y="10319"/>
                </a:moveTo>
                <a:cubicBezTo>
                  <a:pt x="17174" y="10287"/>
                  <a:pt x="17339" y="10137"/>
                  <a:pt x="17438" y="10096"/>
                </a:cubicBezTo>
                <a:cubicBezTo>
                  <a:pt x="17640" y="10012"/>
                  <a:pt x="17740" y="10162"/>
                  <a:pt x="17859" y="10294"/>
                </a:cubicBezTo>
                <a:cubicBezTo>
                  <a:pt x="17869" y="10305"/>
                  <a:pt x="17919" y="10390"/>
                  <a:pt x="17909" y="10319"/>
                </a:cubicBezTo>
                <a:cubicBezTo>
                  <a:pt x="17898" y="10239"/>
                  <a:pt x="17884" y="10194"/>
                  <a:pt x="17884" y="10120"/>
                </a:cubicBezTo>
                <a:cubicBezTo>
                  <a:pt x="17906" y="10135"/>
                  <a:pt x="17967" y="10274"/>
                  <a:pt x="17983" y="10319"/>
                </a:cubicBezTo>
                <a:cubicBezTo>
                  <a:pt x="17983" y="10335"/>
                  <a:pt x="17983" y="10352"/>
                  <a:pt x="17983" y="10368"/>
                </a:cubicBezTo>
                <a:cubicBezTo>
                  <a:pt x="17889" y="10355"/>
                  <a:pt x="17808" y="10344"/>
                  <a:pt x="17711" y="1034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bjective :  Students will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accurately round decimal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Verdana"/>
              </a:rPr>
              <a:t>Challenge:</a:t>
            </a:r>
            <a:r>
              <a:rPr b="0" lang="en-US" sz="3200" spc="-1" strike="noStrike">
                <a:solidFill>
                  <a:srgbClr val="66ffff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Verdana"/>
              </a:rPr>
              <a:t>Find 4 decimals of different lengths that would round to 3.7 when rounded to the nearest tenth.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99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"/>
          <p:cNvSpPr/>
          <p:nvPr/>
        </p:nvSpPr>
        <p:spPr>
          <a:xfrm>
            <a:off x="2347920" y="3089160"/>
            <a:ext cx="206280" cy="785880"/>
          </a:xfrm>
          <a:custGeom>
            <a:avLst/>
            <a:gdLst/>
            <a:ahLst/>
            <a:rect l="l" t="t" r="r" b="b"/>
            <a:pathLst>
              <a:path w="571" h="2184">
                <a:moveTo>
                  <a:pt x="6598" y="8706"/>
                </a:moveTo>
                <a:cubicBezTo>
                  <a:pt x="6551" y="8706"/>
                  <a:pt x="6531" y="8706"/>
                  <a:pt x="6573" y="8682"/>
                </a:cubicBezTo>
                <a:cubicBezTo>
                  <a:pt x="6739" y="8587"/>
                  <a:pt x="6985" y="8506"/>
                  <a:pt x="6846" y="8806"/>
                </a:cubicBezTo>
                <a:cubicBezTo>
                  <a:pt x="6821" y="8839"/>
                  <a:pt x="6797" y="8872"/>
                  <a:pt x="6772" y="8905"/>
                </a:cubicBezTo>
                <a:cubicBezTo>
                  <a:pt x="6764" y="8905"/>
                  <a:pt x="6755" y="8905"/>
                  <a:pt x="6747" y="8905"/>
                </a:cubicBezTo>
                <a:cubicBezTo>
                  <a:pt x="6872" y="8905"/>
                  <a:pt x="7076" y="8871"/>
                  <a:pt x="7045" y="9079"/>
                </a:cubicBezTo>
                <a:cubicBezTo>
                  <a:pt x="7007" y="9330"/>
                  <a:pt x="6707" y="9381"/>
                  <a:pt x="6524" y="9327"/>
                </a:cubicBezTo>
              </a:path>
              <a:path w="571" h="2184">
                <a:moveTo>
                  <a:pt x="6623" y="10145"/>
                </a:moveTo>
                <a:cubicBezTo>
                  <a:pt x="6675" y="10130"/>
                  <a:pt x="7136" y="10023"/>
                  <a:pt x="7045" y="10244"/>
                </a:cubicBezTo>
                <a:cubicBezTo>
                  <a:pt x="7005" y="10341"/>
                  <a:pt x="6865" y="10404"/>
                  <a:pt x="6821" y="10393"/>
                </a:cubicBezTo>
                <a:cubicBezTo>
                  <a:pt x="6984" y="10366"/>
                  <a:pt x="6979" y="10392"/>
                  <a:pt x="7094" y="10492"/>
                </a:cubicBezTo>
                <a:cubicBezTo>
                  <a:pt x="6973" y="10636"/>
                  <a:pt x="6838" y="10803"/>
                  <a:pt x="6623" y="10740"/>
                </a:cubicBezTo>
                <a:cubicBezTo>
                  <a:pt x="6615" y="10732"/>
                  <a:pt x="6606" y="10724"/>
                  <a:pt x="6598" y="1071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732040" y="3081240"/>
            <a:ext cx="849240" cy="231840"/>
          </a:xfrm>
          <a:custGeom>
            <a:avLst/>
            <a:gdLst/>
            <a:ahLst/>
            <a:rect l="l" t="t" r="r" b="b"/>
            <a:pathLst>
              <a:path w="2358" h="646">
                <a:moveTo>
                  <a:pt x="7590" y="8806"/>
                </a:moveTo>
                <a:cubicBezTo>
                  <a:pt x="7747" y="8748"/>
                  <a:pt x="7892" y="8723"/>
                  <a:pt x="8062" y="8706"/>
                </a:cubicBezTo>
                <a:cubicBezTo>
                  <a:pt x="8027" y="8867"/>
                  <a:pt x="7954" y="9055"/>
                  <a:pt x="7987" y="9203"/>
                </a:cubicBezTo>
              </a:path>
              <a:path w="2358" h="646">
                <a:moveTo>
                  <a:pt x="8558" y="8706"/>
                </a:moveTo>
                <a:cubicBezTo>
                  <a:pt x="8694" y="8694"/>
                  <a:pt x="9069" y="8664"/>
                  <a:pt x="8930" y="8954"/>
                </a:cubicBezTo>
                <a:cubicBezTo>
                  <a:pt x="8841" y="9139"/>
                  <a:pt x="8643" y="9110"/>
                  <a:pt x="8508" y="9079"/>
                </a:cubicBezTo>
                <a:cubicBezTo>
                  <a:pt x="8594" y="8968"/>
                  <a:pt x="8741" y="8975"/>
                  <a:pt x="8880" y="9079"/>
                </a:cubicBezTo>
                <a:cubicBezTo>
                  <a:pt x="8880" y="9112"/>
                  <a:pt x="8889" y="9120"/>
                  <a:pt x="8930" y="9103"/>
                </a:cubicBezTo>
              </a:path>
              <a:path w="2358" h="646">
                <a:moveTo>
                  <a:pt x="9823" y="8558"/>
                </a:moveTo>
                <a:cubicBezTo>
                  <a:pt x="9754" y="8569"/>
                  <a:pt x="9630" y="8569"/>
                  <a:pt x="9599" y="8607"/>
                </a:cubicBezTo>
                <a:cubicBezTo>
                  <a:pt x="9526" y="8695"/>
                  <a:pt x="9384" y="8795"/>
                  <a:pt x="9401" y="8880"/>
                </a:cubicBezTo>
                <a:cubicBezTo>
                  <a:pt x="9658" y="8842"/>
                  <a:pt x="9756" y="8802"/>
                  <a:pt x="9947" y="8979"/>
                </a:cubicBezTo>
                <a:cubicBezTo>
                  <a:pt x="9790" y="9184"/>
                  <a:pt x="9745" y="9126"/>
                  <a:pt x="9475" y="915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428920" y="4133880"/>
            <a:ext cx="187200" cy="277920"/>
          </a:xfrm>
          <a:custGeom>
            <a:avLst/>
            <a:gdLst/>
            <a:ahLst/>
            <a:rect l="l" t="t" r="r" b="b"/>
            <a:pathLst>
              <a:path w="522" h="770">
                <a:moveTo>
                  <a:pt x="6772" y="11559"/>
                </a:moveTo>
                <a:cubicBezTo>
                  <a:pt x="6869" y="11534"/>
                  <a:pt x="7033" y="11422"/>
                  <a:pt x="7119" y="11534"/>
                </a:cubicBezTo>
                <a:cubicBezTo>
                  <a:pt x="7209" y="11652"/>
                  <a:pt x="7056" y="11789"/>
                  <a:pt x="6970" y="11832"/>
                </a:cubicBezTo>
                <a:cubicBezTo>
                  <a:pt x="7001" y="11740"/>
                  <a:pt x="7185" y="11774"/>
                  <a:pt x="7243" y="11857"/>
                </a:cubicBezTo>
                <a:cubicBezTo>
                  <a:pt x="7412" y="12100"/>
                  <a:pt x="6920" y="12245"/>
                  <a:pt x="6772" y="12254"/>
                </a:cubicBezTo>
                <a:cubicBezTo>
                  <a:pt x="6734" y="12216"/>
                  <a:pt x="6736" y="12193"/>
                  <a:pt x="6796" y="1215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874960" y="3554280"/>
            <a:ext cx="866880" cy="231840"/>
          </a:xfrm>
          <a:custGeom>
            <a:avLst/>
            <a:gdLst/>
            <a:ahLst/>
            <a:rect l="l" t="t" r="r" b="b"/>
            <a:pathLst>
              <a:path w="2407" h="646">
                <a:moveTo>
                  <a:pt x="7987" y="10195"/>
                </a:moveTo>
                <a:cubicBezTo>
                  <a:pt x="8117" y="10172"/>
                  <a:pt x="8416" y="10068"/>
                  <a:pt x="8533" y="10170"/>
                </a:cubicBezTo>
                <a:cubicBezTo>
                  <a:pt x="8591" y="10220"/>
                  <a:pt x="8497" y="10423"/>
                  <a:pt x="8483" y="10468"/>
                </a:cubicBezTo>
                <a:cubicBezTo>
                  <a:pt x="8483" y="10527"/>
                  <a:pt x="8486" y="10534"/>
                  <a:pt x="8508" y="10443"/>
                </a:cubicBezTo>
              </a:path>
              <a:path w="2407" h="646">
                <a:moveTo>
                  <a:pt x="9054" y="10046"/>
                </a:moveTo>
                <a:cubicBezTo>
                  <a:pt x="9045" y="10099"/>
                  <a:pt x="8947" y="10281"/>
                  <a:pt x="9054" y="10294"/>
                </a:cubicBezTo>
                <a:cubicBezTo>
                  <a:pt x="9212" y="10314"/>
                  <a:pt x="9341" y="10204"/>
                  <a:pt x="9475" y="10145"/>
                </a:cubicBezTo>
              </a:path>
              <a:path w="2407" h="646">
                <a:moveTo>
                  <a:pt x="9426" y="9897"/>
                </a:moveTo>
                <a:cubicBezTo>
                  <a:pt x="9377" y="10076"/>
                  <a:pt x="9195" y="10543"/>
                  <a:pt x="9351" y="10443"/>
                </a:cubicBezTo>
                <a:cubicBezTo>
                  <a:pt x="9384" y="10402"/>
                  <a:pt x="9418" y="10360"/>
                  <a:pt x="9451" y="10319"/>
                </a:cubicBezTo>
              </a:path>
              <a:path w="2407" h="646">
                <a:moveTo>
                  <a:pt x="10145" y="9947"/>
                </a:moveTo>
                <a:cubicBezTo>
                  <a:pt x="10225" y="9867"/>
                  <a:pt x="10086" y="9829"/>
                  <a:pt x="9996" y="9872"/>
                </a:cubicBezTo>
                <a:cubicBezTo>
                  <a:pt x="9886" y="9959"/>
                  <a:pt x="9850" y="9974"/>
                  <a:pt x="9847" y="10071"/>
                </a:cubicBezTo>
                <a:cubicBezTo>
                  <a:pt x="10097" y="10150"/>
                  <a:pt x="10068" y="10129"/>
                  <a:pt x="10269" y="9947"/>
                </a:cubicBezTo>
                <a:cubicBezTo>
                  <a:pt x="10283" y="10103"/>
                  <a:pt x="10343" y="10223"/>
                  <a:pt x="10393" y="10368"/>
                </a:cubicBezTo>
                <a:cubicBezTo>
                  <a:pt x="10393" y="10376"/>
                  <a:pt x="10393" y="10385"/>
                  <a:pt x="10393" y="1039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401920" y="4633920"/>
            <a:ext cx="214200" cy="314280"/>
          </a:xfrm>
          <a:custGeom>
            <a:avLst/>
            <a:gdLst/>
            <a:ahLst/>
            <a:rect l="l" t="t" r="r" b="b"/>
            <a:pathLst>
              <a:path w="597" h="869">
                <a:moveTo>
                  <a:pt x="6846" y="12948"/>
                </a:moveTo>
                <a:cubicBezTo>
                  <a:pt x="6923" y="12900"/>
                  <a:pt x="7218" y="12789"/>
                  <a:pt x="7218" y="12998"/>
                </a:cubicBezTo>
                <a:cubicBezTo>
                  <a:pt x="7130" y="13116"/>
                  <a:pt x="7087" y="13164"/>
                  <a:pt x="6995" y="13221"/>
                </a:cubicBezTo>
                <a:cubicBezTo>
                  <a:pt x="6962" y="13229"/>
                  <a:pt x="6929" y="13238"/>
                  <a:pt x="6896" y="13246"/>
                </a:cubicBezTo>
                <a:cubicBezTo>
                  <a:pt x="7026" y="13180"/>
                  <a:pt x="7241" y="13090"/>
                  <a:pt x="7268" y="13320"/>
                </a:cubicBezTo>
                <a:cubicBezTo>
                  <a:pt x="7302" y="13605"/>
                  <a:pt x="6974" y="13732"/>
                  <a:pt x="6747" y="13742"/>
                </a:cubicBezTo>
                <a:cubicBezTo>
                  <a:pt x="6636" y="13705"/>
                  <a:pt x="6640" y="13672"/>
                  <a:pt x="6821" y="1359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901960" y="4037040"/>
            <a:ext cx="884160" cy="258840"/>
          </a:xfrm>
          <a:custGeom>
            <a:avLst/>
            <a:gdLst/>
            <a:ahLst/>
            <a:rect l="l" t="t" r="r" b="b"/>
            <a:pathLst>
              <a:path w="2456" h="720">
                <a:moveTo>
                  <a:pt x="8062" y="11460"/>
                </a:moveTo>
                <a:cubicBezTo>
                  <a:pt x="8211" y="11460"/>
                  <a:pt x="8364" y="11398"/>
                  <a:pt x="8508" y="11361"/>
                </a:cubicBezTo>
                <a:cubicBezTo>
                  <a:pt x="8541" y="11353"/>
                  <a:pt x="8574" y="11344"/>
                  <a:pt x="8607" y="11336"/>
                </a:cubicBezTo>
                <a:cubicBezTo>
                  <a:pt x="8696" y="11526"/>
                  <a:pt x="8622" y="11717"/>
                  <a:pt x="8582" y="11931"/>
                </a:cubicBezTo>
              </a:path>
              <a:path w="2456" h="720">
                <a:moveTo>
                  <a:pt x="9451" y="11212"/>
                </a:moveTo>
                <a:cubicBezTo>
                  <a:pt x="9293" y="11251"/>
                  <a:pt x="9170" y="11419"/>
                  <a:pt x="9203" y="11609"/>
                </a:cubicBezTo>
                <a:cubicBezTo>
                  <a:pt x="9249" y="11876"/>
                  <a:pt x="9636" y="11708"/>
                  <a:pt x="9649" y="11509"/>
                </a:cubicBezTo>
                <a:cubicBezTo>
                  <a:pt x="9655" y="11420"/>
                  <a:pt x="9588" y="11361"/>
                  <a:pt x="9525" y="11336"/>
                </a:cubicBezTo>
              </a:path>
              <a:path w="2456" h="720">
                <a:moveTo>
                  <a:pt x="10492" y="11311"/>
                </a:moveTo>
                <a:cubicBezTo>
                  <a:pt x="10453" y="11251"/>
                  <a:pt x="10225" y="11242"/>
                  <a:pt x="10145" y="11286"/>
                </a:cubicBezTo>
                <a:cubicBezTo>
                  <a:pt x="9912" y="11415"/>
                  <a:pt x="10001" y="11723"/>
                  <a:pt x="10294" y="11559"/>
                </a:cubicBezTo>
                <a:cubicBezTo>
                  <a:pt x="10335" y="11518"/>
                  <a:pt x="10377" y="11476"/>
                  <a:pt x="10418" y="11435"/>
                </a:cubicBezTo>
                <a:cubicBezTo>
                  <a:pt x="10478" y="11475"/>
                  <a:pt x="10478" y="11624"/>
                  <a:pt x="10492" y="11708"/>
                </a:cubicBezTo>
                <a:cubicBezTo>
                  <a:pt x="10507" y="11797"/>
                  <a:pt x="10517" y="11849"/>
                  <a:pt x="10517" y="1193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401920" y="5214960"/>
            <a:ext cx="196920" cy="277920"/>
          </a:xfrm>
          <a:custGeom>
            <a:avLst/>
            <a:gdLst/>
            <a:ahLst/>
            <a:rect l="l" t="t" r="r" b="b"/>
            <a:pathLst>
              <a:path w="547" h="770">
                <a:moveTo>
                  <a:pt x="6747" y="14536"/>
                </a:moveTo>
                <a:cubicBezTo>
                  <a:pt x="6820" y="14515"/>
                  <a:pt x="7237" y="14393"/>
                  <a:pt x="7119" y="14635"/>
                </a:cubicBezTo>
                <a:cubicBezTo>
                  <a:pt x="7093" y="14689"/>
                  <a:pt x="6953" y="14805"/>
                  <a:pt x="6896" y="14833"/>
                </a:cubicBezTo>
                <a:cubicBezTo>
                  <a:pt x="7035" y="14833"/>
                  <a:pt x="7065" y="14846"/>
                  <a:pt x="7193" y="14883"/>
                </a:cubicBezTo>
                <a:cubicBezTo>
                  <a:pt x="7194" y="15109"/>
                  <a:pt x="7047" y="15231"/>
                  <a:pt x="6796" y="15255"/>
                </a:cubicBezTo>
                <a:cubicBezTo>
                  <a:pt x="6673" y="15267"/>
                  <a:pt x="6782" y="15180"/>
                  <a:pt x="6896" y="1513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840040" y="4589640"/>
            <a:ext cx="785880" cy="285480"/>
          </a:xfrm>
          <a:custGeom>
            <a:avLst/>
            <a:gdLst/>
            <a:ahLst/>
            <a:rect l="l" t="t" r="r" b="b"/>
            <a:pathLst>
              <a:path w="2184" h="794">
                <a:moveTo>
                  <a:pt x="7962" y="12874"/>
                </a:moveTo>
                <a:cubicBezTo>
                  <a:pt x="7907" y="13029"/>
                  <a:pt x="7847" y="13254"/>
                  <a:pt x="7888" y="13419"/>
                </a:cubicBezTo>
                <a:cubicBezTo>
                  <a:pt x="7964" y="13725"/>
                  <a:pt x="8306" y="13446"/>
                  <a:pt x="8409" y="13320"/>
                </a:cubicBezTo>
                <a:cubicBezTo>
                  <a:pt x="8425" y="13287"/>
                  <a:pt x="8442" y="13254"/>
                  <a:pt x="8458" y="13221"/>
                </a:cubicBezTo>
                <a:cubicBezTo>
                  <a:pt x="8406" y="13228"/>
                  <a:pt x="8127" y="13270"/>
                  <a:pt x="8186" y="13395"/>
                </a:cubicBezTo>
                <a:cubicBezTo>
                  <a:pt x="8268" y="13421"/>
                  <a:pt x="8300" y="13428"/>
                  <a:pt x="8359" y="13395"/>
                </a:cubicBezTo>
              </a:path>
              <a:path w="2184" h="794">
                <a:moveTo>
                  <a:pt x="9203" y="12948"/>
                </a:moveTo>
                <a:cubicBezTo>
                  <a:pt x="9203" y="12788"/>
                  <a:pt x="9010" y="12851"/>
                  <a:pt x="8905" y="12898"/>
                </a:cubicBezTo>
                <a:cubicBezTo>
                  <a:pt x="8777" y="12984"/>
                  <a:pt x="8734" y="12992"/>
                  <a:pt x="8731" y="13097"/>
                </a:cubicBezTo>
                <a:cubicBezTo>
                  <a:pt x="8897" y="13088"/>
                  <a:pt x="9004" y="13053"/>
                  <a:pt x="9153" y="12998"/>
                </a:cubicBezTo>
                <a:cubicBezTo>
                  <a:pt x="9210" y="13147"/>
                  <a:pt x="9189" y="13330"/>
                  <a:pt x="9178" y="13494"/>
                </a:cubicBezTo>
                <a:cubicBezTo>
                  <a:pt x="9178" y="13552"/>
                  <a:pt x="9178" y="13527"/>
                  <a:pt x="9178" y="13395"/>
                </a:cubicBezTo>
              </a:path>
              <a:path w="2184" h="794">
                <a:moveTo>
                  <a:pt x="9872" y="12750"/>
                </a:moveTo>
                <a:cubicBezTo>
                  <a:pt x="9749" y="12811"/>
                  <a:pt x="9709" y="12807"/>
                  <a:pt x="9699" y="12898"/>
                </a:cubicBezTo>
                <a:cubicBezTo>
                  <a:pt x="9777" y="12944"/>
                  <a:pt x="10194" y="13064"/>
                  <a:pt x="10046" y="13221"/>
                </a:cubicBezTo>
                <a:cubicBezTo>
                  <a:pt x="9909" y="13289"/>
                  <a:pt x="9872" y="13316"/>
                  <a:pt x="9773" y="13271"/>
                </a:cubicBezTo>
                <a:cubicBezTo>
                  <a:pt x="9806" y="13041"/>
                  <a:pt x="9919" y="13028"/>
                  <a:pt x="10071" y="12849"/>
                </a:cubicBezTo>
                <a:cubicBezTo>
                  <a:pt x="10071" y="12798"/>
                  <a:pt x="10046" y="12796"/>
                  <a:pt x="9971" y="1284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946240" y="5180040"/>
            <a:ext cx="196920" cy="214200"/>
          </a:xfrm>
          <a:custGeom>
            <a:avLst/>
            <a:gdLst/>
            <a:ahLst/>
            <a:rect l="l" t="t" r="r" b="b"/>
            <a:pathLst>
              <a:path w="546" h="596">
                <a:moveTo>
                  <a:pt x="8186" y="14387"/>
                </a:moveTo>
                <a:cubicBezTo>
                  <a:pt x="8186" y="14589"/>
                  <a:pt x="8173" y="14770"/>
                  <a:pt x="8235" y="14957"/>
                </a:cubicBezTo>
                <a:cubicBezTo>
                  <a:pt x="8514" y="14987"/>
                  <a:pt x="8596" y="14939"/>
                  <a:pt x="8731" y="14709"/>
                </a:cubicBezTo>
                <a:cubicBezTo>
                  <a:pt x="8600" y="14643"/>
                  <a:pt x="8520" y="14743"/>
                  <a:pt x="8508" y="14883"/>
                </a:cubicBezTo>
                <a:cubicBezTo>
                  <a:pt x="8543" y="14918"/>
                  <a:pt x="8565" y="14922"/>
                  <a:pt x="8607" y="1488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86080" y="5143680"/>
            <a:ext cx="169920" cy="214200"/>
          </a:xfrm>
          <a:custGeom>
            <a:avLst/>
            <a:gdLst/>
            <a:ahLst/>
            <a:rect l="l" t="t" r="r" b="b"/>
            <a:pathLst>
              <a:path w="472" h="596">
                <a:moveTo>
                  <a:pt x="9128" y="14288"/>
                </a:moveTo>
                <a:cubicBezTo>
                  <a:pt x="9150" y="14440"/>
                  <a:pt x="9131" y="14577"/>
                  <a:pt x="9128" y="14734"/>
                </a:cubicBezTo>
                <a:cubicBezTo>
                  <a:pt x="9128" y="14775"/>
                  <a:pt x="9128" y="14817"/>
                  <a:pt x="9128" y="14858"/>
                </a:cubicBezTo>
                <a:cubicBezTo>
                  <a:pt x="9306" y="14896"/>
                  <a:pt x="9450" y="14891"/>
                  <a:pt x="9575" y="14734"/>
                </a:cubicBezTo>
                <a:cubicBezTo>
                  <a:pt x="9597" y="14667"/>
                  <a:pt x="9608" y="14649"/>
                  <a:pt x="9575" y="14610"/>
                </a:cubicBezTo>
                <a:cubicBezTo>
                  <a:pt x="9416" y="14634"/>
                  <a:pt x="9236" y="14664"/>
                  <a:pt x="9277" y="14883"/>
                </a:cubicBezTo>
                <a:cubicBezTo>
                  <a:pt x="9291" y="14957"/>
                  <a:pt x="9396" y="14810"/>
                  <a:pt x="9451" y="1475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616200" y="5106960"/>
            <a:ext cx="179640" cy="117360"/>
          </a:xfrm>
          <a:custGeom>
            <a:avLst/>
            <a:gdLst/>
            <a:ahLst/>
            <a:rect l="l" t="t" r="r" b="b"/>
            <a:pathLst>
              <a:path w="497" h="324">
                <a:moveTo>
                  <a:pt x="10096" y="14188"/>
                </a:moveTo>
                <a:cubicBezTo>
                  <a:pt x="10072" y="14285"/>
                  <a:pt x="10052" y="14376"/>
                  <a:pt x="10046" y="14486"/>
                </a:cubicBezTo>
                <a:cubicBezTo>
                  <a:pt x="10185" y="14532"/>
                  <a:pt x="10384" y="14501"/>
                  <a:pt x="10517" y="14412"/>
                </a:cubicBezTo>
                <a:cubicBezTo>
                  <a:pt x="10554" y="14339"/>
                  <a:pt x="10552" y="14298"/>
                  <a:pt x="10492" y="1423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598840" y="3321000"/>
            <a:ext cx="142920" cy="2073240"/>
          </a:xfrm>
          <a:custGeom>
            <a:avLst/>
            <a:gdLst/>
            <a:ahLst/>
            <a:rect l="l" t="t" r="r" b="b"/>
            <a:pathLst>
              <a:path w="398" h="5756">
                <a:moveTo>
                  <a:pt x="7218" y="9227"/>
                </a:moveTo>
                <a:lnTo>
                  <a:pt x="7218" y="9227"/>
                </a:lnTo>
              </a:path>
              <a:path w="398" h="5756">
                <a:moveTo>
                  <a:pt x="7466" y="10468"/>
                </a:moveTo>
                <a:cubicBezTo>
                  <a:pt x="7466" y="10545"/>
                  <a:pt x="7492" y="10551"/>
                  <a:pt x="7590" y="10468"/>
                </a:cubicBezTo>
              </a:path>
              <a:path w="398" h="5756">
                <a:moveTo>
                  <a:pt x="7615" y="11981"/>
                </a:moveTo>
                <a:lnTo>
                  <a:pt x="7615" y="11981"/>
                </a:lnTo>
                <a:lnTo>
                  <a:pt x="7615" y="11981"/>
                </a:lnTo>
              </a:path>
              <a:path w="398" h="5756">
                <a:moveTo>
                  <a:pt x="7392" y="13444"/>
                </a:moveTo>
                <a:cubicBezTo>
                  <a:pt x="7400" y="13444"/>
                  <a:pt x="7409" y="13444"/>
                  <a:pt x="7417" y="13444"/>
                </a:cubicBezTo>
              </a:path>
              <a:path w="398" h="5756">
                <a:moveTo>
                  <a:pt x="7417" y="13444"/>
                </a:moveTo>
                <a:lnTo>
                  <a:pt x="7417" y="13444"/>
                </a:lnTo>
              </a:path>
              <a:path w="398" h="5756">
                <a:moveTo>
                  <a:pt x="7466" y="14982"/>
                </a:moveTo>
                <a:cubicBezTo>
                  <a:pt x="7483" y="14982"/>
                  <a:pt x="7499" y="14982"/>
                  <a:pt x="7516" y="14982"/>
                </a:cubicBezTo>
              </a:path>
              <a:path w="398" h="5756">
                <a:moveTo>
                  <a:pt x="7516" y="14982"/>
                </a:moveTo>
                <a:lnTo>
                  <a:pt x="7516" y="14982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732120" y="5062680"/>
            <a:ext cx="19080" cy="287280"/>
          </a:xfrm>
          <a:custGeom>
            <a:avLst/>
            <a:gdLst/>
            <a:ahLst/>
            <a:rect l="l" t="t" r="r" b="b"/>
            <a:pathLst>
              <a:path w="51" h="795">
                <a:moveTo>
                  <a:pt x="10418" y="14064"/>
                </a:moveTo>
                <a:cubicBezTo>
                  <a:pt x="10392" y="14329"/>
                  <a:pt x="10341" y="14600"/>
                  <a:pt x="10393" y="1485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Verdana"/>
              </a:rPr>
              <a:t>Homework: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6fcac"/>
                </a:solidFill>
                <a:latin typeface="Verdana"/>
              </a:rPr>
              <a:t>PW 37 problems 10-21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6fcac"/>
                </a:solidFill>
                <a:latin typeface="Verdana"/>
              </a:rPr>
              <a:t>And Get Test Signed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6fcac"/>
                </a:solidFill>
                <a:latin typeface="Verdana"/>
              </a:rPr>
              <a:t>*Corrections due Friday 11/11/11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99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0T14:18:38Z</dcterms:created>
  <dc:creator>ccps</dc:creator>
  <dc:description/>
  <dc:language>en-US</dc:language>
  <cp:lastModifiedBy>deanne elizabeth mcgrath</cp:lastModifiedBy>
  <dcterms:modified xsi:type="dcterms:W3CDTF">2011-11-09T20:18:13Z</dcterms:modified>
  <cp:revision>25</cp:revision>
  <dc:subject/>
  <dc:title>Unit 1 – Variables and Equations </dc:title>
</cp:coreProperties>
</file>